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5AC-6C98-4DC7-A090-49022F8F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3A4-8655-440D-9181-61D94AD9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5F0-1B77-4904-9136-EDC423AD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A29-3D95-49DD-8259-ACCB7574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CAF-B6C7-42E0-A7C0-4AF277EA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AA2-8B91-40D8-BE2B-566D18C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34F-4011-42C4-BAAC-8DF7BF6E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B9E-A7DC-4AD0-A1E1-F93C7A57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A8C-4136-4CF0-99F8-1D5B387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541-F496-4A3E-B27D-D26541E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275-78A8-49F2-844D-B8A6C9C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31C-C205-4D86-A82F-6CC055C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557-F3E3-4603-AF99-162C69CB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057400"/>
                <a:ext cx="838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5877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733920"/>
                <a:ext cx="7621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482920" y="2490840"/>
            <a:ext cx="71280" cy="54000"/>
          </a:xfrm>
          <a:custGeom>
            <a:avLst/>
            <a:gdLst/>
            <a:ahLst/>
            <a:rect l="l" t="t" r="r" b="b"/>
            <a:pathLst>
              <a:path w="199" h="149">
                <a:moveTo>
                  <a:pt x="6896" y="6921"/>
                </a:moveTo>
                <a:cubicBezTo>
                  <a:pt x="6962" y="6921"/>
                  <a:pt x="7028" y="6921"/>
                  <a:pt x="7094" y="6921"/>
                </a:cubicBezTo>
              </a:path>
              <a:path w="199" h="149">
                <a:moveTo>
                  <a:pt x="6921" y="7069"/>
                </a:moveTo>
                <a:cubicBezTo>
                  <a:pt x="6970" y="7069"/>
                  <a:pt x="7020" y="7069"/>
                  <a:pt x="7069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2367000"/>
            <a:ext cx="911520" cy="204840"/>
          </a:xfrm>
          <a:custGeom>
            <a:avLst/>
            <a:gdLst/>
            <a:ahLst/>
            <a:rect l="l" t="t" r="r" b="b"/>
            <a:pathLst>
              <a:path w="2532" h="572">
                <a:moveTo>
                  <a:pt x="12898" y="6945"/>
                </a:moveTo>
                <a:cubicBezTo>
                  <a:pt x="13031" y="6924"/>
                  <a:pt x="13065" y="6920"/>
                  <a:pt x="13146" y="6896"/>
                </a:cubicBezTo>
              </a:path>
              <a:path w="2532" h="572">
                <a:moveTo>
                  <a:pt x="12998" y="7144"/>
                </a:moveTo>
                <a:cubicBezTo>
                  <a:pt x="13160" y="7097"/>
                  <a:pt x="13207" y="7087"/>
                  <a:pt x="13295" y="7020"/>
                </a:cubicBezTo>
              </a:path>
              <a:path w="2532" h="572">
                <a:moveTo>
                  <a:pt x="14808" y="6672"/>
                </a:moveTo>
                <a:cubicBezTo>
                  <a:pt x="14854" y="6659"/>
                  <a:pt x="15397" y="6468"/>
                  <a:pt x="15429" y="6598"/>
                </a:cubicBezTo>
                <a:cubicBezTo>
                  <a:pt x="15412" y="6606"/>
                  <a:pt x="15396" y="6615"/>
                  <a:pt x="15379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0040" y="2081160"/>
            <a:ext cx="312840" cy="650880"/>
          </a:xfrm>
          <a:custGeom>
            <a:avLst/>
            <a:gdLst/>
            <a:ahLst/>
            <a:rect l="l" t="t" r="r" b="b"/>
            <a:pathLst>
              <a:path w="869" h="1812">
                <a:moveTo>
                  <a:pt x="8086" y="5904"/>
                </a:moveTo>
                <a:cubicBezTo>
                  <a:pt x="8124" y="5846"/>
                  <a:pt x="8347" y="5847"/>
                  <a:pt x="8434" y="5829"/>
                </a:cubicBezTo>
                <a:cubicBezTo>
                  <a:pt x="8518" y="5808"/>
                  <a:pt x="8537" y="5807"/>
                  <a:pt x="8582" y="5779"/>
                </a:cubicBezTo>
                <a:cubicBezTo>
                  <a:pt x="8560" y="5960"/>
                  <a:pt x="8471" y="6107"/>
                  <a:pt x="8359" y="6251"/>
                </a:cubicBezTo>
                <a:cubicBezTo>
                  <a:pt x="8286" y="6345"/>
                  <a:pt x="8285" y="6307"/>
                  <a:pt x="8285" y="6400"/>
                </a:cubicBezTo>
              </a:path>
              <a:path w="869" h="1812">
                <a:moveTo>
                  <a:pt x="7888" y="6772"/>
                </a:moveTo>
                <a:cubicBezTo>
                  <a:pt x="7992" y="6746"/>
                  <a:pt x="8088" y="6705"/>
                  <a:pt x="8210" y="6697"/>
                </a:cubicBezTo>
                <a:cubicBezTo>
                  <a:pt x="8390" y="6686"/>
                  <a:pt x="8575" y="6697"/>
                  <a:pt x="8756" y="6697"/>
                </a:cubicBezTo>
              </a:path>
              <a:path w="869" h="1812">
                <a:moveTo>
                  <a:pt x="8434" y="6970"/>
                </a:moveTo>
                <a:cubicBezTo>
                  <a:pt x="8314" y="6970"/>
                  <a:pt x="8202" y="6977"/>
                  <a:pt x="8086" y="6995"/>
                </a:cubicBezTo>
                <a:cubicBezTo>
                  <a:pt x="8047" y="7001"/>
                  <a:pt x="8048" y="7130"/>
                  <a:pt x="8037" y="7169"/>
                </a:cubicBezTo>
                <a:cubicBezTo>
                  <a:pt x="8018" y="7226"/>
                  <a:pt x="8009" y="7233"/>
                  <a:pt x="8012" y="7268"/>
                </a:cubicBezTo>
                <a:cubicBezTo>
                  <a:pt x="8114" y="7268"/>
                  <a:pt x="8182" y="7240"/>
                  <a:pt x="8285" y="7268"/>
                </a:cubicBezTo>
                <a:cubicBezTo>
                  <a:pt x="8408" y="7301"/>
                  <a:pt x="8356" y="7480"/>
                  <a:pt x="8285" y="7541"/>
                </a:cubicBezTo>
                <a:cubicBezTo>
                  <a:pt x="8172" y="7637"/>
                  <a:pt x="8033" y="7526"/>
                  <a:pt x="7962" y="7541"/>
                </a:cubicBezTo>
                <a:cubicBezTo>
                  <a:pt x="7954" y="7549"/>
                  <a:pt x="7946" y="7557"/>
                  <a:pt x="7938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8040" y="1963800"/>
            <a:ext cx="669960" cy="1073160"/>
          </a:xfrm>
          <a:custGeom>
            <a:avLst/>
            <a:gdLst/>
            <a:ahLst/>
            <a:rect l="l" t="t" r="r" b="b"/>
            <a:pathLst>
              <a:path w="1861" h="2978">
                <a:moveTo>
                  <a:pt x="11584" y="6524"/>
                </a:moveTo>
                <a:cubicBezTo>
                  <a:pt x="11515" y="6557"/>
                  <a:pt x="11661" y="6498"/>
                  <a:pt x="11733" y="6474"/>
                </a:cubicBezTo>
                <a:cubicBezTo>
                  <a:pt x="11842" y="6437"/>
                  <a:pt x="11942" y="6414"/>
                  <a:pt x="12055" y="6400"/>
                </a:cubicBezTo>
                <a:cubicBezTo>
                  <a:pt x="12022" y="6595"/>
                  <a:pt x="11928" y="6761"/>
                  <a:pt x="11857" y="6945"/>
                </a:cubicBezTo>
                <a:cubicBezTo>
                  <a:pt x="11845" y="6976"/>
                  <a:pt x="11887" y="6980"/>
                  <a:pt x="11857" y="6995"/>
                </a:cubicBezTo>
                <a:cubicBezTo>
                  <a:pt x="11849" y="6995"/>
                  <a:pt x="11840" y="6995"/>
                  <a:pt x="11832" y="6995"/>
                </a:cubicBezTo>
              </a:path>
              <a:path w="1861" h="2978">
                <a:moveTo>
                  <a:pt x="11485" y="7218"/>
                </a:moveTo>
                <a:cubicBezTo>
                  <a:pt x="11470" y="7098"/>
                  <a:pt x="11414" y="6864"/>
                  <a:pt x="11385" y="6722"/>
                </a:cubicBezTo>
                <a:cubicBezTo>
                  <a:pt x="11355" y="6575"/>
                  <a:pt x="11323" y="6442"/>
                  <a:pt x="11286" y="6300"/>
                </a:cubicBezTo>
                <a:cubicBezTo>
                  <a:pt x="11526" y="6222"/>
                  <a:pt x="11779" y="6260"/>
                  <a:pt x="12030" y="6226"/>
                </a:cubicBezTo>
                <a:cubicBezTo>
                  <a:pt x="12052" y="6223"/>
                  <a:pt x="12545" y="6117"/>
                  <a:pt x="12551" y="6176"/>
                </a:cubicBezTo>
                <a:cubicBezTo>
                  <a:pt x="12526" y="6209"/>
                  <a:pt x="12502" y="6243"/>
                  <a:pt x="12477" y="6276"/>
                </a:cubicBezTo>
              </a:path>
              <a:path w="1861" h="2978">
                <a:moveTo>
                  <a:pt x="10988" y="6524"/>
                </a:moveTo>
                <a:cubicBezTo>
                  <a:pt x="10898" y="6575"/>
                  <a:pt x="10820" y="6573"/>
                  <a:pt x="10716" y="6573"/>
                </a:cubicBezTo>
                <a:cubicBezTo>
                  <a:pt x="10708" y="6683"/>
                  <a:pt x="10707" y="6762"/>
                  <a:pt x="10716" y="6871"/>
                </a:cubicBezTo>
                <a:cubicBezTo>
                  <a:pt x="10716" y="6879"/>
                  <a:pt x="10716" y="6888"/>
                  <a:pt x="10716" y="6896"/>
                </a:cubicBezTo>
                <a:cubicBezTo>
                  <a:pt x="10864" y="6871"/>
                  <a:pt x="10926" y="6804"/>
                  <a:pt x="11088" y="6846"/>
                </a:cubicBezTo>
                <a:cubicBezTo>
                  <a:pt x="11388" y="6923"/>
                  <a:pt x="11046" y="7167"/>
                  <a:pt x="10914" y="7193"/>
                </a:cubicBezTo>
                <a:cubicBezTo>
                  <a:pt x="10798" y="7193"/>
                  <a:pt x="10782" y="7193"/>
                  <a:pt x="10716" y="7193"/>
                </a:cubicBezTo>
              </a:path>
              <a:path w="1861" h="2978">
                <a:moveTo>
                  <a:pt x="11757" y="5482"/>
                </a:moveTo>
                <a:cubicBezTo>
                  <a:pt x="11757" y="5390"/>
                  <a:pt x="11768" y="5614"/>
                  <a:pt x="11782" y="5705"/>
                </a:cubicBezTo>
                <a:cubicBezTo>
                  <a:pt x="11789" y="5752"/>
                  <a:pt x="11786" y="5889"/>
                  <a:pt x="11832" y="5904"/>
                </a:cubicBezTo>
              </a:path>
              <a:path w="1861" h="2978">
                <a:moveTo>
                  <a:pt x="12080" y="7218"/>
                </a:moveTo>
                <a:cubicBezTo>
                  <a:pt x="12014" y="7218"/>
                  <a:pt x="11980" y="7249"/>
                  <a:pt x="11931" y="7293"/>
                </a:cubicBezTo>
                <a:cubicBezTo>
                  <a:pt x="11880" y="7338"/>
                  <a:pt x="11853" y="7318"/>
                  <a:pt x="11906" y="7417"/>
                </a:cubicBezTo>
                <a:cubicBezTo>
                  <a:pt x="11949" y="7497"/>
                  <a:pt x="11949" y="7453"/>
                  <a:pt x="12055" y="7441"/>
                </a:cubicBezTo>
                <a:cubicBezTo>
                  <a:pt x="12080" y="7441"/>
                  <a:pt x="12104" y="7441"/>
                  <a:pt x="12129" y="7441"/>
                </a:cubicBezTo>
                <a:cubicBezTo>
                  <a:pt x="12129" y="7568"/>
                  <a:pt x="12112" y="7583"/>
                  <a:pt x="12005" y="7640"/>
                </a:cubicBezTo>
                <a:cubicBezTo>
                  <a:pt x="11957" y="7664"/>
                  <a:pt x="11941" y="7674"/>
                  <a:pt x="11956" y="7615"/>
                </a:cubicBezTo>
              </a:path>
              <a:path w="1861" h="2978">
                <a:moveTo>
                  <a:pt x="11807" y="8161"/>
                </a:moveTo>
                <a:cubicBezTo>
                  <a:pt x="11855" y="8143"/>
                  <a:pt x="12411" y="7908"/>
                  <a:pt x="12254" y="8136"/>
                </a:cubicBezTo>
                <a:cubicBezTo>
                  <a:pt x="12117" y="8273"/>
                  <a:pt x="12078" y="8309"/>
                  <a:pt x="12005" y="8409"/>
                </a:cubicBezTo>
                <a:cubicBezTo>
                  <a:pt x="12071" y="8442"/>
                  <a:pt x="12227" y="8373"/>
                  <a:pt x="1232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8840" y="1938240"/>
            <a:ext cx="830160" cy="892440"/>
          </a:xfrm>
          <a:custGeom>
            <a:avLst/>
            <a:gdLst/>
            <a:ahLst/>
            <a:rect l="l" t="t" r="r" b="b"/>
            <a:pathLst>
              <a:path w="2308" h="2481">
                <a:moveTo>
                  <a:pt x="14213" y="6176"/>
                </a:moveTo>
                <a:cubicBezTo>
                  <a:pt x="14248" y="6556"/>
                  <a:pt x="14297" y="6914"/>
                  <a:pt x="14263" y="7293"/>
                </a:cubicBezTo>
                <a:cubicBezTo>
                  <a:pt x="14263" y="7317"/>
                  <a:pt x="14263" y="7326"/>
                  <a:pt x="14263" y="7342"/>
                </a:cubicBezTo>
              </a:path>
              <a:path w="2308" h="2481">
                <a:moveTo>
                  <a:pt x="14833" y="5854"/>
                </a:moveTo>
                <a:cubicBezTo>
                  <a:pt x="14990" y="5881"/>
                  <a:pt x="15309" y="6002"/>
                  <a:pt x="15056" y="6226"/>
                </a:cubicBezTo>
                <a:cubicBezTo>
                  <a:pt x="14910" y="6288"/>
                  <a:pt x="14882" y="6313"/>
                  <a:pt x="14784" y="6300"/>
                </a:cubicBezTo>
                <a:cubicBezTo>
                  <a:pt x="14910" y="6282"/>
                  <a:pt x="15039" y="6237"/>
                  <a:pt x="15180" y="6251"/>
                </a:cubicBezTo>
                <a:cubicBezTo>
                  <a:pt x="15247" y="6273"/>
                  <a:pt x="15269" y="6275"/>
                  <a:pt x="15280" y="6325"/>
                </a:cubicBezTo>
              </a:path>
              <a:path w="2308" h="2481">
                <a:moveTo>
                  <a:pt x="15156" y="6871"/>
                </a:moveTo>
                <a:cubicBezTo>
                  <a:pt x="15110" y="6880"/>
                  <a:pt x="15049" y="6914"/>
                  <a:pt x="15032" y="6921"/>
                </a:cubicBezTo>
                <a:cubicBezTo>
                  <a:pt x="14979" y="6944"/>
                  <a:pt x="15008" y="7021"/>
                  <a:pt x="15032" y="7069"/>
                </a:cubicBezTo>
                <a:cubicBezTo>
                  <a:pt x="15115" y="7020"/>
                  <a:pt x="15214" y="7005"/>
                  <a:pt x="15304" y="7069"/>
                </a:cubicBezTo>
                <a:cubicBezTo>
                  <a:pt x="15495" y="7205"/>
                  <a:pt x="15063" y="7268"/>
                  <a:pt x="15056" y="7268"/>
                </a:cubicBezTo>
                <a:cubicBezTo>
                  <a:pt x="15023" y="7268"/>
                  <a:pt x="14990" y="7268"/>
                  <a:pt x="14957" y="7268"/>
                </a:cubicBezTo>
              </a:path>
              <a:path w="2308" h="2481">
                <a:moveTo>
                  <a:pt x="14064" y="7739"/>
                </a:moveTo>
                <a:cubicBezTo>
                  <a:pt x="14314" y="7885"/>
                  <a:pt x="14611" y="7870"/>
                  <a:pt x="14908" y="7838"/>
                </a:cubicBezTo>
                <a:cubicBezTo>
                  <a:pt x="15353" y="7789"/>
                  <a:pt x="15628" y="7641"/>
                  <a:pt x="15875" y="7268"/>
                </a:cubicBezTo>
                <a:cubicBezTo>
                  <a:pt x="16062" y="6986"/>
                  <a:pt x="16037" y="6697"/>
                  <a:pt x="15999" y="6375"/>
                </a:cubicBezTo>
                <a:cubicBezTo>
                  <a:pt x="15966" y="6093"/>
                  <a:pt x="15922" y="5963"/>
                  <a:pt x="15726" y="5755"/>
                </a:cubicBezTo>
                <a:cubicBezTo>
                  <a:pt x="15492" y="5507"/>
                  <a:pt x="15228" y="5360"/>
                  <a:pt x="14883" y="5407"/>
                </a:cubicBezTo>
                <a:cubicBezTo>
                  <a:pt x="14603" y="5445"/>
                  <a:pt x="14314" y="5540"/>
                  <a:pt x="14139" y="5779"/>
                </a:cubicBezTo>
                <a:cubicBezTo>
                  <a:pt x="13934" y="6059"/>
                  <a:pt x="13811" y="6436"/>
                  <a:pt x="13742" y="6772"/>
                </a:cubicBezTo>
                <a:cubicBezTo>
                  <a:pt x="13698" y="6987"/>
                  <a:pt x="13687" y="7235"/>
                  <a:pt x="13767" y="7441"/>
                </a:cubicBezTo>
                <a:cubicBezTo>
                  <a:pt x="13831" y="7606"/>
                  <a:pt x="14009" y="7811"/>
                  <a:pt x="14188" y="7863"/>
                </a:cubicBezTo>
                <a:cubicBezTo>
                  <a:pt x="14301" y="7896"/>
                  <a:pt x="14430" y="7819"/>
                  <a:pt x="1453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32000" y="2705040"/>
            <a:ext cx="3608280" cy="2886120"/>
          </a:xfrm>
          <a:custGeom>
            <a:avLst/>
            <a:gdLst/>
            <a:ahLst/>
            <a:rect l="l" t="t" r="r" b="b"/>
            <a:pathLst>
              <a:path w="10022" h="8013">
                <a:moveTo>
                  <a:pt x="11460" y="7590"/>
                </a:moveTo>
                <a:cubicBezTo>
                  <a:pt x="11559" y="7545"/>
                  <a:pt x="11628" y="7528"/>
                  <a:pt x="11733" y="7516"/>
                </a:cubicBezTo>
              </a:path>
              <a:path w="10022" h="8013">
                <a:moveTo>
                  <a:pt x="11534" y="7838"/>
                </a:moveTo>
                <a:cubicBezTo>
                  <a:pt x="11701" y="7812"/>
                  <a:pt x="11864" y="7780"/>
                  <a:pt x="12030" y="7764"/>
                </a:cubicBezTo>
              </a:path>
              <a:path w="10022" h="8013">
                <a:moveTo>
                  <a:pt x="6350" y="10592"/>
                </a:moveTo>
                <a:cubicBezTo>
                  <a:pt x="6290" y="10701"/>
                  <a:pt x="6243" y="10798"/>
                  <a:pt x="6201" y="10914"/>
                </a:cubicBezTo>
              </a:path>
              <a:path w="10022" h="8013">
                <a:moveTo>
                  <a:pt x="14312" y="14635"/>
                </a:moveTo>
                <a:cubicBezTo>
                  <a:pt x="14327" y="14769"/>
                  <a:pt x="14317" y="14879"/>
                  <a:pt x="14486" y="14858"/>
                </a:cubicBezTo>
                <a:cubicBezTo>
                  <a:pt x="14600" y="14844"/>
                  <a:pt x="14627" y="14795"/>
                  <a:pt x="14684" y="14709"/>
                </a:cubicBezTo>
              </a:path>
              <a:path w="10022" h="8013">
                <a:moveTo>
                  <a:pt x="16173" y="15106"/>
                </a:moveTo>
                <a:cubicBezTo>
                  <a:pt x="16190" y="15247"/>
                  <a:pt x="16214" y="15385"/>
                  <a:pt x="1622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7280" y="3813120"/>
            <a:ext cx="1089000" cy="554040"/>
          </a:xfrm>
          <a:custGeom>
            <a:avLst/>
            <a:gdLst/>
            <a:ahLst/>
            <a:rect l="l" t="t" r="r" b="b"/>
            <a:pathLst>
              <a:path w="3027" h="1538">
                <a:moveTo>
                  <a:pt x="9922" y="10592"/>
                </a:moveTo>
                <a:cubicBezTo>
                  <a:pt x="9886" y="10767"/>
                  <a:pt x="9798" y="10955"/>
                  <a:pt x="9798" y="11137"/>
                </a:cubicBezTo>
                <a:cubicBezTo>
                  <a:pt x="9806" y="11162"/>
                  <a:pt x="9815" y="11187"/>
                  <a:pt x="9823" y="11212"/>
                </a:cubicBezTo>
              </a:path>
              <a:path w="3027" h="1538">
                <a:moveTo>
                  <a:pt x="12551" y="11931"/>
                </a:moveTo>
                <a:cubicBezTo>
                  <a:pt x="12525" y="12035"/>
                  <a:pt x="12488" y="12134"/>
                  <a:pt x="12650" y="12129"/>
                </a:cubicBezTo>
                <a:cubicBezTo>
                  <a:pt x="12742" y="12107"/>
                  <a:pt x="12768" y="12102"/>
                  <a:pt x="1282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0920" y="3821040"/>
            <a:ext cx="1600200" cy="627120"/>
          </a:xfrm>
          <a:custGeom>
            <a:avLst/>
            <a:gdLst/>
            <a:ahLst/>
            <a:rect l="l" t="t" r="r" b="b"/>
            <a:pathLst>
              <a:path w="4441" h="1738">
                <a:moveTo>
                  <a:pt x="10244" y="10616"/>
                </a:moveTo>
                <a:cubicBezTo>
                  <a:pt x="10244" y="10795"/>
                  <a:pt x="10187" y="10935"/>
                  <a:pt x="10170" y="11112"/>
                </a:cubicBezTo>
                <a:cubicBezTo>
                  <a:pt x="10170" y="11154"/>
                  <a:pt x="10170" y="11195"/>
                  <a:pt x="10170" y="11237"/>
                </a:cubicBezTo>
                <a:cubicBezTo>
                  <a:pt x="10320" y="11258"/>
                  <a:pt x="10498" y="11235"/>
                  <a:pt x="10567" y="11063"/>
                </a:cubicBezTo>
                <a:cubicBezTo>
                  <a:pt x="10567" y="11030"/>
                  <a:pt x="10567" y="10997"/>
                  <a:pt x="10567" y="10964"/>
                </a:cubicBezTo>
                <a:cubicBezTo>
                  <a:pt x="10399" y="10930"/>
                  <a:pt x="10297" y="11041"/>
                  <a:pt x="10244" y="11212"/>
                </a:cubicBezTo>
                <a:cubicBezTo>
                  <a:pt x="10244" y="11245"/>
                  <a:pt x="10244" y="11278"/>
                  <a:pt x="10244" y="11311"/>
                </a:cubicBezTo>
              </a:path>
              <a:path w="4441" h="1738">
                <a:moveTo>
                  <a:pt x="9699" y="11460"/>
                </a:moveTo>
                <a:cubicBezTo>
                  <a:pt x="9927" y="11429"/>
                  <a:pt x="10188" y="11369"/>
                  <a:pt x="10418" y="11410"/>
                </a:cubicBezTo>
                <a:cubicBezTo>
                  <a:pt x="10441" y="11433"/>
                  <a:pt x="10445" y="11441"/>
                  <a:pt x="10468" y="11435"/>
                </a:cubicBezTo>
              </a:path>
              <a:path w="4441" h="1738">
                <a:moveTo>
                  <a:pt x="9798" y="11881"/>
                </a:moveTo>
                <a:cubicBezTo>
                  <a:pt x="9887" y="11852"/>
                  <a:pt x="9928" y="11841"/>
                  <a:pt x="9996" y="11832"/>
                </a:cubicBezTo>
                <a:cubicBezTo>
                  <a:pt x="10122" y="12025"/>
                  <a:pt x="10068" y="12146"/>
                  <a:pt x="9847" y="12254"/>
                </a:cubicBezTo>
                <a:cubicBezTo>
                  <a:pt x="9732" y="12310"/>
                  <a:pt x="9713" y="12282"/>
                  <a:pt x="9723" y="12204"/>
                </a:cubicBezTo>
                <a:cubicBezTo>
                  <a:pt x="9870" y="12136"/>
                  <a:pt x="9881" y="12156"/>
                  <a:pt x="9996" y="12229"/>
                </a:cubicBezTo>
                <a:cubicBezTo>
                  <a:pt x="10051" y="12264"/>
                  <a:pt x="10061" y="12175"/>
                  <a:pt x="10071" y="12154"/>
                </a:cubicBezTo>
              </a:path>
              <a:path w="4441" h="1738">
                <a:moveTo>
                  <a:pt x="10244" y="11832"/>
                </a:moveTo>
                <a:cubicBezTo>
                  <a:pt x="10244" y="11910"/>
                  <a:pt x="10231" y="11978"/>
                  <a:pt x="10220" y="12055"/>
                </a:cubicBezTo>
                <a:cubicBezTo>
                  <a:pt x="10347" y="12055"/>
                  <a:pt x="10455" y="12061"/>
                  <a:pt x="10567" y="12005"/>
                </a:cubicBezTo>
              </a:path>
              <a:path w="4441" h="1738">
                <a:moveTo>
                  <a:pt x="10468" y="11708"/>
                </a:moveTo>
                <a:cubicBezTo>
                  <a:pt x="10448" y="11846"/>
                  <a:pt x="10427" y="11989"/>
                  <a:pt x="10418" y="12129"/>
                </a:cubicBezTo>
                <a:cubicBezTo>
                  <a:pt x="10418" y="12220"/>
                  <a:pt x="10418" y="12228"/>
                  <a:pt x="10418" y="12278"/>
                </a:cubicBezTo>
              </a:path>
              <a:path w="4441" h="1738">
                <a:moveTo>
                  <a:pt x="11212" y="11212"/>
                </a:moveTo>
                <a:cubicBezTo>
                  <a:pt x="11212" y="11321"/>
                  <a:pt x="11233" y="11425"/>
                  <a:pt x="11237" y="11534"/>
                </a:cubicBezTo>
                <a:cubicBezTo>
                  <a:pt x="11237" y="11542"/>
                  <a:pt x="11237" y="11551"/>
                  <a:pt x="11237" y="11559"/>
                </a:cubicBezTo>
              </a:path>
              <a:path w="4441" h="1738">
                <a:moveTo>
                  <a:pt x="11112" y="11385"/>
                </a:moveTo>
                <a:cubicBezTo>
                  <a:pt x="11223" y="11404"/>
                  <a:pt x="11388" y="11411"/>
                  <a:pt x="11460" y="11435"/>
                </a:cubicBezTo>
                <a:cubicBezTo>
                  <a:pt x="11468" y="11435"/>
                  <a:pt x="11477" y="11435"/>
                  <a:pt x="11485" y="11435"/>
                </a:cubicBezTo>
              </a:path>
              <a:path w="4441" h="1738">
                <a:moveTo>
                  <a:pt x="11981" y="10765"/>
                </a:moveTo>
                <a:cubicBezTo>
                  <a:pt x="12019" y="10919"/>
                  <a:pt x="12070" y="11050"/>
                  <a:pt x="12080" y="11212"/>
                </a:cubicBezTo>
                <a:cubicBezTo>
                  <a:pt x="12080" y="11228"/>
                  <a:pt x="12080" y="11245"/>
                  <a:pt x="12080" y="11261"/>
                </a:cubicBezTo>
              </a:path>
              <a:path w="4441" h="1738">
                <a:moveTo>
                  <a:pt x="12626" y="10616"/>
                </a:moveTo>
                <a:cubicBezTo>
                  <a:pt x="12513" y="10663"/>
                  <a:pt x="12458" y="10658"/>
                  <a:pt x="12427" y="10740"/>
                </a:cubicBezTo>
                <a:cubicBezTo>
                  <a:pt x="12407" y="10781"/>
                  <a:pt x="12398" y="10787"/>
                  <a:pt x="12402" y="10815"/>
                </a:cubicBezTo>
                <a:cubicBezTo>
                  <a:pt x="12498" y="10799"/>
                  <a:pt x="12604" y="10759"/>
                  <a:pt x="12700" y="10815"/>
                </a:cubicBezTo>
                <a:cubicBezTo>
                  <a:pt x="12835" y="10894"/>
                  <a:pt x="12772" y="11071"/>
                  <a:pt x="12626" y="11088"/>
                </a:cubicBezTo>
                <a:cubicBezTo>
                  <a:pt x="12548" y="11069"/>
                  <a:pt x="12531" y="11077"/>
                  <a:pt x="12502" y="11038"/>
                </a:cubicBezTo>
              </a:path>
              <a:path w="4441" h="1738">
                <a:moveTo>
                  <a:pt x="11832" y="11559"/>
                </a:moveTo>
                <a:cubicBezTo>
                  <a:pt x="12180" y="11518"/>
                  <a:pt x="12525" y="11454"/>
                  <a:pt x="12874" y="11435"/>
                </a:cubicBezTo>
                <a:cubicBezTo>
                  <a:pt x="12882" y="11435"/>
                  <a:pt x="12890" y="11435"/>
                  <a:pt x="12898" y="11435"/>
                </a:cubicBezTo>
              </a:path>
              <a:path w="4441" h="1738">
                <a:moveTo>
                  <a:pt x="11931" y="11956"/>
                </a:moveTo>
                <a:cubicBezTo>
                  <a:pt x="12057" y="11917"/>
                  <a:pt x="12217" y="11851"/>
                  <a:pt x="12278" y="12030"/>
                </a:cubicBezTo>
                <a:cubicBezTo>
                  <a:pt x="12352" y="12248"/>
                  <a:pt x="12089" y="12322"/>
                  <a:pt x="11931" y="12303"/>
                </a:cubicBezTo>
                <a:cubicBezTo>
                  <a:pt x="11923" y="12295"/>
                  <a:pt x="11914" y="12286"/>
                  <a:pt x="11906" y="12278"/>
                </a:cubicBezTo>
                <a:cubicBezTo>
                  <a:pt x="12031" y="12141"/>
                  <a:pt x="12041" y="12199"/>
                  <a:pt x="12204" y="12254"/>
                </a:cubicBezTo>
                <a:cubicBezTo>
                  <a:pt x="12333" y="12298"/>
                  <a:pt x="12295" y="12307"/>
                  <a:pt x="12402" y="12254"/>
                </a:cubicBezTo>
              </a:path>
              <a:path w="4441" h="1738">
                <a:moveTo>
                  <a:pt x="12700" y="11757"/>
                </a:moveTo>
                <a:cubicBezTo>
                  <a:pt x="12728" y="11939"/>
                  <a:pt x="12708" y="12154"/>
                  <a:pt x="12750" y="12328"/>
                </a:cubicBezTo>
                <a:cubicBezTo>
                  <a:pt x="12772" y="12351"/>
                  <a:pt x="12780" y="12362"/>
                  <a:pt x="12774" y="12328"/>
                </a:cubicBezTo>
              </a:path>
              <a:path w="4441" h="1738">
                <a:moveTo>
                  <a:pt x="13543" y="11410"/>
                </a:moveTo>
                <a:cubicBezTo>
                  <a:pt x="13664" y="11410"/>
                  <a:pt x="13773" y="11381"/>
                  <a:pt x="13891" y="11361"/>
                </a:cubicBezTo>
                <a:cubicBezTo>
                  <a:pt x="13899" y="11361"/>
                  <a:pt x="13907" y="11361"/>
                  <a:pt x="13915" y="11361"/>
                </a:cubicBezTo>
              </a:path>
              <a:path w="4441" h="1738">
                <a:moveTo>
                  <a:pt x="13717" y="11683"/>
                </a:moveTo>
                <a:cubicBezTo>
                  <a:pt x="13859" y="11642"/>
                  <a:pt x="13994" y="11602"/>
                  <a:pt x="14139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40240" y="3697200"/>
            <a:ext cx="1616040" cy="741600"/>
          </a:xfrm>
          <a:custGeom>
            <a:avLst/>
            <a:gdLst/>
            <a:ahLst/>
            <a:rect l="l" t="t" r="r" b="b"/>
            <a:pathLst>
              <a:path w="4491" h="2060">
                <a:moveTo>
                  <a:pt x="14982" y="10641"/>
                </a:moveTo>
                <a:cubicBezTo>
                  <a:pt x="14928" y="10614"/>
                  <a:pt x="15096" y="10498"/>
                  <a:pt x="15131" y="10468"/>
                </a:cubicBezTo>
                <a:cubicBezTo>
                  <a:pt x="15250" y="10572"/>
                  <a:pt x="15241" y="10644"/>
                  <a:pt x="15156" y="10790"/>
                </a:cubicBezTo>
                <a:cubicBezTo>
                  <a:pt x="15148" y="10798"/>
                  <a:pt x="15139" y="10807"/>
                  <a:pt x="15131" y="10815"/>
                </a:cubicBezTo>
                <a:cubicBezTo>
                  <a:pt x="15199" y="10736"/>
                  <a:pt x="15410" y="10685"/>
                  <a:pt x="15429" y="10864"/>
                </a:cubicBezTo>
                <a:cubicBezTo>
                  <a:pt x="15446" y="11029"/>
                  <a:pt x="15017" y="11191"/>
                  <a:pt x="15007" y="11137"/>
                </a:cubicBezTo>
                <a:cubicBezTo>
                  <a:pt x="15032" y="11096"/>
                  <a:pt x="15056" y="11054"/>
                  <a:pt x="15081" y="11013"/>
                </a:cubicBezTo>
              </a:path>
              <a:path w="4491" h="2060">
                <a:moveTo>
                  <a:pt x="15627" y="10344"/>
                </a:moveTo>
                <a:cubicBezTo>
                  <a:pt x="15688" y="10574"/>
                  <a:pt x="15764" y="10799"/>
                  <a:pt x="15776" y="11038"/>
                </a:cubicBezTo>
                <a:cubicBezTo>
                  <a:pt x="15776" y="11046"/>
                  <a:pt x="15776" y="11055"/>
                  <a:pt x="15776" y="11063"/>
                </a:cubicBezTo>
              </a:path>
              <a:path w="4491" h="2060">
                <a:moveTo>
                  <a:pt x="14858" y="11336"/>
                </a:moveTo>
                <a:cubicBezTo>
                  <a:pt x="14758" y="11336"/>
                  <a:pt x="15007" y="11321"/>
                  <a:pt x="15106" y="11311"/>
                </a:cubicBezTo>
                <a:cubicBezTo>
                  <a:pt x="15385" y="11282"/>
                  <a:pt x="15669" y="11249"/>
                  <a:pt x="15949" y="11237"/>
                </a:cubicBezTo>
                <a:cubicBezTo>
                  <a:pt x="15957" y="11237"/>
                  <a:pt x="15966" y="11237"/>
                  <a:pt x="15974" y="11237"/>
                </a:cubicBezTo>
              </a:path>
              <a:path w="4491" h="2060">
                <a:moveTo>
                  <a:pt x="15156" y="11658"/>
                </a:moveTo>
                <a:cubicBezTo>
                  <a:pt x="15156" y="11686"/>
                  <a:pt x="15172" y="11609"/>
                  <a:pt x="15230" y="11584"/>
                </a:cubicBezTo>
                <a:cubicBezTo>
                  <a:pt x="15318" y="11785"/>
                  <a:pt x="15350" y="12008"/>
                  <a:pt x="15131" y="12154"/>
                </a:cubicBezTo>
                <a:cubicBezTo>
                  <a:pt x="15030" y="12174"/>
                  <a:pt x="14999" y="12204"/>
                  <a:pt x="14982" y="12129"/>
                </a:cubicBezTo>
                <a:cubicBezTo>
                  <a:pt x="15025" y="11984"/>
                  <a:pt x="15132" y="11998"/>
                  <a:pt x="15280" y="12055"/>
                </a:cubicBezTo>
                <a:cubicBezTo>
                  <a:pt x="15358" y="12085"/>
                  <a:pt x="15388" y="12091"/>
                  <a:pt x="15404" y="12154"/>
                </a:cubicBezTo>
              </a:path>
              <a:path w="4491" h="2060">
                <a:moveTo>
                  <a:pt x="15503" y="11633"/>
                </a:moveTo>
                <a:cubicBezTo>
                  <a:pt x="15516" y="11672"/>
                  <a:pt x="15535" y="11872"/>
                  <a:pt x="15553" y="11881"/>
                </a:cubicBezTo>
                <a:cubicBezTo>
                  <a:pt x="15643" y="11923"/>
                  <a:pt x="15806" y="11845"/>
                  <a:pt x="15900" y="11832"/>
                </a:cubicBezTo>
              </a:path>
              <a:path w="4491" h="2060">
                <a:moveTo>
                  <a:pt x="15801" y="11435"/>
                </a:moveTo>
                <a:cubicBezTo>
                  <a:pt x="15823" y="11636"/>
                  <a:pt x="15851" y="11833"/>
                  <a:pt x="15900" y="12030"/>
                </a:cubicBezTo>
                <a:cubicBezTo>
                  <a:pt x="15942" y="12179"/>
                  <a:pt x="15952" y="12211"/>
                  <a:pt x="15974" y="12303"/>
                </a:cubicBezTo>
              </a:path>
              <a:path w="4491" h="2060">
                <a:moveTo>
                  <a:pt x="16594" y="11137"/>
                </a:moveTo>
                <a:cubicBezTo>
                  <a:pt x="16617" y="11206"/>
                  <a:pt x="16770" y="11098"/>
                  <a:pt x="16818" y="11088"/>
                </a:cubicBezTo>
                <a:cubicBezTo>
                  <a:pt x="16843" y="11088"/>
                  <a:pt x="16867" y="11088"/>
                  <a:pt x="16892" y="11088"/>
                </a:cubicBezTo>
              </a:path>
              <a:path w="4491" h="2060">
                <a:moveTo>
                  <a:pt x="16669" y="11435"/>
                </a:moveTo>
                <a:cubicBezTo>
                  <a:pt x="16771" y="11427"/>
                  <a:pt x="16865" y="11396"/>
                  <a:pt x="16966" y="11385"/>
                </a:cubicBezTo>
              </a:path>
              <a:path w="4491" h="2060">
                <a:moveTo>
                  <a:pt x="17611" y="10864"/>
                </a:moveTo>
                <a:cubicBezTo>
                  <a:pt x="17761" y="10768"/>
                  <a:pt x="17680" y="11158"/>
                  <a:pt x="17686" y="11336"/>
                </a:cubicBezTo>
                <a:cubicBezTo>
                  <a:pt x="17693" y="11533"/>
                  <a:pt x="17686" y="11733"/>
                  <a:pt x="17686" y="11931"/>
                </a:cubicBezTo>
              </a:path>
              <a:path w="4491" h="2060">
                <a:moveTo>
                  <a:pt x="18207" y="10666"/>
                </a:moveTo>
                <a:cubicBezTo>
                  <a:pt x="18296" y="10666"/>
                  <a:pt x="18367" y="10654"/>
                  <a:pt x="18455" y="10641"/>
                </a:cubicBezTo>
                <a:cubicBezTo>
                  <a:pt x="18463" y="10641"/>
                  <a:pt x="18471" y="10641"/>
                  <a:pt x="18479" y="10641"/>
                </a:cubicBezTo>
                <a:cubicBezTo>
                  <a:pt x="18464" y="10763"/>
                  <a:pt x="18444" y="10896"/>
                  <a:pt x="18405" y="11013"/>
                </a:cubicBezTo>
                <a:cubicBezTo>
                  <a:pt x="18385" y="11054"/>
                  <a:pt x="18376" y="11060"/>
                  <a:pt x="18380" y="11088"/>
                </a:cubicBezTo>
              </a:path>
              <a:path w="4491" h="2060">
                <a:moveTo>
                  <a:pt x="18207" y="11311"/>
                </a:moveTo>
                <a:cubicBezTo>
                  <a:pt x="18312" y="11281"/>
                  <a:pt x="18421" y="11245"/>
                  <a:pt x="18529" y="11212"/>
                </a:cubicBezTo>
                <a:cubicBezTo>
                  <a:pt x="18590" y="11192"/>
                  <a:pt x="18605" y="11173"/>
                  <a:pt x="18628" y="11212"/>
                </a:cubicBezTo>
              </a:path>
              <a:path w="4491" h="2060">
                <a:moveTo>
                  <a:pt x="18256" y="11609"/>
                </a:moveTo>
                <a:cubicBezTo>
                  <a:pt x="18283" y="11571"/>
                  <a:pt x="18341" y="11491"/>
                  <a:pt x="18405" y="11534"/>
                </a:cubicBezTo>
                <a:cubicBezTo>
                  <a:pt x="18517" y="11609"/>
                  <a:pt x="18390" y="11742"/>
                  <a:pt x="18331" y="11807"/>
                </a:cubicBezTo>
                <a:cubicBezTo>
                  <a:pt x="18292" y="11846"/>
                  <a:pt x="18275" y="11847"/>
                  <a:pt x="18281" y="11881"/>
                </a:cubicBezTo>
                <a:cubicBezTo>
                  <a:pt x="18371" y="11881"/>
                  <a:pt x="18443" y="11851"/>
                  <a:pt x="18529" y="11832"/>
                </a:cubicBezTo>
                <a:cubicBezTo>
                  <a:pt x="18554" y="11832"/>
                  <a:pt x="18562" y="11832"/>
                  <a:pt x="18579" y="11832"/>
                </a:cubicBezTo>
              </a:path>
              <a:path w="4491" h="2060">
                <a:moveTo>
                  <a:pt x="18628" y="11435"/>
                </a:moveTo>
                <a:cubicBezTo>
                  <a:pt x="18628" y="11501"/>
                  <a:pt x="18628" y="11567"/>
                  <a:pt x="18628" y="11633"/>
                </a:cubicBezTo>
                <a:cubicBezTo>
                  <a:pt x="18675" y="11626"/>
                  <a:pt x="18784" y="11631"/>
                  <a:pt x="18827" y="11609"/>
                </a:cubicBezTo>
                <a:cubicBezTo>
                  <a:pt x="18835" y="11601"/>
                  <a:pt x="18844" y="11592"/>
                  <a:pt x="18852" y="11584"/>
                </a:cubicBezTo>
              </a:path>
              <a:path w="4491" h="2060">
                <a:moveTo>
                  <a:pt x="18802" y="11361"/>
                </a:moveTo>
                <a:cubicBezTo>
                  <a:pt x="18802" y="11485"/>
                  <a:pt x="18834" y="11588"/>
                  <a:pt x="18852" y="11708"/>
                </a:cubicBezTo>
                <a:cubicBezTo>
                  <a:pt x="18861" y="11765"/>
                  <a:pt x="18848" y="11784"/>
                  <a:pt x="18876" y="11832"/>
                </a:cubicBezTo>
              </a:path>
              <a:path w="4491" h="2060">
                <a:moveTo>
                  <a:pt x="17611" y="12278"/>
                </a:moveTo>
                <a:cubicBezTo>
                  <a:pt x="17765" y="12314"/>
                  <a:pt x="17924" y="12294"/>
                  <a:pt x="18083" y="12278"/>
                </a:cubicBezTo>
                <a:cubicBezTo>
                  <a:pt x="18340" y="12252"/>
                  <a:pt x="18718" y="12248"/>
                  <a:pt x="18951" y="12129"/>
                </a:cubicBezTo>
                <a:cubicBezTo>
                  <a:pt x="19102" y="12052"/>
                  <a:pt x="19251" y="11870"/>
                  <a:pt x="19298" y="11708"/>
                </a:cubicBezTo>
                <a:cubicBezTo>
                  <a:pt x="19350" y="11527"/>
                  <a:pt x="19330" y="11319"/>
                  <a:pt x="19298" y="11137"/>
                </a:cubicBezTo>
                <a:cubicBezTo>
                  <a:pt x="19270" y="10979"/>
                  <a:pt x="19250" y="10866"/>
                  <a:pt x="19199" y="10716"/>
                </a:cubicBezTo>
                <a:cubicBezTo>
                  <a:pt x="19152" y="10578"/>
                  <a:pt x="19104" y="10521"/>
                  <a:pt x="19000" y="10418"/>
                </a:cubicBezTo>
                <a:cubicBezTo>
                  <a:pt x="18885" y="10303"/>
                  <a:pt x="18788" y="10273"/>
                  <a:pt x="18628" y="10269"/>
                </a:cubicBezTo>
                <a:cubicBezTo>
                  <a:pt x="18492" y="10265"/>
                  <a:pt x="18363" y="10264"/>
                  <a:pt x="18231" y="10294"/>
                </a:cubicBezTo>
                <a:cubicBezTo>
                  <a:pt x="18096" y="10324"/>
                  <a:pt x="17957" y="10351"/>
                  <a:pt x="17835" y="10418"/>
                </a:cubicBezTo>
                <a:cubicBezTo>
                  <a:pt x="17724" y="10479"/>
                  <a:pt x="17665" y="10574"/>
                  <a:pt x="17587" y="10666"/>
                </a:cubicBezTo>
                <a:cubicBezTo>
                  <a:pt x="17514" y="10752"/>
                  <a:pt x="17497" y="10805"/>
                  <a:pt x="17462" y="10914"/>
                </a:cubicBezTo>
                <a:cubicBezTo>
                  <a:pt x="17432" y="11006"/>
                  <a:pt x="17438" y="11091"/>
                  <a:pt x="17438" y="11187"/>
                </a:cubicBezTo>
                <a:cubicBezTo>
                  <a:pt x="17438" y="11293"/>
                  <a:pt x="17453" y="11383"/>
                  <a:pt x="17462" y="11485"/>
                </a:cubicBezTo>
                <a:cubicBezTo>
                  <a:pt x="17472" y="11595"/>
                  <a:pt x="17490" y="11698"/>
                  <a:pt x="17512" y="11807"/>
                </a:cubicBezTo>
                <a:cubicBezTo>
                  <a:pt x="17526" y="11876"/>
                  <a:pt x="17543" y="11939"/>
                  <a:pt x="17562" y="12005"/>
                </a:cubicBezTo>
                <a:cubicBezTo>
                  <a:pt x="17581" y="12072"/>
                  <a:pt x="17588" y="12137"/>
                  <a:pt x="17611" y="12204"/>
                </a:cubicBezTo>
                <a:cubicBezTo>
                  <a:pt x="17631" y="12262"/>
                  <a:pt x="17608" y="12257"/>
                  <a:pt x="17686" y="12303"/>
                </a:cubicBezTo>
                <a:cubicBezTo>
                  <a:pt x="17739" y="12335"/>
                  <a:pt x="17740" y="12312"/>
                  <a:pt x="17785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120" y="5224320"/>
            <a:ext cx="2214720" cy="579600"/>
          </a:xfrm>
          <a:custGeom>
            <a:avLst/>
            <a:gdLst/>
            <a:ahLst/>
            <a:rect l="l" t="t" r="r" b="b"/>
            <a:pathLst>
              <a:path w="6153" h="1613">
                <a:moveTo>
                  <a:pt x="1017" y="14660"/>
                </a:moveTo>
                <a:cubicBezTo>
                  <a:pt x="1041" y="14624"/>
                  <a:pt x="1144" y="14555"/>
                  <a:pt x="1215" y="14536"/>
                </a:cubicBezTo>
                <a:cubicBezTo>
                  <a:pt x="1232" y="14536"/>
                  <a:pt x="1248" y="14536"/>
                  <a:pt x="1265" y="14536"/>
                </a:cubicBezTo>
                <a:cubicBezTo>
                  <a:pt x="1255" y="14674"/>
                  <a:pt x="1243" y="14776"/>
                  <a:pt x="1116" y="14858"/>
                </a:cubicBezTo>
                <a:cubicBezTo>
                  <a:pt x="1108" y="14858"/>
                  <a:pt x="1099" y="14858"/>
                  <a:pt x="1091" y="14858"/>
                </a:cubicBezTo>
                <a:cubicBezTo>
                  <a:pt x="1134" y="14858"/>
                  <a:pt x="1223" y="14832"/>
                  <a:pt x="1240" y="14883"/>
                </a:cubicBezTo>
                <a:cubicBezTo>
                  <a:pt x="1277" y="14994"/>
                  <a:pt x="1104" y="15090"/>
                  <a:pt x="1017" y="15081"/>
                </a:cubicBezTo>
                <a:cubicBezTo>
                  <a:pt x="1017" y="15073"/>
                  <a:pt x="1017" y="15064"/>
                  <a:pt x="1017" y="15056"/>
                </a:cubicBezTo>
              </a:path>
              <a:path w="6153" h="1613">
                <a:moveTo>
                  <a:pt x="1290" y="15577"/>
                </a:moveTo>
                <a:cubicBezTo>
                  <a:pt x="1158" y="15577"/>
                  <a:pt x="1102" y="15609"/>
                  <a:pt x="992" y="15677"/>
                </a:cubicBezTo>
                <a:cubicBezTo>
                  <a:pt x="1021" y="15818"/>
                  <a:pt x="1188" y="15809"/>
                  <a:pt x="1265" y="15925"/>
                </a:cubicBezTo>
                <a:cubicBezTo>
                  <a:pt x="1360" y="16068"/>
                  <a:pt x="1079" y="16092"/>
                  <a:pt x="1042" y="16073"/>
                </a:cubicBezTo>
                <a:cubicBezTo>
                  <a:pt x="1069" y="15917"/>
                  <a:pt x="1158" y="15845"/>
                  <a:pt x="1215" y="15701"/>
                </a:cubicBezTo>
                <a:cubicBezTo>
                  <a:pt x="1215" y="15693"/>
                  <a:pt x="1215" y="15685"/>
                  <a:pt x="1215" y="15677"/>
                </a:cubicBezTo>
              </a:path>
              <a:path w="6153" h="1613">
                <a:moveTo>
                  <a:pt x="1339" y="15677"/>
                </a:moveTo>
                <a:lnTo>
                  <a:pt x="1339" y="15677"/>
                </a:lnTo>
              </a:path>
              <a:path w="6153" h="1613">
                <a:moveTo>
                  <a:pt x="1315" y="15850"/>
                </a:moveTo>
                <a:lnTo>
                  <a:pt x="1315" y="15850"/>
                </a:lnTo>
                <a:lnTo>
                  <a:pt x="1315" y="15850"/>
                </a:lnTo>
              </a:path>
              <a:path w="6153" h="1613">
                <a:moveTo>
                  <a:pt x="1315" y="15850"/>
                </a:moveTo>
                <a:lnTo>
                  <a:pt x="1315" y="15850"/>
                </a:lnTo>
              </a:path>
              <a:path w="6153" h="1613">
                <a:moveTo>
                  <a:pt x="1488" y="14660"/>
                </a:moveTo>
                <a:cubicBezTo>
                  <a:pt x="1459" y="14688"/>
                  <a:pt x="1451" y="14701"/>
                  <a:pt x="1463" y="14734"/>
                </a:cubicBezTo>
              </a:path>
              <a:path w="6153" h="1613">
                <a:moveTo>
                  <a:pt x="1463" y="14932"/>
                </a:moveTo>
                <a:lnTo>
                  <a:pt x="1463" y="14932"/>
                </a:lnTo>
              </a:path>
              <a:path w="6153" h="1613">
                <a:moveTo>
                  <a:pt x="2034" y="15081"/>
                </a:moveTo>
                <a:cubicBezTo>
                  <a:pt x="2024" y="15142"/>
                  <a:pt x="1996" y="15197"/>
                  <a:pt x="1984" y="15255"/>
                </a:cubicBezTo>
              </a:path>
              <a:path w="6153" h="1613">
                <a:moveTo>
                  <a:pt x="4217" y="14957"/>
                </a:moveTo>
                <a:cubicBezTo>
                  <a:pt x="4198" y="15031"/>
                  <a:pt x="4190" y="15038"/>
                  <a:pt x="4192" y="15081"/>
                </a:cubicBezTo>
              </a:path>
              <a:path w="6153" h="1613">
                <a:moveTo>
                  <a:pt x="5159" y="14759"/>
                </a:moveTo>
                <a:cubicBezTo>
                  <a:pt x="5139" y="14841"/>
                  <a:pt x="5131" y="14857"/>
                  <a:pt x="5135" y="14908"/>
                </a:cubicBezTo>
              </a:path>
              <a:path w="6153" h="1613">
                <a:moveTo>
                  <a:pt x="5730" y="14957"/>
                </a:moveTo>
                <a:cubicBezTo>
                  <a:pt x="5730" y="15025"/>
                  <a:pt x="5733" y="15044"/>
                  <a:pt x="5705" y="15081"/>
                </a:cubicBezTo>
              </a:path>
              <a:path w="6153" h="1613">
                <a:moveTo>
                  <a:pt x="6201" y="14536"/>
                </a:moveTo>
                <a:cubicBezTo>
                  <a:pt x="6208" y="14639"/>
                  <a:pt x="6234" y="14733"/>
                  <a:pt x="6251" y="14833"/>
                </a:cubicBezTo>
              </a:path>
              <a:path w="6153" h="1613">
                <a:moveTo>
                  <a:pt x="6499" y="14932"/>
                </a:moveTo>
                <a:cubicBezTo>
                  <a:pt x="6513" y="15040"/>
                  <a:pt x="6533" y="15043"/>
                  <a:pt x="6474" y="15131"/>
                </a:cubicBezTo>
              </a:path>
              <a:path w="6153" h="1613">
                <a:moveTo>
                  <a:pt x="7020" y="14511"/>
                </a:moveTo>
                <a:cubicBezTo>
                  <a:pt x="7052" y="14624"/>
                  <a:pt x="7041" y="14707"/>
                  <a:pt x="7144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8960" y="5205240"/>
            <a:ext cx="642960" cy="223920"/>
          </a:xfrm>
          <a:custGeom>
            <a:avLst/>
            <a:gdLst/>
            <a:ahLst/>
            <a:rect l="l" t="t" r="r" b="b"/>
            <a:pathLst>
              <a:path w="1787" h="621">
                <a:moveTo>
                  <a:pt x="1761" y="14585"/>
                </a:moveTo>
                <a:cubicBezTo>
                  <a:pt x="1684" y="14559"/>
                  <a:pt x="1799" y="14481"/>
                  <a:pt x="1836" y="14461"/>
                </a:cubicBezTo>
                <a:cubicBezTo>
                  <a:pt x="1883" y="14436"/>
                  <a:pt x="1939" y="14565"/>
                  <a:pt x="1935" y="14585"/>
                </a:cubicBezTo>
                <a:cubicBezTo>
                  <a:pt x="1918" y="14669"/>
                  <a:pt x="1830" y="14740"/>
                  <a:pt x="1786" y="14759"/>
                </a:cubicBezTo>
                <a:cubicBezTo>
                  <a:pt x="1778" y="14759"/>
                  <a:pt x="1769" y="14759"/>
                  <a:pt x="1761" y="14759"/>
                </a:cubicBezTo>
                <a:cubicBezTo>
                  <a:pt x="1793" y="14743"/>
                  <a:pt x="1885" y="14760"/>
                  <a:pt x="1885" y="14833"/>
                </a:cubicBezTo>
                <a:cubicBezTo>
                  <a:pt x="1885" y="14936"/>
                  <a:pt x="1768" y="15038"/>
                  <a:pt x="1662" y="15007"/>
                </a:cubicBezTo>
                <a:cubicBezTo>
                  <a:pt x="1654" y="14999"/>
                  <a:pt x="1645" y="14990"/>
                  <a:pt x="1637" y="14982"/>
                </a:cubicBezTo>
              </a:path>
              <a:path w="1787" h="621">
                <a:moveTo>
                  <a:pt x="2406" y="14536"/>
                </a:moveTo>
                <a:cubicBezTo>
                  <a:pt x="2371" y="14663"/>
                  <a:pt x="2289" y="14773"/>
                  <a:pt x="2257" y="14908"/>
                </a:cubicBezTo>
                <a:cubicBezTo>
                  <a:pt x="2235" y="15001"/>
                  <a:pt x="2317" y="15017"/>
                  <a:pt x="2381" y="15007"/>
                </a:cubicBezTo>
                <a:cubicBezTo>
                  <a:pt x="2460" y="14995"/>
                  <a:pt x="2536" y="14953"/>
                  <a:pt x="2580" y="14883"/>
                </a:cubicBezTo>
                <a:cubicBezTo>
                  <a:pt x="2580" y="14858"/>
                  <a:pt x="2580" y="14850"/>
                  <a:pt x="2580" y="14833"/>
                </a:cubicBezTo>
                <a:cubicBezTo>
                  <a:pt x="2530" y="14833"/>
                  <a:pt x="2464" y="14814"/>
                  <a:pt x="2431" y="14858"/>
                </a:cubicBezTo>
                <a:cubicBezTo>
                  <a:pt x="2391" y="14910"/>
                  <a:pt x="2361" y="14977"/>
                  <a:pt x="2406" y="15007"/>
                </a:cubicBezTo>
              </a:path>
              <a:path w="1787" h="621">
                <a:moveTo>
                  <a:pt x="2778" y="14957"/>
                </a:moveTo>
                <a:cubicBezTo>
                  <a:pt x="2778" y="15031"/>
                  <a:pt x="2758" y="15081"/>
                  <a:pt x="2778" y="15081"/>
                </a:cubicBezTo>
              </a:path>
              <a:path w="1787" h="621">
                <a:moveTo>
                  <a:pt x="3225" y="14660"/>
                </a:moveTo>
                <a:cubicBezTo>
                  <a:pt x="3257" y="14577"/>
                  <a:pt x="3186" y="14557"/>
                  <a:pt x="3101" y="14536"/>
                </a:cubicBezTo>
                <a:cubicBezTo>
                  <a:pt x="3027" y="14518"/>
                  <a:pt x="2931" y="14685"/>
                  <a:pt x="3001" y="14734"/>
                </a:cubicBezTo>
                <a:cubicBezTo>
                  <a:pt x="3108" y="14809"/>
                  <a:pt x="3165" y="14697"/>
                  <a:pt x="3225" y="14660"/>
                </a:cubicBezTo>
                <a:cubicBezTo>
                  <a:pt x="3233" y="14660"/>
                  <a:pt x="3241" y="14660"/>
                  <a:pt x="3249" y="14660"/>
                </a:cubicBezTo>
                <a:cubicBezTo>
                  <a:pt x="3231" y="14767"/>
                  <a:pt x="3184" y="14856"/>
                  <a:pt x="3150" y="14957"/>
                </a:cubicBezTo>
                <a:cubicBezTo>
                  <a:pt x="3135" y="15003"/>
                  <a:pt x="3142" y="15004"/>
                  <a:pt x="3175" y="14982"/>
                </a:cubicBezTo>
              </a:path>
              <a:path w="1787" h="621">
                <a:moveTo>
                  <a:pt x="3373" y="14908"/>
                </a:moveTo>
                <a:cubicBezTo>
                  <a:pt x="3401" y="14990"/>
                  <a:pt x="3384" y="15126"/>
                  <a:pt x="342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9920" y="5232240"/>
            <a:ext cx="142920" cy="15264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3721" y="14536"/>
                </a:moveTo>
                <a:cubicBezTo>
                  <a:pt x="3732" y="14661"/>
                  <a:pt x="3732" y="14758"/>
                  <a:pt x="3721" y="14883"/>
                </a:cubicBezTo>
              </a:path>
              <a:path w="398" h="422">
                <a:moveTo>
                  <a:pt x="3894" y="14585"/>
                </a:moveTo>
                <a:cubicBezTo>
                  <a:pt x="4016" y="14603"/>
                  <a:pt x="4145" y="14629"/>
                  <a:pt x="4118" y="14784"/>
                </a:cubicBezTo>
                <a:cubicBezTo>
                  <a:pt x="4096" y="14913"/>
                  <a:pt x="3931" y="14945"/>
                  <a:pt x="3870" y="14883"/>
                </a:cubicBezTo>
                <a:cubicBezTo>
                  <a:pt x="3913" y="14821"/>
                  <a:pt x="3937" y="14781"/>
                  <a:pt x="3994" y="14858"/>
                </a:cubicBezTo>
                <a:cubicBezTo>
                  <a:pt x="4033" y="14917"/>
                  <a:pt x="4037" y="14929"/>
                  <a:pt x="406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8760" y="5232240"/>
            <a:ext cx="206280" cy="196920"/>
          </a:xfrm>
          <a:custGeom>
            <a:avLst/>
            <a:gdLst/>
            <a:ahLst/>
            <a:rect l="l" t="t" r="r" b="b"/>
            <a:pathLst>
              <a:path w="572" h="546">
                <a:moveTo>
                  <a:pt x="4490" y="14585"/>
                </a:moveTo>
                <a:cubicBezTo>
                  <a:pt x="4452" y="14686"/>
                  <a:pt x="4465" y="14818"/>
                  <a:pt x="4440" y="14932"/>
                </a:cubicBezTo>
              </a:path>
              <a:path w="572" h="546">
                <a:moveTo>
                  <a:pt x="4837" y="14536"/>
                </a:moveTo>
                <a:cubicBezTo>
                  <a:pt x="4782" y="14547"/>
                  <a:pt x="4708" y="14564"/>
                  <a:pt x="4688" y="14610"/>
                </a:cubicBezTo>
                <a:cubicBezTo>
                  <a:pt x="4619" y="14773"/>
                  <a:pt x="4750" y="14713"/>
                  <a:pt x="4837" y="14784"/>
                </a:cubicBezTo>
                <a:cubicBezTo>
                  <a:pt x="4845" y="14800"/>
                  <a:pt x="4854" y="14817"/>
                  <a:pt x="4862" y="14833"/>
                </a:cubicBezTo>
                <a:cubicBezTo>
                  <a:pt x="4799" y="14939"/>
                  <a:pt x="4724" y="14909"/>
                  <a:pt x="4614" y="14883"/>
                </a:cubicBezTo>
              </a:path>
              <a:path w="572" h="546">
                <a:moveTo>
                  <a:pt x="4986" y="14883"/>
                </a:moveTo>
                <a:cubicBezTo>
                  <a:pt x="4998" y="14970"/>
                  <a:pt x="4999" y="14999"/>
                  <a:pt x="4986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38240" y="5241960"/>
            <a:ext cx="258840" cy="13320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5531" y="14585"/>
                </a:moveTo>
                <a:cubicBezTo>
                  <a:pt x="5432" y="14585"/>
                  <a:pt x="5408" y="14572"/>
                  <a:pt x="5383" y="14660"/>
                </a:cubicBezTo>
                <a:cubicBezTo>
                  <a:pt x="5462" y="14739"/>
                  <a:pt x="5540" y="14787"/>
                  <a:pt x="5631" y="14858"/>
                </a:cubicBezTo>
                <a:cubicBezTo>
                  <a:pt x="5567" y="14914"/>
                  <a:pt x="5385" y="14988"/>
                  <a:pt x="5432" y="14808"/>
                </a:cubicBezTo>
                <a:cubicBezTo>
                  <a:pt x="5458" y="14707"/>
                  <a:pt x="5629" y="14640"/>
                  <a:pt x="5482" y="14610"/>
                </a:cubicBezTo>
              </a:path>
              <a:path w="720" h="373">
                <a:moveTo>
                  <a:pt x="5879" y="14560"/>
                </a:moveTo>
                <a:cubicBezTo>
                  <a:pt x="6033" y="14591"/>
                  <a:pt x="6145" y="14667"/>
                  <a:pt x="6052" y="14833"/>
                </a:cubicBezTo>
                <a:cubicBezTo>
                  <a:pt x="5988" y="14948"/>
                  <a:pt x="5937" y="14906"/>
                  <a:pt x="5854" y="14858"/>
                </a:cubicBezTo>
                <a:cubicBezTo>
                  <a:pt x="5913" y="14776"/>
                  <a:pt x="5953" y="14767"/>
                  <a:pt x="6052" y="14808"/>
                </a:cubicBezTo>
                <a:cubicBezTo>
                  <a:pt x="6069" y="14816"/>
                  <a:pt x="6085" y="14825"/>
                  <a:pt x="6102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5089680"/>
            <a:ext cx="903240" cy="376200"/>
          </a:xfrm>
          <a:custGeom>
            <a:avLst/>
            <a:gdLst/>
            <a:ahLst/>
            <a:rect l="l" t="t" r="r" b="b"/>
            <a:pathLst>
              <a:path w="2506" h="1042">
                <a:moveTo>
                  <a:pt x="6648" y="14560"/>
                </a:moveTo>
                <a:cubicBezTo>
                  <a:pt x="6765" y="14475"/>
                  <a:pt x="6877" y="14622"/>
                  <a:pt x="6896" y="14759"/>
                </a:cubicBezTo>
                <a:cubicBezTo>
                  <a:pt x="6925" y="14970"/>
                  <a:pt x="6661" y="14829"/>
                  <a:pt x="6598" y="14784"/>
                </a:cubicBezTo>
                <a:cubicBezTo>
                  <a:pt x="6690" y="14741"/>
                  <a:pt x="6797" y="14685"/>
                  <a:pt x="6871" y="14808"/>
                </a:cubicBezTo>
                <a:cubicBezTo>
                  <a:pt x="6871" y="14816"/>
                  <a:pt x="6871" y="14825"/>
                  <a:pt x="6871" y="14833"/>
                </a:cubicBezTo>
              </a:path>
              <a:path w="2506" h="1042">
                <a:moveTo>
                  <a:pt x="7094" y="14461"/>
                </a:moveTo>
                <a:cubicBezTo>
                  <a:pt x="7112" y="14621"/>
                  <a:pt x="7119" y="14770"/>
                  <a:pt x="7119" y="14932"/>
                </a:cubicBezTo>
                <a:cubicBezTo>
                  <a:pt x="7119" y="14940"/>
                  <a:pt x="7119" y="14949"/>
                  <a:pt x="7119" y="14957"/>
                </a:cubicBezTo>
              </a:path>
              <a:path w="2506" h="1042">
                <a:moveTo>
                  <a:pt x="7243" y="14908"/>
                </a:moveTo>
                <a:cubicBezTo>
                  <a:pt x="7243" y="14999"/>
                  <a:pt x="7243" y="15023"/>
                  <a:pt x="7243" y="15081"/>
                </a:cubicBezTo>
              </a:path>
              <a:path w="2506" h="1042">
                <a:moveTo>
                  <a:pt x="7441" y="14511"/>
                </a:moveTo>
                <a:cubicBezTo>
                  <a:pt x="7451" y="14482"/>
                  <a:pt x="7475" y="14466"/>
                  <a:pt x="7516" y="14461"/>
                </a:cubicBezTo>
                <a:cubicBezTo>
                  <a:pt x="7604" y="14451"/>
                  <a:pt x="7633" y="14628"/>
                  <a:pt x="7640" y="14684"/>
                </a:cubicBezTo>
                <a:cubicBezTo>
                  <a:pt x="7659" y="14829"/>
                  <a:pt x="7560" y="14817"/>
                  <a:pt x="7466" y="14808"/>
                </a:cubicBezTo>
                <a:cubicBezTo>
                  <a:pt x="7425" y="14808"/>
                  <a:pt x="7409" y="14816"/>
                  <a:pt x="7417" y="14784"/>
                </a:cubicBezTo>
                <a:cubicBezTo>
                  <a:pt x="7417" y="14737"/>
                  <a:pt x="7429" y="14696"/>
                  <a:pt x="7491" y="14709"/>
                </a:cubicBezTo>
                <a:cubicBezTo>
                  <a:pt x="7655" y="14742"/>
                  <a:pt x="7565" y="14834"/>
                  <a:pt x="7714" y="14684"/>
                </a:cubicBezTo>
              </a:path>
              <a:path w="2506" h="1042">
                <a:moveTo>
                  <a:pt x="7789" y="14412"/>
                </a:moveTo>
                <a:cubicBezTo>
                  <a:pt x="7858" y="14423"/>
                  <a:pt x="7915" y="14436"/>
                  <a:pt x="7987" y="14436"/>
                </a:cubicBezTo>
                <a:cubicBezTo>
                  <a:pt x="7995" y="14436"/>
                  <a:pt x="8004" y="14436"/>
                  <a:pt x="8012" y="14436"/>
                </a:cubicBezTo>
                <a:cubicBezTo>
                  <a:pt x="8012" y="14573"/>
                  <a:pt x="7988" y="14699"/>
                  <a:pt x="7962" y="14833"/>
                </a:cubicBezTo>
              </a:path>
              <a:path w="2506" h="1042">
                <a:moveTo>
                  <a:pt x="8136" y="14858"/>
                </a:moveTo>
                <a:cubicBezTo>
                  <a:pt x="8136" y="14924"/>
                  <a:pt x="8136" y="15007"/>
                  <a:pt x="8136" y="15007"/>
                </a:cubicBezTo>
              </a:path>
              <a:path w="2506" h="1042">
                <a:moveTo>
                  <a:pt x="8384" y="14412"/>
                </a:moveTo>
                <a:cubicBezTo>
                  <a:pt x="8454" y="14386"/>
                  <a:pt x="8557" y="14317"/>
                  <a:pt x="8508" y="14461"/>
                </a:cubicBezTo>
                <a:cubicBezTo>
                  <a:pt x="8478" y="14491"/>
                  <a:pt x="8464" y="14502"/>
                  <a:pt x="8434" y="14511"/>
                </a:cubicBezTo>
                <a:cubicBezTo>
                  <a:pt x="8492" y="14511"/>
                  <a:pt x="8636" y="14551"/>
                  <a:pt x="8657" y="14610"/>
                </a:cubicBezTo>
                <a:cubicBezTo>
                  <a:pt x="8704" y="14746"/>
                  <a:pt x="8448" y="14747"/>
                  <a:pt x="8384" y="14709"/>
                </a:cubicBezTo>
                <a:cubicBezTo>
                  <a:pt x="8392" y="14709"/>
                  <a:pt x="8401" y="14709"/>
                  <a:pt x="8409" y="14709"/>
                </a:cubicBezTo>
              </a:path>
              <a:path w="2506" h="1042">
                <a:moveTo>
                  <a:pt x="8855" y="14362"/>
                </a:moveTo>
                <a:cubicBezTo>
                  <a:pt x="8822" y="14439"/>
                  <a:pt x="8653" y="14669"/>
                  <a:pt x="8806" y="14709"/>
                </a:cubicBezTo>
                <a:cubicBezTo>
                  <a:pt x="8925" y="14709"/>
                  <a:pt x="8963" y="14711"/>
                  <a:pt x="9029" y="14660"/>
                </a:cubicBezTo>
                <a:cubicBezTo>
                  <a:pt x="8995" y="14491"/>
                  <a:pt x="9000" y="14518"/>
                  <a:pt x="8830" y="14461"/>
                </a:cubicBezTo>
              </a:path>
              <a:path w="2506" h="1042">
                <a:moveTo>
                  <a:pt x="8384" y="14436"/>
                </a:moveTo>
                <a:cubicBezTo>
                  <a:pt x="8437" y="14436"/>
                  <a:pt x="8448" y="14429"/>
                  <a:pt x="8508" y="14412"/>
                </a:cubicBezTo>
              </a:path>
              <a:path w="2506" h="1042">
                <a:moveTo>
                  <a:pt x="6524" y="15106"/>
                </a:moveTo>
                <a:cubicBezTo>
                  <a:pt x="6589" y="15153"/>
                  <a:pt x="6661" y="15175"/>
                  <a:pt x="6772" y="15180"/>
                </a:cubicBezTo>
                <a:cubicBezTo>
                  <a:pt x="6876" y="15185"/>
                  <a:pt x="7080" y="15205"/>
                  <a:pt x="7169" y="15131"/>
                </a:cubicBezTo>
                <a:cubicBezTo>
                  <a:pt x="7253" y="15061"/>
                  <a:pt x="7271" y="14924"/>
                  <a:pt x="7293" y="14833"/>
                </a:cubicBezTo>
                <a:cubicBezTo>
                  <a:pt x="7315" y="14743"/>
                  <a:pt x="7342" y="14678"/>
                  <a:pt x="7342" y="14585"/>
                </a:cubicBezTo>
                <a:cubicBezTo>
                  <a:pt x="7342" y="14512"/>
                  <a:pt x="7314" y="14421"/>
                  <a:pt x="7268" y="14362"/>
                </a:cubicBezTo>
                <a:cubicBezTo>
                  <a:pt x="7199" y="14274"/>
                  <a:pt x="7172" y="14187"/>
                  <a:pt x="7045" y="14163"/>
                </a:cubicBezTo>
                <a:cubicBezTo>
                  <a:pt x="6942" y="14144"/>
                  <a:pt x="6820" y="14133"/>
                  <a:pt x="6722" y="14188"/>
                </a:cubicBezTo>
                <a:cubicBezTo>
                  <a:pt x="6634" y="14237"/>
                  <a:pt x="6610" y="14329"/>
                  <a:pt x="6573" y="14412"/>
                </a:cubicBezTo>
                <a:cubicBezTo>
                  <a:pt x="6509" y="14554"/>
                  <a:pt x="6524" y="14678"/>
                  <a:pt x="6524" y="14833"/>
                </a:cubicBezTo>
                <a:cubicBezTo>
                  <a:pt x="6524" y="15001"/>
                  <a:pt x="6543" y="15001"/>
                  <a:pt x="6623" y="15081"/>
                </a:cubicBezTo>
                <a:cubicBezTo>
                  <a:pt x="6647" y="15129"/>
                  <a:pt x="6653" y="15146"/>
                  <a:pt x="669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4280" y="572436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3373" y="15900"/>
                </a:moveTo>
                <a:cubicBezTo>
                  <a:pt x="3386" y="16033"/>
                  <a:pt x="3383" y="16077"/>
                  <a:pt x="3522" y="16024"/>
                </a:cubicBezTo>
                <a:cubicBezTo>
                  <a:pt x="3572" y="15999"/>
                  <a:pt x="3589" y="15991"/>
                  <a:pt x="3597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4960" y="5643720"/>
            <a:ext cx="839880" cy="268200"/>
          </a:xfrm>
          <a:custGeom>
            <a:avLst/>
            <a:gdLst/>
            <a:ahLst/>
            <a:rect l="l" t="t" r="r" b="b"/>
            <a:pathLst>
              <a:path w="2333" h="745">
                <a:moveTo>
                  <a:pt x="1736" y="15726"/>
                </a:moveTo>
                <a:cubicBezTo>
                  <a:pt x="1721" y="15680"/>
                  <a:pt x="1641" y="15664"/>
                  <a:pt x="1588" y="15701"/>
                </a:cubicBezTo>
                <a:cubicBezTo>
                  <a:pt x="1488" y="15772"/>
                  <a:pt x="1438" y="15872"/>
                  <a:pt x="1563" y="15949"/>
                </a:cubicBezTo>
                <a:cubicBezTo>
                  <a:pt x="1680" y="15996"/>
                  <a:pt x="1718" y="16006"/>
                  <a:pt x="1736" y="16098"/>
                </a:cubicBezTo>
                <a:cubicBezTo>
                  <a:pt x="1676" y="16093"/>
                  <a:pt x="1405" y="16069"/>
                  <a:pt x="1513" y="15949"/>
                </a:cubicBezTo>
                <a:cubicBezTo>
                  <a:pt x="1529" y="15931"/>
                  <a:pt x="1726" y="15815"/>
                  <a:pt x="1687" y="15776"/>
                </a:cubicBezTo>
                <a:cubicBezTo>
                  <a:pt x="1679" y="15776"/>
                  <a:pt x="1670" y="15776"/>
                  <a:pt x="1662" y="15776"/>
                </a:cubicBezTo>
              </a:path>
              <a:path w="2333" h="745">
                <a:moveTo>
                  <a:pt x="1860" y="15900"/>
                </a:moveTo>
                <a:cubicBezTo>
                  <a:pt x="1897" y="15986"/>
                  <a:pt x="1897" y="16082"/>
                  <a:pt x="1885" y="16173"/>
                </a:cubicBezTo>
                <a:cubicBezTo>
                  <a:pt x="1885" y="16181"/>
                  <a:pt x="1885" y="16189"/>
                  <a:pt x="1885" y="16197"/>
                </a:cubicBezTo>
              </a:path>
              <a:path w="2333" h="745">
                <a:moveTo>
                  <a:pt x="2034" y="15974"/>
                </a:moveTo>
                <a:cubicBezTo>
                  <a:pt x="2076" y="16030"/>
                  <a:pt x="2059" y="16100"/>
                  <a:pt x="2059" y="16173"/>
                </a:cubicBezTo>
                <a:cubicBezTo>
                  <a:pt x="2059" y="16231"/>
                  <a:pt x="2099" y="16093"/>
                  <a:pt x="2108" y="16073"/>
                </a:cubicBezTo>
              </a:path>
              <a:path w="2333" h="745">
                <a:moveTo>
                  <a:pt x="2208" y="15900"/>
                </a:moveTo>
                <a:cubicBezTo>
                  <a:pt x="2208" y="15965"/>
                  <a:pt x="2247" y="15985"/>
                  <a:pt x="2257" y="16049"/>
                </a:cubicBezTo>
                <a:cubicBezTo>
                  <a:pt x="2265" y="16101"/>
                  <a:pt x="2296" y="16155"/>
                  <a:pt x="2356" y="16148"/>
                </a:cubicBezTo>
                <a:cubicBezTo>
                  <a:pt x="2494" y="16133"/>
                  <a:pt x="2549" y="16045"/>
                  <a:pt x="2629" y="15949"/>
                </a:cubicBezTo>
                <a:cubicBezTo>
                  <a:pt x="2583" y="15940"/>
                  <a:pt x="2498" y="15891"/>
                  <a:pt x="2456" y="15949"/>
                </a:cubicBezTo>
                <a:cubicBezTo>
                  <a:pt x="2452" y="15954"/>
                  <a:pt x="2366" y="16172"/>
                  <a:pt x="2456" y="16123"/>
                </a:cubicBezTo>
                <a:cubicBezTo>
                  <a:pt x="2489" y="16098"/>
                  <a:pt x="2522" y="16074"/>
                  <a:pt x="2555" y="16049"/>
                </a:cubicBezTo>
              </a:path>
              <a:path w="2333" h="745">
                <a:moveTo>
                  <a:pt x="2853" y="16123"/>
                </a:moveTo>
                <a:cubicBezTo>
                  <a:pt x="2852" y="16145"/>
                  <a:pt x="2828" y="16479"/>
                  <a:pt x="2828" y="16222"/>
                </a:cubicBezTo>
              </a:path>
              <a:path w="2333" h="745">
                <a:moveTo>
                  <a:pt x="3001" y="16024"/>
                </a:moveTo>
                <a:cubicBezTo>
                  <a:pt x="3028" y="15997"/>
                  <a:pt x="3188" y="15983"/>
                  <a:pt x="3200" y="16073"/>
                </a:cubicBezTo>
                <a:cubicBezTo>
                  <a:pt x="3192" y="16090"/>
                  <a:pt x="3183" y="16106"/>
                  <a:pt x="3175" y="16123"/>
                </a:cubicBezTo>
                <a:cubicBezTo>
                  <a:pt x="3051" y="16190"/>
                  <a:pt x="3053" y="16196"/>
                  <a:pt x="2927" y="16148"/>
                </a:cubicBezTo>
                <a:cubicBezTo>
                  <a:pt x="2964" y="16045"/>
                  <a:pt x="3062" y="15952"/>
                  <a:pt x="3200" y="16024"/>
                </a:cubicBezTo>
                <a:cubicBezTo>
                  <a:pt x="3255" y="16052"/>
                  <a:pt x="3245" y="16085"/>
                  <a:pt x="3299" y="16098"/>
                </a:cubicBezTo>
              </a:path>
              <a:path w="2333" h="745">
                <a:moveTo>
                  <a:pt x="3497" y="15850"/>
                </a:moveTo>
                <a:cubicBezTo>
                  <a:pt x="3521" y="15960"/>
                  <a:pt x="3551" y="16064"/>
                  <a:pt x="3572" y="16173"/>
                </a:cubicBezTo>
                <a:cubicBezTo>
                  <a:pt x="3572" y="16189"/>
                  <a:pt x="3572" y="16206"/>
                  <a:pt x="3572" y="16222"/>
                </a:cubicBezTo>
              </a:path>
              <a:path w="2333" h="745">
                <a:moveTo>
                  <a:pt x="2977" y="15999"/>
                </a:moveTo>
                <a:cubicBezTo>
                  <a:pt x="2991" y="15941"/>
                  <a:pt x="3042" y="15898"/>
                  <a:pt x="3101" y="15875"/>
                </a:cubicBezTo>
                <a:cubicBezTo>
                  <a:pt x="3109" y="15875"/>
                  <a:pt x="3117" y="15875"/>
                  <a:pt x="3125" y="15875"/>
                </a:cubicBezTo>
              </a:path>
              <a:path w="2333" h="745">
                <a:moveTo>
                  <a:pt x="3125" y="15900"/>
                </a:moveTo>
                <a:cubicBezTo>
                  <a:pt x="3159" y="15900"/>
                  <a:pt x="3256" y="15958"/>
                  <a:pt x="3225" y="15999"/>
                </a:cubicBezTo>
                <a:cubicBezTo>
                  <a:pt x="3183" y="15999"/>
                  <a:pt x="3167" y="16007"/>
                  <a:pt x="3175" y="15974"/>
                </a:cubicBezTo>
              </a:path>
              <a:path w="2333" h="745">
                <a:moveTo>
                  <a:pt x="2902" y="16173"/>
                </a:moveTo>
                <a:cubicBezTo>
                  <a:pt x="2930" y="16228"/>
                  <a:pt x="2951" y="16253"/>
                  <a:pt x="3001" y="16297"/>
                </a:cubicBezTo>
                <a:cubicBezTo>
                  <a:pt x="3073" y="16360"/>
                  <a:pt x="3200" y="16406"/>
                  <a:pt x="3299" y="16421"/>
                </a:cubicBezTo>
                <a:cubicBezTo>
                  <a:pt x="3397" y="16436"/>
                  <a:pt x="3485" y="16379"/>
                  <a:pt x="3572" y="16346"/>
                </a:cubicBezTo>
                <a:cubicBezTo>
                  <a:pt x="3644" y="16319"/>
                  <a:pt x="3742" y="16274"/>
                  <a:pt x="3770" y="16197"/>
                </a:cubicBezTo>
                <a:cubicBezTo>
                  <a:pt x="3809" y="16090"/>
                  <a:pt x="3848" y="16003"/>
                  <a:pt x="3746" y="15925"/>
                </a:cubicBezTo>
                <a:cubicBezTo>
                  <a:pt x="3666" y="15864"/>
                  <a:pt x="3589" y="15818"/>
                  <a:pt x="3497" y="15776"/>
                </a:cubicBezTo>
                <a:cubicBezTo>
                  <a:pt x="3418" y="15740"/>
                  <a:pt x="3288" y="15735"/>
                  <a:pt x="3200" y="15751"/>
                </a:cubicBezTo>
                <a:cubicBezTo>
                  <a:pt x="3131" y="15764"/>
                  <a:pt x="3039" y="15772"/>
                  <a:pt x="2977" y="15801"/>
                </a:cubicBezTo>
                <a:cubicBezTo>
                  <a:pt x="2931" y="15822"/>
                  <a:pt x="2887" y="15867"/>
                  <a:pt x="2877" y="15925"/>
                </a:cubicBezTo>
                <a:cubicBezTo>
                  <a:pt x="2861" y="16014"/>
                  <a:pt x="2866" y="16044"/>
                  <a:pt x="2877" y="16123"/>
                </a:cubicBezTo>
                <a:cubicBezTo>
                  <a:pt x="2882" y="16162"/>
                  <a:pt x="2909" y="16209"/>
                  <a:pt x="2927" y="16222"/>
                </a:cubicBezTo>
                <a:cubicBezTo>
                  <a:pt x="2968" y="16242"/>
                  <a:pt x="2984" y="16261"/>
                  <a:pt x="2977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5000" y="4259160"/>
            <a:ext cx="179280" cy="1350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6152" y="11956"/>
                </a:moveTo>
                <a:cubicBezTo>
                  <a:pt x="6229" y="12000"/>
                  <a:pt x="6240" y="12017"/>
                  <a:pt x="6276" y="12080"/>
                </a:cubicBezTo>
                <a:cubicBezTo>
                  <a:pt x="6284" y="12088"/>
                  <a:pt x="6292" y="12097"/>
                  <a:pt x="6300" y="12105"/>
                </a:cubicBezTo>
              </a:path>
              <a:path w="497" h="373">
                <a:moveTo>
                  <a:pt x="6226" y="11931"/>
                </a:moveTo>
                <a:cubicBezTo>
                  <a:pt x="6185" y="12023"/>
                  <a:pt x="6156" y="12108"/>
                  <a:pt x="6127" y="12204"/>
                </a:cubicBezTo>
              </a:path>
              <a:path w="497" h="373">
                <a:moveTo>
                  <a:pt x="6400" y="11857"/>
                </a:moveTo>
                <a:cubicBezTo>
                  <a:pt x="6438" y="11857"/>
                  <a:pt x="6569" y="11813"/>
                  <a:pt x="6573" y="11857"/>
                </a:cubicBezTo>
                <a:cubicBezTo>
                  <a:pt x="6540" y="11921"/>
                  <a:pt x="6520" y="11949"/>
                  <a:pt x="6474" y="11981"/>
                </a:cubicBezTo>
                <a:cubicBezTo>
                  <a:pt x="6466" y="11981"/>
                  <a:pt x="6457" y="11981"/>
                  <a:pt x="6449" y="11981"/>
                </a:cubicBezTo>
                <a:cubicBezTo>
                  <a:pt x="6466" y="11981"/>
                  <a:pt x="6691" y="11966"/>
                  <a:pt x="6623" y="12055"/>
                </a:cubicBezTo>
                <a:cubicBezTo>
                  <a:pt x="6538" y="12112"/>
                  <a:pt x="6501" y="12131"/>
                  <a:pt x="642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7720" y="3438360"/>
            <a:ext cx="214200" cy="490680"/>
          </a:xfrm>
          <a:custGeom>
            <a:avLst/>
            <a:gdLst/>
            <a:ahLst/>
            <a:rect l="l" t="t" r="r" b="b"/>
            <a:pathLst>
              <a:path w="596" h="1365">
                <a:moveTo>
                  <a:pt x="6251" y="10641"/>
                </a:moveTo>
                <a:cubicBezTo>
                  <a:pt x="6264" y="10705"/>
                  <a:pt x="6319" y="10799"/>
                  <a:pt x="6350" y="10840"/>
                </a:cubicBezTo>
                <a:cubicBezTo>
                  <a:pt x="6350" y="10832"/>
                  <a:pt x="6350" y="10823"/>
                  <a:pt x="6350" y="10815"/>
                </a:cubicBezTo>
              </a:path>
              <a:path w="596" h="1365">
                <a:moveTo>
                  <a:pt x="6499" y="10542"/>
                </a:moveTo>
                <a:cubicBezTo>
                  <a:pt x="6524" y="10534"/>
                  <a:pt x="6548" y="10525"/>
                  <a:pt x="6573" y="10517"/>
                </a:cubicBezTo>
                <a:cubicBezTo>
                  <a:pt x="6625" y="10595"/>
                  <a:pt x="6631" y="10618"/>
                  <a:pt x="6573" y="10691"/>
                </a:cubicBezTo>
                <a:cubicBezTo>
                  <a:pt x="6666" y="10727"/>
                  <a:pt x="6679" y="10794"/>
                  <a:pt x="6598" y="10864"/>
                </a:cubicBezTo>
                <a:cubicBezTo>
                  <a:pt x="6550" y="10906"/>
                  <a:pt x="6537" y="10908"/>
                  <a:pt x="6499" y="10889"/>
                </a:cubicBezTo>
              </a:path>
              <a:path w="596" h="1365">
                <a:moveTo>
                  <a:pt x="6127" y="9723"/>
                </a:moveTo>
                <a:cubicBezTo>
                  <a:pt x="6127" y="9879"/>
                  <a:pt x="6147" y="10043"/>
                  <a:pt x="6102" y="10195"/>
                </a:cubicBezTo>
                <a:cubicBezTo>
                  <a:pt x="6094" y="10203"/>
                  <a:pt x="6085" y="10212"/>
                  <a:pt x="6077" y="10220"/>
                </a:cubicBezTo>
              </a:path>
              <a:path w="596" h="1365">
                <a:moveTo>
                  <a:pt x="6573" y="9550"/>
                </a:moveTo>
                <a:cubicBezTo>
                  <a:pt x="6551" y="9615"/>
                  <a:pt x="6496" y="9614"/>
                  <a:pt x="6424" y="9674"/>
                </a:cubicBezTo>
                <a:cubicBezTo>
                  <a:pt x="6467" y="9786"/>
                  <a:pt x="6545" y="9745"/>
                  <a:pt x="6623" y="9823"/>
                </a:cubicBezTo>
                <a:cubicBezTo>
                  <a:pt x="6715" y="9915"/>
                  <a:pt x="6675" y="10079"/>
                  <a:pt x="6548" y="10120"/>
                </a:cubicBezTo>
                <a:cubicBezTo>
                  <a:pt x="6469" y="10145"/>
                  <a:pt x="6414" y="10103"/>
                  <a:pt x="635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04960" y="348300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4887" y="10592"/>
                </a:moveTo>
                <a:cubicBezTo>
                  <a:pt x="4864" y="10659"/>
                  <a:pt x="4819" y="10713"/>
                  <a:pt x="4812" y="10790"/>
                </a:cubicBezTo>
                <a:cubicBezTo>
                  <a:pt x="4812" y="10798"/>
                  <a:pt x="4812" y="10807"/>
                  <a:pt x="4812" y="10815"/>
                </a:cubicBezTo>
              </a:path>
              <a:path w="571" h="1142">
                <a:moveTo>
                  <a:pt x="5110" y="10517"/>
                </a:moveTo>
                <a:cubicBezTo>
                  <a:pt x="5080" y="10527"/>
                  <a:pt x="5046" y="10581"/>
                  <a:pt x="5011" y="10616"/>
                </a:cubicBezTo>
                <a:cubicBezTo>
                  <a:pt x="5035" y="10656"/>
                  <a:pt x="5133" y="10695"/>
                  <a:pt x="5110" y="10765"/>
                </a:cubicBezTo>
                <a:cubicBezTo>
                  <a:pt x="5080" y="10795"/>
                  <a:pt x="5066" y="10806"/>
                  <a:pt x="5035" y="10815"/>
                </a:cubicBezTo>
                <a:cubicBezTo>
                  <a:pt x="5054" y="10739"/>
                  <a:pt x="5103" y="10701"/>
                  <a:pt x="5110" y="10616"/>
                </a:cubicBezTo>
                <a:cubicBezTo>
                  <a:pt x="5112" y="10592"/>
                  <a:pt x="5110" y="10566"/>
                  <a:pt x="5110" y="10542"/>
                </a:cubicBezTo>
              </a:path>
              <a:path w="571" h="1142">
                <a:moveTo>
                  <a:pt x="4812" y="9748"/>
                </a:moveTo>
                <a:cubicBezTo>
                  <a:pt x="4795" y="9881"/>
                  <a:pt x="4791" y="10042"/>
                  <a:pt x="4762" y="10170"/>
                </a:cubicBezTo>
                <a:cubicBezTo>
                  <a:pt x="4754" y="10178"/>
                  <a:pt x="4746" y="10187"/>
                  <a:pt x="4738" y="10195"/>
                </a:cubicBezTo>
              </a:path>
              <a:path w="571" h="1142">
                <a:moveTo>
                  <a:pt x="5085" y="9674"/>
                </a:moveTo>
                <a:cubicBezTo>
                  <a:pt x="5068" y="9775"/>
                  <a:pt x="5008" y="9893"/>
                  <a:pt x="5011" y="9996"/>
                </a:cubicBezTo>
                <a:cubicBezTo>
                  <a:pt x="5013" y="10061"/>
                  <a:pt x="5048" y="10111"/>
                  <a:pt x="5060" y="10170"/>
                </a:cubicBezTo>
                <a:cubicBezTo>
                  <a:pt x="5181" y="10160"/>
                  <a:pt x="5237" y="10162"/>
                  <a:pt x="5283" y="10046"/>
                </a:cubicBezTo>
                <a:cubicBezTo>
                  <a:pt x="5302" y="9988"/>
                  <a:pt x="5311" y="9982"/>
                  <a:pt x="5308" y="9947"/>
                </a:cubicBezTo>
                <a:cubicBezTo>
                  <a:pt x="5192" y="9960"/>
                  <a:pt x="5068" y="9976"/>
                  <a:pt x="5060" y="10120"/>
                </a:cubicBezTo>
                <a:cubicBezTo>
                  <a:pt x="5081" y="10203"/>
                  <a:pt x="5089" y="10218"/>
                  <a:pt x="5085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3040" y="4259160"/>
            <a:ext cx="268200" cy="34920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4787" y="12378"/>
                </a:moveTo>
                <a:cubicBezTo>
                  <a:pt x="4779" y="12378"/>
                  <a:pt x="4770" y="12378"/>
                  <a:pt x="4762" y="12378"/>
                </a:cubicBezTo>
                <a:cubicBezTo>
                  <a:pt x="4802" y="12348"/>
                  <a:pt x="4856" y="12343"/>
                  <a:pt x="4887" y="12402"/>
                </a:cubicBezTo>
                <a:cubicBezTo>
                  <a:pt x="4953" y="12530"/>
                  <a:pt x="4884" y="12639"/>
                  <a:pt x="4787" y="12725"/>
                </a:cubicBezTo>
                <a:cubicBezTo>
                  <a:pt x="4719" y="12785"/>
                  <a:pt x="4650" y="12799"/>
                  <a:pt x="4564" y="12799"/>
                </a:cubicBezTo>
                <a:cubicBezTo>
                  <a:pt x="4564" y="12710"/>
                  <a:pt x="4582" y="12716"/>
                  <a:pt x="4663" y="12675"/>
                </a:cubicBezTo>
                <a:cubicBezTo>
                  <a:pt x="4739" y="12637"/>
                  <a:pt x="4769" y="12644"/>
                  <a:pt x="4812" y="12700"/>
                </a:cubicBezTo>
                <a:cubicBezTo>
                  <a:pt x="4837" y="12732"/>
                  <a:pt x="4852" y="12736"/>
                  <a:pt x="4862" y="12774"/>
                </a:cubicBezTo>
              </a:path>
              <a:path w="745" h="968">
                <a:moveTo>
                  <a:pt x="5060" y="12452"/>
                </a:moveTo>
                <a:cubicBezTo>
                  <a:pt x="5060" y="12524"/>
                  <a:pt x="5032" y="12561"/>
                  <a:pt x="5011" y="12626"/>
                </a:cubicBezTo>
                <a:cubicBezTo>
                  <a:pt x="5033" y="12658"/>
                  <a:pt x="5060" y="12650"/>
                  <a:pt x="5110" y="12650"/>
                </a:cubicBezTo>
                <a:cubicBezTo>
                  <a:pt x="5135" y="12650"/>
                  <a:pt x="5143" y="12650"/>
                  <a:pt x="5135" y="12626"/>
                </a:cubicBezTo>
              </a:path>
              <a:path w="745" h="968">
                <a:moveTo>
                  <a:pt x="5110" y="12378"/>
                </a:moveTo>
                <a:cubicBezTo>
                  <a:pt x="5110" y="12518"/>
                  <a:pt x="5110" y="12659"/>
                  <a:pt x="5110" y="12799"/>
                </a:cubicBezTo>
              </a:path>
              <a:path w="745" h="968">
                <a:moveTo>
                  <a:pt x="4986" y="11956"/>
                </a:moveTo>
                <a:cubicBezTo>
                  <a:pt x="5011" y="11956"/>
                  <a:pt x="5035" y="11956"/>
                  <a:pt x="5060" y="11956"/>
                </a:cubicBezTo>
                <a:cubicBezTo>
                  <a:pt x="5060" y="12004"/>
                  <a:pt x="5063" y="12005"/>
                  <a:pt x="5085" y="12055"/>
                </a:cubicBezTo>
              </a:path>
              <a:path w="745" h="968">
                <a:moveTo>
                  <a:pt x="5060" y="11981"/>
                </a:moveTo>
                <a:cubicBezTo>
                  <a:pt x="5018" y="11981"/>
                  <a:pt x="5035" y="12020"/>
                  <a:pt x="5035" y="12055"/>
                </a:cubicBezTo>
              </a:path>
              <a:path w="745" h="968">
                <a:moveTo>
                  <a:pt x="5209" y="11832"/>
                </a:moveTo>
                <a:cubicBezTo>
                  <a:pt x="5244" y="11832"/>
                  <a:pt x="5197" y="11863"/>
                  <a:pt x="5159" y="11906"/>
                </a:cubicBezTo>
                <a:cubicBezTo>
                  <a:pt x="5234" y="11956"/>
                  <a:pt x="5331" y="11962"/>
                  <a:pt x="5308" y="12080"/>
                </a:cubicBezTo>
                <a:cubicBezTo>
                  <a:pt x="5300" y="12088"/>
                  <a:pt x="5291" y="12097"/>
                  <a:pt x="5283" y="12105"/>
                </a:cubicBezTo>
                <a:cubicBezTo>
                  <a:pt x="5226" y="12085"/>
                  <a:pt x="5264" y="11984"/>
                  <a:pt x="5283" y="11931"/>
                </a:cubicBezTo>
                <a:cubicBezTo>
                  <a:pt x="5303" y="11891"/>
                  <a:pt x="5312" y="11884"/>
                  <a:pt x="530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1080" y="4384800"/>
            <a:ext cx="23184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6400" y="12278"/>
                </a:moveTo>
                <a:cubicBezTo>
                  <a:pt x="6369" y="12250"/>
                  <a:pt x="6405" y="12263"/>
                  <a:pt x="6449" y="12254"/>
                </a:cubicBezTo>
                <a:cubicBezTo>
                  <a:pt x="6449" y="12394"/>
                  <a:pt x="6420" y="12446"/>
                  <a:pt x="6325" y="12551"/>
                </a:cubicBezTo>
                <a:cubicBezTo>
                  <a:pt x="6286" y="12594"/>
                  <a:pt x="6263" y="12602"/>
                  <a:pt x="6251" y="12650"/>
                </a:cubicBezTo>
                <a:cubicBezTo>
                  <a:pt x="6282" y="12619"/>
                  <a:pt x="6345" y="12528"/>
                  <a:pt x="6400" y="12551"/>
                </a:cubicBezTo>
                <a:cubicBezTo>
                  <a:pt x="6456" y="12574"/>
                  <a:pt x="6509" y="12631"/>
                  <a:pt x="6573" y="12650"/>
                </a:cubicBezTo>
                <a:cubicBezTo>
                  <a:pt x="6621" y="12664"/>
                  <a:pt x="6659" y="12570"/>
                  <a:pt x="6672" y="12551"/>
                </a:cubicBezTo>
              </a:path>
              <a:path w="646" h="497">
                <a:moveTo>
                  <a:pt x="6697" y="12278"/>
                </a:moveTo>
                <a:cubicBezTo>
                  <a:pt x="6685" y="12336"/>
                  <a:pt x="6660" y="12380"/>
                  <a:pt x="6623" y="12427"/>
                </a:cubicBezTo>
                <a:cubicBezTo>
                  <a:pt x="6698" y="12460"/>
                  <a:pt x="6781" y="12452"/>
                  <a:pt x="6871" y="12452"/>
                </a:cubicBezTo>
                <a:cubicBezTo>
                  <a:pt x="6910" y="12452"/>
                  <a:pt x="6896" y="12435"/>
                  <a:pt x="6896" y="12402"/>
                </a:cubicBezTo>
              </a:path>
              <a:path w="646" h="497">
                <a:moveTo>
                  <a:pt x="6896" y="12179"/>
                </a:moveTo>
                <a:cubicBezTo>
                  <a:pt x="6878" y="12302"/>
                  <a:pt x="6892" y="12401"/>
                  <a:pt x="6896" y="12526"/>
                </a:cubicBezTo>
                <a:cubicBezTo>
                  <a:pt x="6898" y="12575"/>
                  <a:pt x="6896" y="12625"/>
                  <a:pt x="6896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2320" y="5116680"/>
            <a:ext cx="1865520" cy="53640"/>
          </a:xfrm>
          <a:custGeom>
            <a:avLst/>
            <a:gdLst/>
            <a:ahLst/>
            <a:rect l="l" t="t" r="r" b="b"/>
            <a:pathLst>
              <a:path w="5185" h="150">
                <a:moveTo>
                  <a:pt x="1811" y="14213"/>
                </a:moveTo>
                <a:lnTo>
                  <a:pt x="1811" y="14213"/>
                </a:lnTo>
                <a:lnTo>
                  <a:pt x="1811" y="14213"/>
                </a:lnTo>
              </a:path>
              <a:path w="5185" h="150">
                <a:moveTo>
                  <a:pt x="2431" y="14238"/>
                </a:moveTo>
                <a:lnTo>
                  <a:pt x="2431" y="14238"/>
                </a:lnTo>
              </a:path>
              <a:path w="5185" h="150">
                <a:moveTo>
                  <a:pt x="3125" y="14263"/>
                </a:moveTo>
                <a:lnTo>
                  <a:pt x="3125" y="14263"/>
                </a:lnTo>
                <a:lnTo>
                  <a:pt x="3125" y="14263"/>
                </a:lnTo>
              </a:path>
              <a:path w="5185" h="150">
                <a:moveTo>
                  <a:pt x="3845" y="14362"/>
                </a:moveTo>
                <a:lnTo>
                  <a:pt x="3845" y="14362"/>
                </a:lnTo>
                <a:lnTo>
                  <a:pt x="3845" y="14362"/>
                </a:lnTo>
              </a:path>
              <a:path w="5185" h="150">
                <a:moveTo>
                  <a:pt x="4564" y="14312"/>
                </a:moveTo>
                <a:cubicBezTo>
                  <a:pt x="4556" y="14312"/>
                  <a:pt x="4547" y="14312"/>
                  <a:pt x="4539" y="14312"/>
                </a:cubicBezTo>
              </a:path>
              <a:path w="5185" h="150">
                <a:moveTo>
                  <a:pt x="5308" y="14362"/>
                </a:moveTo>
                <a:lnTo>
                  <a:pt x="5308" y="14362"/>
                </a:lnTo>
              </a:path>
              <a:path w="5185" h="150">
                <a:moveTo>
                  <a:pt x="6028" y="14312"/>
                </a:moveTo>
                <a:lnTo>
                  <a:pt x="6028" y="14312"/>
                </a:lnTo>
              </a:path>
              <a:path w="5185" h="150">
                <a:moveTo>
                  <a:pt x="6970" y="14288"/>
                </a:moveTo>
                <a:cubicBezTo>
                  <a:pt x="6978" y="14288"/>
                  <a:pt x="6987" y="14288"/>
                  <a:pt x="699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1960" y="383076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4812" y="10641"/>
                </a:moveTo>
                <a:cubicBezTo>
                  <a:pt x="4821" y="10684"/>
                  <a:pt x="4834" y="10706"/>
                  <a:pt x="4862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8080" y="5133960"/>
            <a:ext cx="142920" cy="287280"/>
          </a:xfrm>
          <a:custGeom>
            <a:avLst/>
            <a:gdLst/>
            <a:ahLst/>
            <a:rect l="l" t="t" r="r" b="b"/>
            <a:pathLst>
              <a:path w="398" h="794">
                <a:moveTo>
                  <a:pt x="15404" y="14461"/>
                </a:moveTo>
                <a:cubicBezTo>
                  <a:pt x="15421" y="14375"/>
                  <a:pt x="15549" y="14226"/>
                  <a:pt x="15652" y="14263"/>
                </a:cubicBezTo>
                <a:cubicBezTo>
                  <a:pt x="15790" y="14313"/>
                  <a:pt x="15553" y="14596"/>
                  <a:pt x="15528" y="14635"/>
                </a:cubicBezTo>
                <a:cubicBezTo>
                  <a:pt x="15417" y="14744"/>
                  <a:pt x="15595" y="14526"/>
                  <a:pt x="15701" y="14660"/>
                </a:cubicBezTo>
                <a:cubicBezTo>
                  <a:pt x="15844" y="14840"/>
                  <a:pt x="15553" y="15047"/>
                  <a:pt x="15404" y="15056"/>
                </a:cubicBezTo>
                <a:cubicBezTo>
                  <a:pt x="15229" y="15066"/>
                  <a:pt x="15380" y="14898"/>
                  <a:pt x="1540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6280" y="5099040"/>
            <a:ext cx="17640" cy="295200"/>
          </a:xfrm>
          <a:custGeom>
            <a:avLst/>
            <a:gdLst/>
            <a:ahLst/>
            <a:rect l="l" t="t" r="r" b="b"/>
            <a:pathLst>
              <a:path w="51" h="820">
                <a:moveTo>
                  <a:pt x="16073" y="14163"/>
                </a:moveTo>
                <a:cubicBezTo>
                  <a:pt x="16123" y="14388"/>
                  <a:pt x="16123" y="14603"/>
                  <a:pt x="16123" y="14833"/>
                </a:cubicBezTo>
                <a:cubicBezTo>
                  <a:pt x="16123" y="14916"/>
                  <a:pt x="16123" y="14932"/>
                  <a:pt x="161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2160" y="5045040"/>
            <a:ext cx="615960" cy="482760"/>
          </a:xfrm>
          <a:custGeom>
            <a:avLst/>
            <a:gdLst/>
            <a:ahLst/>
            <a:rect l="l" t="t" r="r" b="b"/>
            <a:pathLst>
              <a:path w="1712" h="1340">
                <a:moveTo>
                  <a:pt x="15156" y="15354"/>
                </a:moveTo>
                <a:cubicBezTo>
                  <a:pt x="15124" y="15101"/>
                  <a:pt x="15126" y="14858"/>
                  <a:pt x="15056" y="14610"/>
                </a:cubicBezTo>
                <a:cubicBezTo>
                  <a:pt x="15020" y="14482"/>
                  <a:pt x="15007" y="14416"/>
                  <a:pt x="15007" y="14288"/>
                </a:cubicBezTo>
                <a:cubicBezTo>
                  <a:pt x="15143" y="14261"/>
                  <a:pt x="15287" y="14267"/>
                  <a:pt x="15429" y="14238"/>
                </a:cubicBezTo>
                <a:cubicBezTo>
                  <a:pt x="15857" y="14152"/>
                  <a:pt x="16257" y="14010"/>
                  <a:pt x="16694" y="14039"/>
                </a:cubicBezTo>
                <a:cubicBezTo>
                  <a:pt x="16702" y="14039"/>
                  <a:pt x="16710" y="14039"/>
                  <a:pt x="1671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8840" y="5268960"/>
            <a:ext cx="169560" cy="24912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3965" y="14734"/>
                </a:moveTo>
                <a:cubicBezTo>
                  <a:pt x="13934" y="14657"/>
                  <a:pt x="13961" y="14674"/>
                  <a:pt x="14039" y="14635"/>
                </a:cubicBezTo>
                <a:cubicBezTo>
                  <a:pt x="14186" y="14823"/>
                  <a:pt x="14154" y="15087"/>
                  <a:pt x="13965" y="15280"/>
                </a:cubicBezTo>
                <a:cubicBezTo>
                  <a:pt x="13823" y="15426"/>
                  <a:pt x="13762" y="15270"/>
                  <a:pt x="13717" y="15180"/>
                </a:cubicBezTo>
                <a:cubicBezTo>
                  <a:pt x="13854" y="15094"/>
                  <a:pt x="14012" y="15081"/>
                  <a:pt x="14163" y="15180"/>
                </a:cubicBezTo>
                <a:cubicBezTo>
                  <a:pt x="14171" y="15197"/>
                  <a:pt x="14180" y="15213"/>
                  <a:pt x="1418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14960" y="5214960"/>
            <a:ext cx="36360" cy="312840"/>
          </a:xfrm>
          <a:custGeom>
            <a:avLst/>
            <a:gdLst/>
            <a:ahLst/>
            <a:rect l="l" t="t" r="r" b="b"/>
            <a:pathLst>
              <a:path w="100" h="869">
                <a:moveTo>
                  <a:pt x="14486" y="14486"/>
                </a:moveTo>
                <a:cubicBezTo>
                  <a:pt x="14526" y="14760"/>
                  <a:pt x="14563" y="15029"/>
                  <a:pt x="14585" y="15304"/>
                </a:cubicBezTo>
                <a:cubicBezTo>
                  <a:pt x="14585" y="15321"/>
                  <a:pt x="14585" y="15337"/>
                  <a:pt x="14585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77684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15875" y="13271"/>
                </a:moveTo>
                <a:cubicBezTo>
                  <a:pt x="15926" y="13434"/>
                  <a:pt x="15972" y="13619"/>
                  <a:pt x="15999" y="13791"/>
                </a:cubicBezTo>
                <a:cubicBezTo>
                  <a:pt x="15999" y="13808"/>
                  <a:pt x="15999" y="13824"/>
                  <a:pt x="1599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464080"/>
            <a:ext cx="13464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5453" y="15230"/>
                </a:moveTo>
                <a:cubicBezTo>
                  <a:pt x="15480" y="15312"/>
                  <a:pt x="15492" y="15152"/>
                  <a:pt x="15577" y="15180"/>
                </a:cubicBezTo>
                <a:cubicBezTo>
                  <a:pt x="15800" y="15255"/>
                  <a:pt x="15706" y="15571"/>
                  <a:pt x="15577" y="15677"/>
                </a:cubicBezTo>
                <a:cubicBezTo>
                  <a:pt x="15552" y="15685"/>
                  <a:pt x="15528" y="15693"/>
                  <a:pt x="15503" y="15701"/>
                </a:cubicBezTo>
                <a:cubicBezTo>
                  <a:pt x="15453" y="15602"/>
                  <a:pt x="15487" y="15570"/>
                  <a:pt x="15627" y="15577"/>
                </a:cubicBezTo>
                <a:cubicBezTo>
                  <a:pt x="15735" y="15599"/>
                  <a:pt x="15761" y="15602"/>
                  <a:pt x="1582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9920" y="548316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5974" y="15230"/>
                </a:moveTo>
                <a:cubicBezTo>
                  <a:pt x="15974" y="15287"/>
                  <a:pt x="15978" y="15361"/>
                  <a:pt x="16024" y="15404"/>
                </a:cubicBezTo>
                <a:cubicBezTo>
                  <a:pt x="16099" y="15475"/>
                  <a:pt x="16166" y="15394"/>
                  <a:pt x="16222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8880" y="558972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106" y="15528"/>
                </a:moveTo>
                <a:cubicBezTo>
                  <a:pt x="15156" y="15528"/>
                  <a:pt x="15205" y="15528"/>
                  <a:pt x="1525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5724360"/>
            <a:ext cx="507960" cy="34920"/>
          </a:xfrm>
          <a:custGeom>
            <a:avLst/>
            <a:gdLst/>
            <a:ahLst/>
            <a:rect l="l" t="t" r="r" b="b"/>
            <a:pathLst>
              <a:path w="1415" h="100">
                <a:moveTo>
                  <a:pt x="15106" y="15999"/>
                </a:moveTo>
                <a:cubicBezTo>
                  <a:pt x="15481" y="15948"/>
                  <a:pt x="15843" y="15904"/>
                  <a:pt x="16222" y="15900"/>
                </a:cubicBezTo>
                <a:cubicBezTo>
                  <a:pt x="16338" y="15899"/>
                  <a:pt x="16610" y="15911"/>
                  <a:pt x="16495" y="15925"/>
                </a:cubicBezTo>
                <a:cubicBezTo>
                  <a:pt x="16487" y="15925"/>
                  <a:pt x="16478" y="15925"/>
                  <a:pt x="16470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7800" y="5133960"/>
            <a:ext cx="115920" cy="322200"/>
          </a:xfrm>
          <a:custGeom>
            <a:avLst/>
            <a:gdLst/>
            <a:ahLst/>
            <a:rect l="l" t="t" r="r" b="b"/>
            <a:pathLst>
              <a:path w="324" h="894">
                <a:moveTo>
                  <a:pt x="15677" y="14288"/>
                </a:moveTo>
                <a:cubicBezTo>
                  <a:pt x="15677" y="14236"/>
                  <a:pt x="15580" y="14505"/>
                  <a:pt x="15577" y="14511"/>
                </a:cubicBezTo>
                <a:cubicBezTo>
                  <a:pt x="15494" y="14696"/>
                  <a:pt x="15400" y="14883"/>
                  <a:pt x="15354" y="15081"/>
                </a:cubicBezTo>
                <a:cubicBezTo>
                  <a:pt x="15346" y="15113"/>
                  <a:pt x="15354" y="15164"/>
                  <a:pt x="15354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73800" y="5205240"/>
            <a:ext cx="81000" cy="152640"/>
          </a:xfrm>
          <a:custGeom>
            <a:avLst/>
            <a:gdLst/>
            <a:ahLst/>
            <a:rect l="l" t="t" r="r" b="b"/>
            <a:pathLst>
              <a:path w="225" h="423">
                <a:moveTo>
                  <a:pt x="15230" y="14461"/>
                </a:moveTo>
                <a:cubicBezTo>
                  <a:pt x="15286" y="14461"/>
                  <a:pt x="15284" y="14465"/>
                  <a:pt x="15304" y="14511"/>
                </a:cubicBezTo>
                <a:cubicBezTo>
                  <a:pt x="15346" y="14608"/>
                  <a:pt x="15275" y="14597"/>
                  <a:pt x="15255" y="14684"/>
                </a:cubicBezTo>
                <a:cubicBezTo>
                  <a:pt x="15241" y="14745"/>
                  <a:pt x="15220" y="14794"/>
                  <a:pt x="15205" y="14858"/>
                </a:cubicBezTo>
                <a:cubicBezTo>
                  <a:pt x="15196" y="14898"/>
                  <a:pt x="15189" y="14822"/>
                  <a:pt x="15205" y="14784"/>
                </a:cubicBezTo>
                <a:cubicBezTo>
                  <a:pt x="15230" y="14723"/>
                  <a:pt x="15277" y="14775"/>
                  <a:pt x="15304" y="14784"/>
                </a:cubicBezTo>
                <a:cubicBezTo>
                  <a:pt x="15367" y="14805"/>
                  <a:pt x="15400" y="14778"/>
                  <a:pt x="15429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5640" y="5170320"/>
            <a:ext cx="3636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15850" y="14387"/>
                </a:moveTo>
                <a:cubicBezTo>
                  <a:pt x="15868" y="14386"/>
                  <a:pt x="15915" y="14599"/>
                  <a:pt x="15925" y="14684"/>
                </a:cubicBezTo>
                <a:cubicBezTo>
                  <a:pt x="15933" y="14754"/>
                  <a:pt x="15902" y="14768"/>
                  <a:pt x="1594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0280" y="5803920"/>
            <a:ext cx="106560" cy="20628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16247" y="16222"/>
                </a:moveTo>
                <a:cubicBezTo>
                  <a:pt x="16185" y="16222"/>
                  <a:pt x="16311" y="16189"/>
                  <a:pt x="16371" y="16173"/>
                </a:cubicBezTo>
                <a:cubicBezTo>
                  <a:pt x="16453" y="16151"/>
                  <a:pt x="16468" y="16162"/>
                  <a:pt x="16520" y="16123"/>
                </a:cubicBezTo>
                <a:cubicBezTo>
                  <a:pt x="16520" y="16260"/>
                  <a:pt x="16513" y="16410"/>
                  <a:pt x="16495" y="16545"/>
                </a:cubicBezTo>
                <a:cubicBezTo>
                  <a:pt x="16474" y="16627"/>
                  <a:pt x="16466" y="16643"/>
                  <a:pt x="1647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99080" y="5840280"/>
            <a:ext cx="61920" cy="125640"/>
          </a:xfrm>
          <a:custGeom>
            <a:avLst/>
            <a:gdLst/>
            <a:ahLst/>
            <a:rect l="l" t="t" r="r" b="b"/>
            <a:pathLst>
              <a:path w="174" h="349">
                <a:moveTo>
                  <a:pt x="15627" y="16222"/>
                </a:moveTo>
                <a:cubicBezTo>
                  <a:pt x="15588" y="16310"/>
                  <a:pt x="15532" y="16421"/>
                  <a:pt x="15553" y="16520"/>
                </a:cubicBezTo>
                <a:cubicBezTo>
                  <a:pt x="15582" y="16550"/>
                  <a:pt x="15596" y="16562"/>
                  <a:pt x="15627" y="16570"/>
                </a:cubicBezTo>
                <a:cubicBezTo>
                  <a:pt x="15715" y="16493"/>
                  <a:pt x="15761" y="16433"/>
                  <a:pt x="15677" y="16321"/>
                </a:cubicBezTo>
                <a:cubicBezTo>
                  <a:pt x="15649" y="16284"/>
                  <a:pt x="15617" y="16297"/>
                  <a:pt x="1557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 improper fra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267080" y="2590920"/>
                <a:ext cx="41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4884840" y="310680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13568" y="8682"/>
                </a:moveTo>
                <a:cubicBezTo>
                  <a:pt x="13649" y="8658"/>
                  <a:pt x="13730" y="8648"/>
                  <a:pt x="13816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94200" y="2133720"/>
            <a:ext cx="1384200" cy="1893600"/>
          </a:xfrm>
          <a:custGeom>
            <a:avLst/>
            <a:gdLst/>
            <a:ahLst/>
            <a:rect l="l" t="t" r="r" b="b"/>
            <a:pathLst>
              <a:path w="3846" h="5260">
                <a:moveTo>
                  <a:pt x="13593" y="8855"/>
                </a:moveTo>
                <a:cubicBezTo>
                  <a:pt x="13717" y="8855"/>
                  <a:pt x="13758" y="8855"/>
                  <a:pt x="13841" y="8855"/>
                </a:cubicBezTo>
              </a:path>
              <a:path w="3846" h="5260">
                <a:moveTo>
                  <a:pt x="16396" y="8210"/>
                </a:moveTo>
                <a:cubicBezTo>
                  <a:pt x="16568" y="8182"/>
                  <a:pt x="16741" y="8136"/>
                  <a:pt x="16917" y="8111"/>
                </a:cubicBezTo>
                <a:cubicBezTo>
                  <a:pt x="16925" y="8111"/>
                  <a:pt x="16934" y="8111"/>
                  <a:pt x="16942" y="8111"/>
                </a:cubicBezTo>
                <a:cubicBezTo>
                  <a:pt x="16870" y="8361"/>
                  <a:pt x="16716" y="8596"/>
                  <a:pt x="16594" y="8830"/>
                </a:cubicBezTo>
                <a:cubicBezTo>
                  <a:pt x="16558" y="8904"/>
                  <a:pt x="16541" y="8908"/>
                  <a:pt x="16545" y="8954"/>
                </a:cubicBezTo>
              </a:path>
              <a:path w="3846" h="5260">
                <a:moveTo>
                  <a:pt x="15925" y="9128"/>
                </a:moveTo>
                <a:cubicBezTo>
                  <a:pt x="15905" y="8846"/>
                  <a:pt x="15847" y="8565"/>
                  <a:pt x="15825" y="8285"/>
                </a:cubicBezTo>
                <a:cubicBezTo>
                  <a:pt x="15824" y="8278"/>
                  <a:pt x="15808" y="7957"/>
                  <a:pt x="15875" y="7938"/>
                </a:cubicBezTo>
                <a:cubicBezTo>
                  <a:pt x="16231" y="7834"/>
                  <a:pt x="16720" y="7854"/>
                  <a:pt x="17090" y="7813"/>
                </a:cubicBezTo>
                <a:cubicBezTo>
                  <a:pt x="17289" y="7794"/>
                  <a:pt x="17321" y="7786"/>
                  <a:pt x="17438" y="7789"/>
                </a:cubicBezTo>
              </a:path>
              <a:path w="3846" h="5260">
                <a:moveTo>
                  <a:pt x="15131" y="8161"/>
                </a:moveTo>
                <a:cubicBezTo>
                  <a:pt x="15021" y="8187"/>
                  <a:pt x="14866" y="8181"/>
                  <a:pt x="14833" y="8260"/>
                </a:cubicBezTo>
                <a:cubicBezTo>
                  <a:pt x="14785" y="8376"/>
                  <a:pt x="14759" y="8482"/>
                  <a:pt x="14759" y="8607"/>
                </a:cubicBezTo>
                <a:cubicBezTo>
                  <a:pt x="14887" y="8567"/>
                  <a:pt x="15269" y="8431"/>
                  <a:pt x="15304" y="8682"/>
                </a:cubicBezTo>
                <a:cubicBezTo>
                  <a:pt x="15355" y="9051"/>
                  <a:pt x="14824" y="9003"/>
                  <a:pt x="14635" y="8979"/>
                </a:cubicBezTo>
              </a:path>
              <a:path w="3846" h="5260">
                <a:moveTo>
                  <a:pt x="16446" y="6548"/>
                </a:moveTo>
                <a:cubicBezTo>
                  <a:pt x="16462" y="6780"/>
                  <a:pt x="16504" y="7011"/>
                  <a:pt x="16520" y="7243"/>
                </a:cubicBezTo>
                <a:cubicBezTo>
                  <a:pt x="16520" y="7334"/>
                  <a:pt x="16520" y="7342"/>
                  <a:pt x="16520" y="7392"/>
                </a:cubicBezTo>
              </a:path>
              <a:path w="3846" h="5260">
                <a:moveTo>
                  <a:pt x="16818" y="9277"/>
                </a:moveTo>
                <a:cubicBezTo>
                  <a:pt x="16712" y="9292"/>
                  <a:pt x="16560" y="9387"/>
                  <a:pt x="16470" y="9451"/>
                </a:cubicBezTo>
                <a:cubicBezTo>
                  <a:pt x="16463" y="9456"/>
                  <a:pt x="16473" y="9677"/>
                  <a:pt x="16470" y="9699"/>
                </a:cubicBezTo>
                <a:cubicBezTo>
                  <a:pt x="16626" y="9699"/>
                  <a:pt x="16785" y="9624"/>
                  <a:pt x="16917" y="9748"/>
                </a:cubicBezTo>
                <a:cubicBezTo>
                  <a:pt x="17134" y="9953"/>
                  <a:pt x="16655" y="10066"/>
                  <a:pt x="16545" y="10096"/>
                </a:cubicBezTo>
              </a:path>
              <a:path w="3846" h="5260">
                <a:moveTo>
                  <a:pt x="16470" y="10592"/>
                </a:moveTo>
                <a:cubicBezTo>
                  <a:pt x="16758" y="10612"/>
                  <a:pt x="16829" y="10670"/>
                  <a:pt x="16991" y="10889"/>
                </a:cubicBezTo>
                <a:cubicBezTo>
                  <a:pt x="16784" y="11073"/>
                  <a:pt x="16638" y="11204"/>
                  <a:pt x="16346" y="11162"/>
                </a:cubicBezTo>
                <a:cubicBezTo>
                  <a:pt x="16530" y="11078"/>
                  <a:pt x="16760" y="10966"/>
                  <a:pt x="16966" y="11088"/>
                </a:cubicBezTo>
                <a:cubicBezTo>
                  <a:pt x="16966" y="11112"/>
                  <a:pt x="16966" y="11120"/>
                  <a:pt x="16966" y="11088"/>
                </a:cubicBezTo>
              </a:path>
              <a:path w="3846" h="5260">
                <a:moveTo>
                  <a:pt x="15652" y="7342"/>
                </a:moveTo>
                <a:cubicBezTo>
                  <a:pt x="15809" y="7466"/>
                  <a:pt x="15995" y="7526"/>
                  <a:pt x="16197" y="7565"/>
                </a:cubicBezTo>
                <a:cubicBezTo>
                  <a:pt x="16459" y="7615"/>
                  <a:pt x="16866" y="7582"/>
                  <a:pt x="17090" y="7417"/>
                </a:cubicBezTo>
                <a:cubicBezTo>
                  <a:pt x="17343" y="7231"/>
                  <a:pt x="17365" y="6869"/>
                  <a:pt x="17264" y="6598"/>
                </a:cubicBezTo>
                <a:cubicBezTo>
                  <a:pt x="17127" y="6232"/>
                  <a:pt x="16836" y="5986"/>
                  <a:pt x="16446" y="5928"/>
                </a:cubicBezTo>
                <a:cubicBezTo>
                  <a:pt x="16029" y="5866"/>
                  <a:pt x="15647" y="6072"/>
                  <a:pt x="15478" y="6449"/>
                </a:cubicBezTo>
                <a:cubicBezTo>
                  <a:pt x="15337" y="6762"/>
                  <a:pt x="15345" y="7209"/>
                  <a:pt x="15627" y="7441"/>
                </a:cubicBezTo>
                <a:cubicBezTo>
                  <a:pt x="15786" y="7572"/>
                  <a:pt x="15941" y="7574"/>
                  <a:pt x="16123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5880" y="2500200"/>
            <a:ext cx="3517920" cy="2921040"/>
          </a:xfrm>
          <a:custGeom>
            <a:avLst/>
            <a:gdLst/>
            <a:ahLst/>
            <a:rect l="l" t="t" r="r" b="b"/>
            <a:pathLst>
              <a:path w="9774" h="8112">
                <a:moveTo>
                  <a:pt x="15875" y="10393"/>
                </a:moveTo>
                <a:cubicBezTo>
                  <a:pt x="16213" y="10330"/>
                  <a:pt x="17071" y="10000"/>
                  <a:pt x="17388" y="10170"/>
                </a:cubicBezTo>
                <a:cubicBezTo>
                  <a:pt x="17355" y="10187"/>
                  <a:pt x="17322" y="10203"/>
                  <a:pt x="17289" y="10220"/>
                </a:cubicBezTo>
              </a:path>
              <a:path w="9774" h="8112">
                <a:moveTo>
                  <a:pt x="18455" y="8334"/>
                </a:moveTo>
                <a:cubicBezTo>
                  <a:pt x="18616" y="8301"/>
                  <a:pt x="18763" y="8270"/>
                  <a:pt x="18926" y="8260"/>
                </a:cubicBezTo>
              </a:path>
              <a:path w="9774" h="8112">
                <a:moveTo>
                  <a:pt x="18479" y="8632"/>
                </a:moveTo>
                <a:cubicBezTo>
                  <a:pt x="18662" y="8625"/>
                  <a:pt x="18842" y="8607"/>
                  <a:pt x="19025" y="8607"/>
                </a:cubicBezTo>
              </a:path>
              <a:path w="9774" h="8112">
                <a:moveTo>
                  <a:pt x="19819" y="7714"/>
                </a:moveTo>
                <a:cubicBezTo>
                  <a:pt x="19858" y="7966"/>
                  <a:pt x="19894" y="8228"/>
                  <a:pt x="19918" y="8483"/>
                </a:cubicBezTo>
                <a:cubicBezTo>
                  <a:pt x="19950" y="8820"/>
                  <a:pt x="19984" y="9162"/>
                  <a:pt x="19993" y="9500"/>
                </a:cubicBezTo>
                <a:cubicBezTo>
                  <a:pt x="19993" y="9542"/>
                  <a:pt x="19993" y="9550"/>
                  <a:pt x="19993" y="9575"/>
                </a:cubicBezTo>
              </a:path>
              <a:path w="9774" h="8112">
                <a:moveTo>
                  <a:pt x="17388" y="10988"/>
                </a:moveTo>
                <a:cubicBezTo>
                  <a:pt x="17451" y="11012"/>
                  <a:pt x="17509" y="11052"/>
                  <a:pt x="17611" y="11063"/>
                </a:cubicBezTo>
                <a:cubicBezTo>
                  <a:pt x="17831" y="11086"/>
                  <a:pt x="18065" y="11062"/>
                  <a:pt x="18281" y="11038"/>
                </a:cubicBezTo>
                <a:cubicBezTo>
                  <a:pt x="18407" y="11024"/>
                  <a:pt x="18527" y="11006"/>
                  <a:pt x="18653" y="10988"/>
                </a:cubicBezTo>
                <a:cubicBezTo>
                  <a:pt x="18833" y="10962"/>
                  <a:pt x="19004" y="10928"/>
                  <a:pt x="19174" y="10864"/>
                </a:cubicBezTo>
                <a:cubicBezTo>
                  <a:pt x="19432" y="10767"/>
                  <a:pt x="19690" y="10678"/>
                  <a:pt x="19943" y="10567"/>
                </a:cubicBezTo>
                <a:cubicBezTo>
                  <a:pt x="20172" y="10467"/>
                  <a:pt x="20409" y="10391"/>
                  <a:pt x="20638" y="10294"/>
                </a:cubicBezTo>
                <a:cubicBezTo>
                  <a:pt x="20834" y="10211"/>
                  <a:pt x="21055" y="10068"/>
                  <a:pt x="21208" y="9922"/>
                </a:cubicBezTo>
                <a:cubicBezTo>
                  <a:pt x="21529" y="9615"/>
                  <a:pt x="21739" y="9175"/>
                  <a:pt x="21704" y="8731"/>
                </a:cubicBezTo>
                <a:cubicBezTo>
                  <a:pt x="21686" y="8508"/>
                  <a:pt x="21633" y="8318"/>
                  <a:pt x="21555" y="8111"/>
                </a:cubicBezTo>
                <a:cubicBezTo>
                  <a:pt x="21501" y="7966"/>
                  <a:pt x="21424" y="7850"/>
                  <a:pt x="21357" y="7714"/>
                </a:cubicBezTo>
                <a:cubicBezTo>
                  <a:pt x="21295" y="7589"/>
                  <a:pt x="21284" y="7448"/>
                  <a:pt x="21183" y="7342"/>
                </a:cubicBezTo>
                <a:cubicBezTo>
                  <a:pt x="21115" y="7271"/>
                  <a:pt x="21008" y="7210"/>
                  <a:pt x="20910" y="7193"/>
                </a:cubicBezTo>
                <a:cubicBezTo>
                  <a:pt x="20805" y="7175"/>
                  <a:pt x="20729" y="7178"/>
                  <a:pt x="20638" y="7218"/>
                </a:cubicBezTo>
                <a:cubicBezTo>
                  <a:pt x="20541" y="7261"/>
                  <a:pt x="20608" y="7248"/>
                  <a:pt x="20563" y="7293"/>
                </a:cubicBezTo>
                <a:cubicBezTo>
                  <a:pt x="20563" y="7301"/>
                  <a:pt x="20563" y="7309"/>
                  <a:pt x="20563" y="7317"/>
                </a:cubicBezTo>
              </a:path>
              <a:path w="9774" h="8112">
                <a:moveTo>
                  <a:pt x="20290" y="6970"/>
                </a:moveTo>
                <a:cubicBezTo>
                  <a:pt x="20241" y="7044"/>
                  <a:pt x="20347" y="6935"/>
                  <a:pt x="20389" y="6945"/>
                </a:cubicBezTo>
                <a:cubicBezTo>
                  <a:pt x="20676" y="7014"/>
                  <a:pt x="20469" y="7368"/>
                  <a:pt x="20340" y="7466"/>
                </a:cubicBezTo>
                <a:cubicBezTo>
                  <a:pt x="20200" y="7572"/>
                  <a:pt x="20191" y="7528"/>
                  <a:pt x="20141" y="7441"/>
                </a:cubicBezTo>
                <a:cubicBezTo>
                  <a:pt x="20232" y="7316"/>
                  <a:pt x="20319" y="7346"/>
                  <a:pt x="20464" y="7392"/>
                </a:cubicBezTo>
                <a:cubicBezTo>
                  <a:pt x="20587" y="7431"/>
                  <a:pt x="20612" y="7437"/>
                  <a:pt x="20638" y="7541"/>
                </a:cubicBezTo>
              </a:path>
              <a:path w="9774" h="8112">
                <a:moveTo>
                  <a:pt x="20191" y="7962"/>
                </a:moveTo>
                <a:cubicBezTo>
                  <a:pt x="20415" y="7895"/>
                  <a:pt x="20654" y="7879"/>
                  <a:pt x="20886" y="7838"/>
                </a:cubicBezTo>
                <a:cubicBezTo>
                  <a:pt x="20960" y="7819"/>
                  <a:pt x="20993" y="7785"/>
                  <a:pt x="20985" y="7838"/>
                </a:cubicBezTo>
              </a:path>
              <a:path w="9774" h="8112">
                <a:moveTo>
                  <a:pt x="14908" y="9227"/>
                </a:moveTo>
                <a:cubicBezTo>
                  <a:pt x="14987" y="9276"/>
                  <a:pt x="15095" y="9326"/>
                  <a:pt x="15180" y="9376"/>
                </a:cubicBezTo>
                <a:cubicBezTo>
                  <a:pt x="15422" y="9519"/>
                  <a:pt x="15648" y="9638"/>
                  <a:pt x="15925" y="9699"/>
                </a:cubicBezTo>
                <a:cubicBezTo>
                  <a:pt x="16235" y="9768"/>
                  <a:pt x="16554" y="9822"/>
                  <a:pt x="16867" y="9872"/>
                </a:cubicBezTo>
                <a:cubicBezTo>
                  <a:pt x="17158" y="9918"/>
                  <a:pt x="17444" y="9949"/>
                  <a:pt x="17735" y="9971"/>
                </a:cubicBezTo>
                <a:cubicBezTo>
                  <a:pt x="18365" y="10019"/>
                  <a:pt x="18930" y="10037"/>
                  <a:pt x="19546" y="9872"/>
                </a:cubicBezTo>
                <a:cubicBezTo>
                  <a:pt x="19880" y="9783"/>
                  <a:pt x="20163" y="9605"/>
                  <a:pt x="20439" y="9401"/>
                </a:cubicBezTo>
                <a:cubicBezTo>
                  <a:pt x="20565" y="9308"/>
                  <a:pt x="20691" y="9197"/>
                  <a:pt x="20762" y="9054"/>
                </a:cubicBezTo>
                <a:cubicBezTo>
                  <a:pt x="20802" y="8973"/>
                  <a:pt x="20826" y="8869"/>
                  <a:pt x="20836" y="8781"/>
                </a:cubicBezTo>
                <a:cubicBezTo>
                  <a:pt x="20842" y="8724"/>
                  <a:pt x="20833" y="8665"/>
                  <a:pt x="20836" y="8607"/>
                </a:cubicBezTo>
              </a:path>
              <a:path w="9774" h="8112">
                <a:moveTo>
                  <a:pt x="20836" y="8136"/>
                </a:moveTo>
                <a:cubicBezTo>
                  <a:pt x="20723" y="8142"/>
                  <a:pt x="20591" y="8122"/>
                  <a:pt x="20563" y="8260"/>
                </a:cubicBezTo>
                <a:cubicBezTo>
                  <a:pt x="20556" y="8293"/>
                  <a:pt x="20563" y="8347"/>
                  <a:pt x="20563" y="8384"/>
                </a:cubicBezTo>
                <a:cubicBezTo>
                  <a:pt x="20676" y="8384"/>
                  <a:pt x="20775" y="8388"/>
                  <a:pt x="20886" y="8409"/>
                </a:cubicBezTo>
                <a:cubicBezTo>
                  <a:pt x="20899" y="8589"/>
                  <a:pt x="20823" y="8630"/>
                  <a:pt x="20638" y="8657"/>
                </a:cubicBezTo>
                <a:cubicBezTo>
                  <a:pt x="20613" y="8657"/>
                  <a:pt x="20588" y="8657"/>
                  <a:pt x="20563" y="8657"/>
                </a:cubicBezTo>
              </a:path>
              <a:path w="9774" h="8112">
                <a:moveTo>
                  <a:pt x="12650" y="12923"/>
                </a:moveTo>
                <a:cubicBezTo>
                  <a:pt x="12725" y="13203"/>
                  <a:pt x="12740" y="13524"/>
                  <a:pt x="12774" y="13816"/>
                </a:cubicBezTo>
                <a:cubicBezTo>
                  <a:pt x="12798" y="14021"/>
                  <a:pt x="12836" y="14279"/>
                  <a:pt x="12799" y="14486"/>
                </a:cubicBezTo>
                <a:cubicBezTo>
                  <a:pt x="12791" y="14486"/>
                  <a:pt x="12782" y="14486"/>
                  <a:pt x="12774" y="14486"/>
                </a:cubicBezTo>
              </a:path>
              <a:path w="9774" h="8112">
                <a:moveTo>
                  <a:pt x="13494" y="12700"/>
                </a:moveTo>
                <a:cubicBezTo>
                  <a:pt x="13622" y="12572"/>
                  <a:pt x="13839" y="12634"/>
                  <a:pt x="13915" y="12824"/>
                </a:cubicBezTo>
                <a:cubicBezTo>
                  <a:pt x="14007" y="13056"/>
                  <a:pt x="13747" y="13322"/>
                  <a:pt x="13519" y="13221"/>
                </a:cubicBezTo>
                <a:cubicBezTo>
                  <a:pt x="13502" y="13196"/>
                  <a:pt x="13486" y="13171"/>
                  <a:pt x="13469" y="13146"/>
                </a:cubicBezTo>
                <a:cubicBezTo>
                  <a:pt x="13613" y="13045"/>
                  <a:pt x="13752" y="13046"/>
                  <a:pt x="13915" y="13122"/>
                </a:cubicBezTo>
                <a:cubicBezTo>
                  <a:pt x="14003" y="13187"/>
                  <a:pt x="14031" y="13197"/>
                  <a:pt x="14039" y="13271"/>
                </a:cubicBezTo>
              </a:path>
              <a:path w="9774" h="8112">
                <a:moveTo>
                  <a:pt x="13419" y="13593"/>
                </a:moveTo>
                <a:cubicBezTo>
                  <a:pt x="13743" y="13574"/>
                  <a:pt x="14246" y="13382"/>
                  <a:pt x="14560" y="13494"/>
                </a:cubicBezTo>
                <a:cubicBezTo>
                  <a:pt x="14544" y="13502"/>
                  <a:pt x="14527" y="13511"/>
                  <a:pt x="14511" y="13519"/>
                </a:cubicBezTo>
              </a:path>
              <a:path w="9774" h="8112">
                <a:moveTo>
                  <a:pt x="13965" y="13692"/>
                </a:moveTo>
                <a:cubicBezTo>
                  <a:pt x="13893" y="13722"/>
                  <a:pt x="13713" y="13746"/>
                  <a:pt x="13692" y="13816"/>
                </a:cubicBezTo>
                <a:cubicBezTo>
                  <a:pt x="13669" y="13894"/>
                  <a:pt x="13642" y="13975"/>
                  <a:pt x="13692" y="14039"/>
                </a:cubicBezTo>
                <a:cubicBezTo>
                  <a:pt x="13809" y="13998"/>
                  <a:pt x="14045" y="13886"/>
                  <a:pt x="14163" y="13990"/>
                </a:cubicBezTo>
                <a:cubicBezTo>
                  <a:pt x="14171" y="14023"/>
                  <a:pt x="14180" y="14056"/>
                  <a:pt x="14188" y="14089"/>
                </a:cubicBezTo>
                <a:cubicBezTo>
                  <a:pt x="14077" y="14296"/>
                  <a:pt x="13973" y="14282"/>
                  <a:pt x="13742" y="14263"/>
                </a:cubicBezTo>
              </a:path>
              <a:path w="9774" h="8112">
                <a:moveTo>
                  <a:pt x="12402" y="14660"/>
                </a:moveTo>
                <a:cubicBezTo>
                  <a:pt x="12619" y="14793"/>
                  <a:pt x="12844" y="14948"/>
                  <a:pt x="13097" y="15007"/>
                </a:cubicBezTo>
                <a:cubicBezTo>
                  <a:pt x="13806" y="15172"/>
                  <a:pt x="14696" y="15024"/>
                  <a:pt x="15280" y="14585"/>
                </a:cubicBezTo>
                <a:cubicBezTo>
                  <a:pt x="15650" y="14306"/>
                  <a:pt x="15642" y="13902"/>
                  <a:pt x="15553" y="13494"/>
                </a:cubicBezTo>
                <a:cubicBezTo>
                  <a:pt x="15466" y="13096"/>
                  <a:pt x="15167" y="12734"/>
                  <a:pt x="14833" y="12502"/>
                </a:cubicBezTo>
                <a:cubicBezTo>
                  <a:pt x="14431" y="12224"/>
                  <a:pt x="13971" y="12142"/>
                  <a:pt x="13494" y="12154"/>
                </a:cubicBezTo>
                <a:cubicBezTo>
                  <a:pt x="13138" y="12163"/>
                  <a:pt x="12719" y="12233"/>
                  <a:pt x="12427" y="12452"/>
                </a:cubicBezTo>
                <a:cubicBezTo>
                  <a:pt x="12151" y="12659"/>
                  <a:pt x="12058" y="12978"/>
                  <a:pt x="11981" y="13295"/>
                </a:cubicBezTo>
                <a:cubicBezTo>
                  <a:pt x="11870" y="13754"/>
                  <a:pt x="12017" y="14015"/>
                  <a:pt x="12328" y="14337"/>
                </a:cubicBezTo>
                <a:cubicBezTo>
                  <a:pt x="12415" y="14427"/>
                  <a:pt x="12539" y="14534"/>
                  <a:pt x="1262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ding mixed numb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 before you at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47920" y="2743200"/>
                <a:ext cx="1066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46120" y="443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768760"/>
                <a:ext cx="129528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78000" y="1955880"/>
            <a:ext cx="2430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6524" y="5457"/>
                </a:moveTo>
                <a:cubicBezTo>
                  <a:pt x="6524" y="5365"/>
                  <a:pt x="6496" y="5589"/>
                  <a:pt x="6499" y="5680"/>
                </a:cubicBezTo>
                <a:cubicBezTo>
                  <a:pt x="6503" y="5796"/>
                  <a:pt x="6545" y="6110"/>
                  <a:pt x="6499" y="6003"/>
                </a:cubicBezTo>
                <a:cubicBezTo>
                  <a:pt x="6491" y="5970"/>
                  <a:pt x="6482" y="5937"/>
                  <a:pt x="6474" y="5904"/>
                </a:cubicBezTo>
              </a:path>
              <a:path w="671" h="646">
                <a:moveTo>
                  <a:pt x="6598" y="5482"/>
                </a:moveTo>
                <a:cubicBezTo>
                  <a:pt x="6502" y="5622"/>
                  <a:pt x="6369" y="5738"/>
                  <a:pt x="6276" y="5879"/>
                </a:cubicBezTo>
                <a:cubicBezTo>
                  <a:pt x="6259" y="5904"/>
                  <a:pt x="6236" y="5912"/>
                  <a:pt x="6226" y="5953"/>
                </a:cubicBezTo>
              </a:path>
              <a:path w="671" h="646">
                <a:moveTo>
                  <a:pt x="6251" y="5606"/>
                </a:moveTo>
                <a:cubicBezTo>
                  <a:pt x="6391" y="5645"/>
                  <a:pt x="6519" y="5733"/>
                  <a:pt x="6648" y="5804"/>
                </a:cubicBezTo>
                <a:cubicBezTo>
                  <a:pt x="6701" y="5833"/>
                  <a:pt x="6709" y="5814"/>
                  <a:pt x="6722" y="5854"/>
                </a:cubicBezTo>
              </a:path>
              <a:path w="671" h="646">
                <a:moveTo>
                  <a:pt x="6052" y="5779"/>
                </a:moveTo>
                <a:cubicBezTo>
                  <a:pt x="6234" y="5729"/>
                  <a:pt x="6414" y="5697"/>
                  <a:pt x="6598" y="5655"/>
                </a:cubicBezTo>
                <a:cubicBezTo>
                  <a:pt x="6655" y="5636"/>
                  <a:pt x="6662" y="5628"/>
                  <a:pt x="6697" y="5631"/>
                </a:cubicBezTo>
              </a:path>
              <a:path w="671" h="646">
                <a:moveTo>
                  <a:pt x="6251" y="5457"/>
                </a:moveTo>
                <a:cubicBezTo>
                  <a:pt x="6349" y="5605"/>
                  <a:pt x="6433" y="5775"/>
                  <a:pt x="6524" y="5928"/>
                </a:cubicBezTo>
                <a:cubicBezTo>
                  <a:pt x="6547" y="5967"/>
                  <a:pt x="6614" y="6050"/>
                  <a:pt x="6623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040" y="1482840"/>
            <a:ext cx="2305080" cy="1884240"/>
          </a:xfrm>
          <a:custGeom>
            <a:avLst/>
            <a:gdLst/>
            <a:ahLst/>
            <a:rect l="l" t="t" r="r" b="b"/>
            <a:pathLst>
              <a:path w="6401" h="5234">
                <a:moveTo>
                  <a:pt x="2158" y="4589"/>
                </a:moveTo>
                <a:lnTo>
                  <a:pt x="2158" y="4589"/>
                </a:lnTo>
              </a:path>
              <a:path w="6401" h="5234">
                <a:moveTo>
                  <a:pt x="1141" y="5358"/>
                </a:moveTo>
                <a:cubicBezTo>
                  <a:pt x="1141" y="5350"/>
                  <a:pt x="1141" y="5341"/>
                  <a:pt x="1141" y="5333"/>
                </a:cubicBezTo>
              </a:path>
              <a:path w="6401" h="5234">
                <a:moveTo>
                  <a:pt x="1141" y="4762"/>
                </a:moveTo>
                <a:lnTo>
                  <a:pt x="1141" y="4762"/>
                </a:lnTo>
                <a:lnTo>
                  <a:pt x="1141" y="4762"/>
                </a:lnTo>
                <a:lnTo>
                  <a:pt x="1141" y="4762"/>
                </a:lnTo>
              </a:path>
              <a:path w="6401" h="5234">
                <a:moveTo>
                  <a:pt x="1116" y="4465"/>
                </a:moveTo>
                <a:cubicBezTo>
                  <a:pt x="1116" y="4457"/>
                  <a:pt x="1116" y="4448"/>
                  <a:pt x="1116" y="4440"/>
                </a:cubicBezTo>
              </a:path>
              <a:path w="6401" h="5234">
                <a:moveTo>
                  <a:pt x="1091" y="4142"/>
                </a:moveTo>
                <a:cubicBezTo>
                  <a:pt x="1091" y="4134"/>
                  <a:pt x="1091" y="4126"/>
                  <a:pt x="1091" y="4118"/>
                </a:cubicBezTo>
              </a:path>
              <a:path w="6401" h="5234">
                <a:moveTo>
                  <a:pt x="6871" y="9351"/>
                </a:moveTo>
                <a:lnTo>
                  <a:pt x="6871" y="9351"/>
                </a:lnTo>
                <a:lnTo>
                  <a:pt x="6871" y="9351"/>
                </a:lnTo>
              </a:path>
              <a:path w="6401" h="5234">
                <a:moveTo>
                  <a:pt x="6871" y="9351"/>
                </a:moveTo>
                <a:lnTo>
                  <a:pt x="6871" y="9351"/>
                </a:lnTo>
              </a:path>
              <a:path w="6401" h="5234">
                <a:moveTo>
                  <a:pt x="7441" y="8855"/>
                </a:moveTo>
                <a:cubicBezTo>
                  <a:pt x="7441" y="8815"/>
                  <a:pt x="7452" y="8796"/>
                  <a:pt x="7491" y="8781"/>
                </a:cubicBezTo>
              </a:path>
              <a:path w="6401" h="5234">
                <a:moveTo>
                  <a:pt x="1488" y="5978"/>
                </a:moveTo>
                <a:lnTo>
                  <a:pt x="1488" y="59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00" y="1285920"/>
            <a:ext cx="1517760" cy="1019160"/>
          </a:xfrm>
          <a:custGeom>
            <a:avLst/>
            <a:gdLst/>
            <a:ahLst/>
            <a:rect l="l" t="t" r="r" b="b"/>
            <a:pathLst>
              <a:path w="4218" h="2829">
                <a:moveTo>
                  <a:pt x="2505" y="5383"/>
                </a:moveTo>
                <a:cubicBezTo>
                  <a:pt x="2505" y="5375"/>
                  <a:pt x="2505" y="5291"/>
                  <a:pt x="2505" y="5358"/>
                </a:cubicBezTo>
                <a:cubicBezTo>
                  <a:pt x="2505" y="5534"/>
                  <a:pt x="2487" y="5704"/>
                  <a:pt x="2480" y="5879"/>
                </a:cubicBezTo>
                <a:cubicBezTo>
                  <a:pt x="2480" y="5887"/>
                  <a:pt x="2480" y="5896"/>
                  <a:pt x="2480" y="5904"/>
                </a:cubicBezTo>
              </a:path>
              <a:path w="4218" h="2829">
                <a:moveTo>
                  <a:pt x="2753" y="5358"/>
                </a:moveTo>
                <a:cubicBezTo>
                  <a:pt x="2790" y="5296"/>
                  <a:pt x="2831" y="5288"/>
                  <a:pt x="2902" y="5259"/>
                </a:cubicBezTo>
                <a:cubicBezTo>
                  <a:pt x="2965" y="5367"/>
                  <a:pt x="2951" y="5461"/>
                  <a:pt x="2828" y="5531"/>
                </a:cubicBezTo>
                <a:cubicBezTo>
                  <a:pt x="2828" y="5523"/>
                  <a:pt x="2828" y="5515"/>
                  <a:pt x="2828" y="5507"/>
                </a:cubicBezTo>
                <a:cubicBezTo>
                  <a:pt x="2934" y="5400"/>
                  <a:pt x="3018" y="5590"/>
                  <a:pt x="3001" y="5705"/>
                </a:cubicBezTo>
                <a:cubicBezTo>
                  <a:pt x="2972" y="5906"/>
                  <a:pt x="2793" y="5860"/>
                  <a:pt x="2704" y="5779"/>
                </a:cubicBezTo>
              </a:path>
              <a:path w="4218" h="2829">
                <a:moveTo>
                  <a:pt x="3423" y="5333"/>
                </a:moveTo>
                <a:cubicBezTo>
                  <a:pt x="3423" y="5444"/>
                  <a:pt x="3430" y="5547"/>
                  <a:pt x="3398" y="5655"/>
                </a:cubicBezTo>
                <a:cubicBezTo>
                  <a:pt x="3390" y="5672"/>
                  <a:pt x="3381" y="5688"/>
                  <a:pt x="3373" y="5705"/>
                </a:cubicBezTo>
              </a:path>
              <a:path w="4218" h="2829">
                <a:moveTo>
                  <a:pt x="3150" y="5507"/>
                </a:moveTo>
                <a:cubicBezTo>
                  <a:pt x="3298" y="5490"/>
                  <a:pt x="3432" y="5460"/>
                  <a:pt x="3572" y="5507"/>
                </a:cubicBezTo>
              </a:path>
              <a:path w="4218" h="2829">
                <a:moveTo>
                  <a:pt x="3870" y="5308"/>
                </a:moveTo>
                <a:cubicBezTo>
                  <a:pt x="3859" y="5442"/>
                  <a:pt x="3755" y="5710"/>
                  <a:pt x="3795" y="5829"/>
                </a:cubicBezTo>
                <a:cubicBezTo>
                  <a:pt x="3812" y="5821"/>
                  <a:pt x="3828" y="5812"/>
                  <a:pt x="3845" y="5804"/>
                </a:cubicBezTo>
              </a:path>
              <a:path w="4218" h="2829">
                <a:moveTo>
                  <a:pt x="4366" y="5333"/>
                </a:moveTo>
                <a:cubicBezTo>
                  <a:pt x="4208" y="5310"/>
                  <a:pt x="4154" y="5350"/>
                  <a:pt x="4018" y="5432"/>
                </a:cubicBezTo>
                <a:cubicBezTo>
                  <a:pt x="4064" y="5510"/>
                  <a:pt x="4321" y="5783"/>
                  <a:pt x="4242" y="5879"/>
                </a:cubicBezTo>
                <a:cubicBezTo>
                  <a:pt x="4125" y="5925"/>
                  <a:pt x="4090" y="5945"/>
                  <a:pt x="4018" y="5879"/>
                </a:cubicBezTo>
                <a:cubicBezTo>
                  <a:pt x="4048" y="5669"/>
                  <a:pt x="4162" y="5615"/>
                  <a:pt x="4291" y="5457"/>
                </a:cubicBezTo>
                <a:cubicBezTo>
                  <a:pt x="4341" y="5396"/>
                  <a:pt x="4321" y="5383"/>
                  <a:pt x="4266" y="5383"/>
                </a:cubicBezTo>
              </a:path>
              <a:path w="4218" h="2829">
                <a:moveTo>
                  <a:pt x="819" y="4142"/>
                </a:moveTo>
                <a:cubicBezTo>
                  <a:pt x="827" y="4134"/>
                  <a:pt x="835" y="4126"/>
                  <a:pt x="843" y="4118"/>
                </a:cubicBezTo>
                <a:cubicBezTo>
                  <a:pt x="872" y="4231"/>
                  <a:pt x="884" y="4385"/>
                  <a:pt x="868" y="4514"/>
                </a:cubicBezTo>
                <a:cubicBezTo>
                  <a:pt x="860" y="4539"/>
                  <a:pt x="851" y="4564"/>
                  <a:pt x="843" y="4589"/>
                </a:cubicBezTo>
              </a:path>
              <a:path w="4218" h="2829">
                <a:moveTo>
                  <a:pt x="1141" y="3994"/>
                </a:moveTo>
                <a:cubicBezTo>
                  <a:pt x="1217" y="3953"/>
                  <a:pt x="1250" y="3932"/>
                  <a:pt x="1339" y="3919"/>
                </a:cubicBezTo>
                <a:cubicBezTo>
                  <a:pt x="1339" y="4074"/>
                  <a:pt x="1307" y="4099"/>
                  <a:pt x="1191" y="4217"/>
                </a:cubicBezTo>
                <a:cubicBezTo>
                  <a:pt x="1213" y="4149"/>
                  <a:pt x="1334" y="4162"/>
                  <a:pt x="1389" y="4217"/>
                </a:cubicBezTo>
                <a:cubicBezTo>
                  <a:pt x="1490" y="4317"/>
                  <a:pt x="1298" y="4498"/>
                  <a:pt x="1191" y="4465"/>
                </a:cubicBezTo>
                <a:cubicBezTo>
                  <a:pt x="1149" y="4423"/>
                  <a:pt x="1141" y="4415"/>
                  <a:pt x="1116" y="4390"/>
                </a:cubicBezTo>
              </a:path>
              <a:path w="4218" h="2829">
                <a:moveTo>
                  <a:pt x="347" y="4787"/>
                </a:moveTo>
                <a:cubicBezTo>
                  <a:pt x="406" y="4846"/>
                  <a:pt x="360" y="4989"/>
                  <a:pt x="347" y="5085"/>
                </a:cubicBezTo>
                <a:cubicBezTo>
                  <a:pt x="347" y="5110"/>
                  <a:pt x="347" y="5118"/>
                  <a:pt x="347" y="5085"/>
                </a:cubicBezTo>
              </a:path>
              <a:path w="4218" h="2829">
                <a:moveTo>
                  <a:pt x="322" y="4911"/>
                </a:moveTo>
                <a:cubicBezTo>
                  <a:pt x="503" y="4872"/>
                  <a:pt x="625" y="4837"/>
                  <a:pt x="794" y="4887"/>
                </a:cubicBezTo>
              </a:path>
              <a:path w="4218" h="2829">
                <a:moveTo>
                  <a:pt x="1017" y="4812"/>
                </a:moveTo>
                <a:cubicBezTo>
                  <a:pt x="984" y="4961"/>
                  <a:pt x="953" y="5107"/>
                  <a:pt x="943" y="5259"/>
                </a:cubicBezTo>
              </a:path>
              <a:path w="4218" h="2829">
                <a:moveTo>
                  <a:pt x="1364" y="4762"/>
                </a:moveTo>
                <a:cubicBezTo>
                  <a:pt x="1292" y="4821"/>
                  <a:pt x="1168" y="4901"/>
                  <a:pt x="1240" y="5011"/>
                </a:cubicBezTo>
                <a:cubicBezTo>
                  <a:pt x="1299" y="5101"/>
                  <a:pt x="1349" y="5154"/>
                  <a:pt x="1389" y="5259"/>
                </a:cubicBezTo>
                <a:cubicBezTo>
                  <a:pt x="1280" y="5259"/>
                  <a:pt x="1168" y="5248"/>
                  <a:pt x="1265" y="5085"/>
                </a:cubicBezTo>
                <a:cubicBezTo>
                  <a:pt x="1278" y="5062"/>
                  <a:pt x="1520" y="4847"/>
                  <a:pt x="1439" y="4837"/>
                </a:cubicBezTo>
                <a:cubicBezTo>
                  <a:pt x="1414" y="4837"/>
                  <a:pt x="1389" y="4837"/>
                  <a:pt x="1364" y="4837"/>
                </a:cubicBezTo>
              </a:path>
              <a:path w="4218" h="2829">
                <a:moveTo>
                  <a:pt x="149" y="5457"/>
                </a:moveTo>
                <a:cubicBezTo>
                  <a:pt x="324" y="5457"/>
                  <a:pt x="492" y="5433"/>
                  <a:pt x="670" y="5432"/>
                </a:cubicBezTo>
                <a:cubicBezTo>
                  <a:pt x="998" y="5429"/>
                  <a:pt x="1338" y="5446"/>
                  <a:pt x="1662" y="5383"/>
                </a:cubicBezTo>
                <a:cubicBezTo>
                  <a:pt x="1654" y="5383"/>
                  <a:pt x="1645" y="5383"/>
                  <a:pt x="1637" y="5383"/>
                </a:cubicBezTo>
              </a:path>
              <a:path w="4218" h="2829">
                <a:moveTo>
                  <a:pt x="1116" y="5184"/>
                </a:moveTo>
                <a:cubicBezTo>
                  <a:pt x="1116" y="5151"/>
                  <a:pt x="1116" y="5135"/>
                  <a:pt x="1116" y="5110"/>
                </a:cubicBezTo>
              </a:path>
              <a:path w="4218" h="2829">
                <a:moveTo>
                  <a:pt x="1141" y="4986"/>
                </a:moveTo>
                <a:cubicBezTo>
                  <a:pt x="1141" y="4961"/>
                  <a:pt x="1141" y="4953"/>
                  <a:pt x="1141" y="4936"/>
                </a:cubicBezTo>
              </a:path>
              <a:path w="4218" h="2829">
                <a:moveTo>
                  <a:pt x="1141" y="4638"/>
                </a:moveTo>
                <a:cubicBezTo>
                  <a:pt x="1141" y="4605"/>
                  <a:pt x="1141" y="4572"/>
                  <a:pt x="1141" y="4539"/>
                </a:cubicBezTo>
              </a:path>
              <a:path w="4218" h="2829">
                <a:moveTo>
                  <a:pt x="1091" y="4316"/>
                </a:moveTo>
                <a:cubicBezTo>
                  <a:pt x="1091" y="4291"/>
                  <a:pt x="1091" y="4283"/>
                  <a:pt x="1091" y="4266"/>
                </a:cubicBezTo>
              </a:path>
              <a:path w="4218" h="2829">
                <a:moveTo>
                  <a:pt x="1091" y="3969"/>
                </a:moveTo>
                <a:cubicBezTo>
                  <a:pt x="1091" y="3944"/>
                  <a:pt x="1091" y="3936"/>
                  <a:pt x="1091" y="3919"/>
                </a:cubicBezTo>
              </a:path>
              <a:path w="4218" h="2829">
                <a:moveTo>
                  <a:pt x="1463" y="5556"/>
                </a:moveTo>
                <a:cubicBezTo>
                  <a:pt x="1471" y="5548"/>
                  <a:pt x="1480" y="5539"/>
                  <a:pt x="1488" y="5531"/>
                </a:cubicBezTo>
                <a:cubicBezTo>
                  <a:pt x="1488" y="5680"/>
                  <a:pt x="1488" y="5829"/>
                  <a:pt x="1488" y="5978"/>
                </a:cubicBezTo>
              </a:path>
              <a:path w="4218" h="2829">
                <a:moveTo>
                  <a:pt x="819" y="3621"/>
                </a:moveTo>
                <a:cubicBezTo>
                  <a:pt x="832" y="3570"/>
                  <a:pt x="843" y="3561"/>
                  <a:pt x="843" y="3621"/>
                </a:cubicBezTo>
                <a:cubicBezTo>
                  <a:pt x="843" y="3653"/>
                  <a:pt x="822" y="3781"/>
                  <a:pt x="868" y="3795"/>
                </a:cubicBezTo>
                <a:cubicBezTo>
                  <a:pt x="913" y="3795"/>
                  <a:pt x="926" y="3792"/>
                  <a:pt x="943" y="3820"/>
                </a:cubicBezTo>
                <a:cubicBezTo>
                  <a:pt x="946" y="3821"/>
                  <a:pt x="1015" y="3869"/>
                  <a:pt x="992" y="3845"/>
                </a:cubicBezTo>
                <a:cubicBezTo>
                  <a:pt x="965" y="3817"/>
                  <a:pt x="881" y="3792"/>
                  <a:pt x="868" y="3746"/>
                </a:cubicBezTo>
                <a:cubicBezTo>
                  <a:pt x="852" y="3690"/>
                  <a:pt x="859" y="3652"/>
                  <a:pt x="843" y="3621"/>
                </a:cubicBezTo>
                <a:cubicBezTo>
                  <a:pt x="843" y="3613"/>
                  <a:pt x="843" y="3605"/>
                  <a:pt x="843" y="3597"/>
                </a:cubicBezTo>
                <a:cubicBezTo>
                  <a:pt x="803" y="3647"/>
                  <a:pt x="749" y="3725"/>
                  <a:pt x="769" y="3795"/>
                </a:cubicBezTo>
                <a:cubicBezTo>
                  <a:pt x="785" y="3851"/>
                  <a:pt x="852" y="3824"/>
                  <a:pt x="868" y="3845"/>
                </a:cubicBezTo>
                <a:cubicBezTo>
                  <a:pt x="872" y="3850"/>
                  <a:pt x="941" y="3877"/>
                  <a:pt x="943" y="3845"/>
                </a:cubicBezTo>
                <a:cubicBezTo>
                  <a:pt x="948" y="3766"/>
                  <a:pt x="860" y="3712"/>
                  <a:pt x="843" y="3646"/>
                </a:cubicBezTo>
                <a:cubicBezTo>
                  <a:pt x="757" y="3676"/>
                  <a:pt x="783" y="3772"/>
                  <a:pt x="819" y="3845"/>
                </a:cubicBezTo>
                <a:cubicBezTo>
                  <a:pt x="841" y="3867"/>
                  <a:pt x="849" y="3872"/>
                  <a:pt x="843" y="3894"/>
                </a:cubicBezTo>
                <a:cubicBezTo>
                  <a:pt x="910" y="3894"/>
                  <a:pt x="898" y="3884"/>
                  <a:pt x="868" y="3820"/>
                </a:cubicBezTo>
                <a:cubicBezTo>
                  <a:pt x="841" y="3762"/>
                  <a:pt x="810" y="3699"/>
                  <a:pt x="794" y="3646"/>
                </a:cubicBezTo>
                <a:cubicBezTo>
                  <a:pt x="794" y="3621"/>
                  <a:pt x="794" y="3613"/>
                  <a:pt x="794" y="3597"/>
                </a:cubicBezTo>
                <a:cubicBezTo>
                  <a:pt x="786" y="3673"/>
                  <a:pt x="730" y="3869"/>
                  <a:pt x="843" y="3894"/>
                </a:cubicBezTo>
                <a:cubicBezTo>
                  <a:pt x="868" y="3894"/>
                  <a:pt x="876" y="3894"/>
                  <a:pt x="893" y="3894"/>
                </a:cubicBezTo>
                <a:cubicBezTo>
                  <a:pt x="904" y="3794"/>
                  <a:pt x="900" y="3723"/>
                  <a:pt x="893" y="3621"/>
                </a:cubicBezTo>
                <a:cubicBezTo>
                  <a:pt x="889" y="3566"/>
                  <a:pt x="892" y="3560"/>
                  <a:pt x="843" y="3597"/>
                </a:cubicBezTo>
              </a:path>
              <a:path w="4218" h="2829">
                <a:moveTo>
                  <a:pt x="992" y="5606"/>
                </a:moveTo>
                <a:cubicBezTo>
                  <a:pt x="1005" y="5566"/>
                  <a:pt x="1039" y="5560"/>
                  <a:pt x="1091" y="5556"/>
                </a:cubicBezTo>
                <a:cubicBezTo>
                  <a:pt x="1204" y="5547"/>
                  <a:pt x="1112" y="5697"/>
                  <a:pt x="1091" y="5730"/>
                </a:cubicBezTo>
                <a:cubicBezTo>
                  <a:pt x="1047" y="5798"/>
                  <a:pt x="1030" y="5713"/>
                  <a:pt x="1116" y="5779"/>
                </a:cubicBezTo>
                <a:cubicBezTo>
                  <a:pt x="1212" y="5853"/>
                  <a:pt x="1207" y="5954"/>
                  <a:pt x="1116" y="6028"/>
                </a:cubicBezTo>
                <a:cubicBezTo>
                  <a:pt x="1041" y="6089"/>
                  <a:pt x="975" y="6066"/>
                  <a:pt x="893" y="6052"/>
                </a:cubicBezTo>
              </a:path>
              <a:path w="4218" h="2829">
                <a:moveTo>
                  <a:pt x="695" y="6300"/>
                </a:moveTo>
                <a:cubicBezTo>
                  <a:pt x="851" y="6309"/>
                  <a:pt x="1008" y="6343"/>
                  <a:pt x="1166" y="6325"/>
                </a:cubicBezTo>
                <a:cubicBezTo>
                  <a:pt x="1319" y="6308"/>
                  <a:pt x="1404" y="6299"/>
                  <a:pt x="1488" y="6176"/>
                </a:cubicBezTo>
                <a:cubicBezTo>
                  <a:pt x="1555" y="6077"/>
                  <a:pt x="1563" y="6072"/>
                  <a:pt x="1563" y="5953"/>
                </a:cubicBezTo>
                <a:cubicBezTo>
                  <a:pt x="1563" y="5881"/>
                  <a:pt x="1543" y="5789"/>
                  <a:pt x="1513" y="5730"/>
                </a:cubicBezTo>
                <a:cubicBezTo>
                  <a:pt x="1491" y="5687"/>
                  <a:pt x="1439" y="5648"/>
                  <a:pt x="1414" y="5606"/>
                </a:cubicBezTo>
                <a:cubicBezTo>
                  <a:pt x="1393" y="5570"/>
                  <a:pt x="1392" y="5521"/>
                  <a:pt x="1364" y="5482"/>
                </a:cubicBezTo>
                <a:cubicBezTo>
                  <a:pt x="1341" y="5449"/>
                  <a:pt x="1351" y="5399"/>
                  <a:pt x="1315" y="5383"/>
                </a:cubicBezTo>
                <a:cubicBezTo>
                  <a:pt x="1239" y="5350"/>
                  <a:pt x="1066" y="5387"/>
                  <a:pt x="992" y="5407"/>
                </a:cubicBezTo>
                <a:cubicBezTo>
                  <a:pt x="879" y="5437"/>
                  <a:pt x="795" y="5491"/>
                  <a:pt x="719" y="5581"/>
                </a:cubicBezTo>
                <a:cubicBezTo>
                  <a:pt x="632" y="5683"/>
                  <a:pt x="645" y="5805"/>
                  <a:pt x="645" y="5928"/>
                </a:cubicBezTo>
                <a:cubicBezTo>
                  <a:pt x="645" y="6104"/>
                  <a:pt x="668" y="6156"/>
                  <a:pt x="769" y="6276"/>
                </a:cubicBezTo>
                <a:cubicBezTo>
                  <a:pt x="848" y="6371"/>
                  <a:pt x="933" y="6415"/>
                  <a:pt x="1067" y="6400"/>
                </a:cubicBezTo>
                <a:cubicBezTo>
                  <a:pt x="1139" y="6392"/>
                  <a:pt x="1359" y="6376"/>
                  <a:pt x="1414" y="6325"/>
                </a:cubicBezTo>
                <a:cubicBezTo>
                  <a:pt x="1433" y="6308"/>
                  <a:pt x="1426" y="6227"/>
                  <a:pt x="1439" y="6201"/>
                </a:cubicBezTo>
                <a:cubicBezTo>
                  <a:pt x="1454" y="6171"/>
                  <a:pt x="1447" y="6180"/>
                  <a:pt x="146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27200" y="316080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7045" y="9376"/>
                </a:moveTo>
                <a:cubicBezTo>
                  <a:pt x="7026" y="9434"/>
                  <a:pt x="7017" y="9440"/>
                  <a:pt x="7020" y="9475"/>
                </a:cubicBezTo>
                <a:cubicBezTo>
                  <a:pt x="7111" y="9498"/>
                  <a:pt x="7173" y="9478"/>
                  <a:pt x="7144" y="9351"/>
                </a:cubicBezTo>
                <a:cubicBezTo>
                  <a:pt x="7137" y="9320"/>
                  <a:pt x="7083" y="9304"/>
                  <a:pt x="7069" y="9277"/>
                </a:cubicBezTo>
                <a:cubicBezTo>
                  <a:pt x="7201" y="9277"/>
                  <a:pt x="7194" y="9322"/>
                  <a:pt x="7293" y="9351"/>
                </a:cubicBezTo>
                <a:cubicBezTo>
                  <a:pt x="7356" y="9370"/>
                  <a:pt x="7293" y="9219"/>
                  <a:pt x="7293" y="9153"/>
                </a:cubicBezTo>
                <a:cubicBezTo>
                  <a:pt x="7348" y="9209"/>
                  <a:pt x="7378" y="9270"/>
                  <a:pt x="7466" y="9252"/>
                </a:cubicBezTo>
                <a:cubicBezTo>
                  <a:pt x="7530" y="9220"/>
                  <a:pt x="7550" y="9197"/>
                  <a:pt x="7541" y="9128"/>
                </a:cubicBezTo>
              </a:path>
              <a:path w="646" h="720">
                <a:moveTo>
                  <a:pt x="7541" y="8954"/>
                </a:moveTo>
                <a:cubicBezTo>
                  <a:pt x="7533" y="8954"/>
                  <a:pt x="7524" y="8954"/>
                  <a:pt x="7516" y="8954"/>
                </a:cubicBezTo>
                <a:cubicBezTo>
                  <a:pt x="7550" y="9000"/>
                  <a:pt x="7643" y="9009"/>
                  <a:pt x="7665" y="9079"/>
                </a:cubicBezTo>
                <a:cubicBezTo>
                  <a:pt x="7682" y="9133"/>
                  <a:pt x="7589" y="9143"/>
                  <a:pt x="7565" y="9153"/>
                </a:cubicBezTo>
              </a:path>
              <a:path w="646" h="720">
                <a:moveTo>
                  <a:pt x="7516" y="8905"/>
                </a:moveTo>
                <a:cubicBezTo>
                  <a:pt x="7516" y="8872"/>
                  <a:pt x="7516" y="8839"/>
                  <a:pt x="7516" y="8806"/>
                </a:cubicBezTo>
                <a:cubicBezTo>
                  <a:pt x="7431" y="8788"/>
                  <a:pt x="7428" y="8857"/>
                  <a:pt x="7441" y="8930"/>
                </a:cubicBezTo>
                <a:cubicBezTo>
                  <a:pt x="7441" y="8958"/>
                  <a:pt x="7444" y="8968"/>
                  <a:pt x="7466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71800" y="4741920"/>
            <a:ext cx="144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5755" y="13171"/>
                </a:moveTo>
                <a:cubicBezTo>
                  <a:pt x="5755" y="13204"/>
                  <a:pt x="5755" y="13221"/>
                  <a:pt x="575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2080" y="444672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5730" y="12353"/>
                </a:moveTo>
                <a:cubicBezTo>
                  <a:pt x="5730" y="12378"/>
                  <a:pt x="5730" y="12386"/>
                  <a:pt x="5730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24040" y="3394080"/>
            <a:ext cx="793800" cy="428760"/>
          </a:xfrm>
          <a:custGeom>
            <a:avLst/>
            <a:gdLst/>
            <a:ahLst/>
            <a:rect l="l" t="t" r="r" b="b"/>
            <a:pathLst>
              <a:path w="2209" h="1191">
                <a:moveTo>
                  <a:pt x="4961" y="10368"/>
                </a:moveTo>
                <a:cubicBezTo>
                  <a:pt x="4952" y="10373"/>
                  <a:pt x="4861" y="10416"/>
                  <a:pt x="4837" y="10443"/>
                </a:cubicBezTo>
                <a:cubicBezTo>
                  <a:pt x="4794" y="10506"/>
                  <a:pt x="4778" y="10518"/>
                  <a:pt x="4787" y="10567"/>
                </a:cubicBezTo>
                <a:cubicBezTo>
                  <a:pt x="4905" y="10645"/>
                  <a:pt x="4954" y="10619"/>
                  <a:pt x="4986" y="10468"/>
                </a:cubicBezTo>
                <a:cubicBezTo>
                  <a:pt x="5000" y="10400"/>
                  <a:pt x="4955" y="10401"/>
                  <a:pt x="4887" y="10418"/>
                </a:cubicBezTo>
                <a:cubicBezTo>
                  <a:pt x="4974" y="10374"/>
                  <a:pt x="4909" y="10136"/>
                  <a:pt x="4986" y="10195"/>
                </a:cubicBezTo>
                <a:cubicBezTo>
                  <a:pt x="5014" y="10217"/>
                  <a:pt x="5060" y="10307"/>
                  <a:pt x="5085" y="10344"/>
                </a:cubicBezTo>
                <a:cubicBezTo>
                  <a:pt x="5063" y="10296"/>
                  <a:pt x="4999" y="10223"/>
                  <a:pt x="5011" y="10170"/>
                </a:cubicBezTo>
                <a:cubicBezTo>
                  <a:pt x="5023" y="10114"/>
                  <a:pt x="5110" y="10052"/>
                  <a:pt x="5159" y="10120"/>
                </a:cubicBezTo>
                <a:cubicBezTo>
                  <a:pt x="5179" y="10181"/>
                  <a:pt x="5177" y="10196"/>
                  <a:pt x="5209" y="10220"/>
                </a:cubicBezTo>
                <a:cubicBezTo>
                  <a:pt x="5296" y="10099"/>
                  <a:pt x="5291" y="10043"/>
                  <a:pt x="5234" y="9947"/>
                </a:cubicBezTo>
                <a:cubicBezTo>
                  <a:pt x="5238" y="10009"/>
                  <a:pt x="5210" y="10113"/>
                  <a:pt x="5308" y="10096"/>
                </a:cubicBezTo>
                <a:cubicBezTo>
                  <a:pt x="5421" y="10076"/>
                  <a:pt x="5386" y="9877"/>
                  <a:pt x="5407" y="9798"/>
                </a:cubicBezTo>
                <a:cubicBezTo>
                  <a:pt x="5427" y="9720"/>
                  <a:pt x="5483" y="9739"/>
                  <a:pt x="5531" y="9798"/>
                </a:cubicBezTo>
                <a:cubicBezTo>
                  <a:pt x="5539" y="9814"/>
                  <a:pt x="5548" y="9831"/>
                  <a:pt x="5556" y="9847"/>
                </a:cubicBezTo>
                <a:cubicBezTo>
                  <a:pt x="5522" y="9881"/>
                  <a:pt x="5501" y="9889"/>
                  <a:pt x="5457" y="9872"/>
                </a:cubicBezTo>
                <a:cubicBezTo>
                  <a:pt x="5536" y="9764"/>
                  <a:pt x="5571" y="9683"/>
                  <a:pt x="5581" y="9525"/>
                </a:cubicBezTo>
                <a:cubicBezTo>
                  <a:pt x="5581" y="9473"/>
                  <a:pt x="5579" y="9457"/>
                  <a:pt x="5531" y="9500"/>
                </a:cubicBezTo>
              </a:path>
              <a:path w="2209" h="1191">
                <a:moveTo>
                  <a:pt x="5655" y="10542"/>
                </a:moveTo>
                <a:cubicBezTo>
                  <a:pt x="5686" y="10434"/>
                  <a:pt x="5750" y="10297"/>
                  <a:pt x="5804" y="10195"/>
                </a:cubicBezTo>
                <a:cubicBezTo>
                  <a:pt x="5880" y="10050"/>
                  <a:pt x="5979" y="9921"/>
                  <a:pt x="6052" y="9773"/>
                </a:cubicBezTo>
                <a:cubicBezTo>
                  <a:pt x="6075" y="9726"/>
                  <a:pt x="6110" y="9692"/>
                  <a:pt x="6127" y="9649"/>
                </a:cubicBezTo>
              </a:path>
              <a:path w="2209" h="1191">
                <a:moveTo>
                  <a:pt x="6127" y="10021"/>
                </a:moveTo>
                <a:cubicBezTo>
                  <a:pt x="6141" y="10106"/>
                  <a:pt x="6161" y="10215"/>
                  <a:pt x="6201" y="10294"/>
                </a:cubicBezTo>
                <a:cubicBezTo>
                  <a:pt x="6236" y="10363"/>
                  <a:pt x="6392" y="10407"/>
                  <a:pt x="6350" y="10294"/>
                </a:cubicBezTo>
                <a:cubicBezTo>
                  <a:pt x="6333" y="10269"/>
                  <a:pt x="6317" y="10245"/>
                  <a:pt x="6300" y="10220"/>
                </a:cubicBezTo>
              </a:path>
              <a:path w="2209" h="1191">
                <a:moveTo>
                  <a:pt x="6102" y="10220"/>
                </a:moveTo>
                <a:cubicBezTo>
                  <a:pt x="6028" y="10238"/>
                  <a:pt x="5995" y="10220"/>
                  <a:pt x="6003" y="10269"/>
                </a:cubicBezTo>
                <a:cubicBezTo>
                  <a:pt x="6109" y="10210"/>
                  <a:pt x="6165" y="10167"/>
                  <a:pt x="6201" y="10046"/>
                </a:cubicBezTo>
                <a:cubicBezTo>
                  <a:pt x="6212" y="10008"/>
                  <a:pt x="6243" y="9986"/>
                  <a:pt x="6251" y="9971"/>
                </a:cubicBezTo>
                <a:cubicBezTo>
                  <a:pt x="6274" y="9926"/>
                  <a:pt x="6289" y="9960"/>
                  <a:pt x="6325" y="9996"/>
                </a:cubicBezTo>
                <a:cubicBezTo>
                  <a:pt x="6333" y="9996"/>
                  <a:pt x="6342" y="9996"/>
                  <a:pt x="6350" y="9996"/>
                </a:cubicBezTo>
                <a:cubicBezTo>
                  <a:pt x="6350" y="9947"/>
                  <a:pt x="6329" y="9879"/>
                  <a:pt x="6375" y="9847"/>
                </a:cubicBezTo>
                <a:cubicBezTo>
                  <a:pt x="6391" y="9839"/>
                  <a:pt x="6408" y="9831"/>
                  <a:pt x="6424" y="9823"/>
                </a:cubicBezTo>
              </a:path>
              <a:path w="2209" h="1191">
                <a:moveTo>
                  <a:pt x="6524" y="9798"/>
                </a:moveTo>
                <a:cubicBezTo>
                  <a:pt x="6468" y="9817"/>
                  <a:pt x="6457" y="9847"/>
                  <a:pt x="6449" y="9922"/>
                </a:cubicBezTo>
                <a:cubicBezTo>
                  <a:pt x="6449" y="9938"/>
                  <a:pt x="6449" y="9955"/>
                  <a:pt x="6449" y="9971"/>
                </a:cubicBezTo>
                <a:cubicBezTo>
                  <a:pt x="6564" y="9960"/>
                  <a:pt x="6574" y="9937"/>
                  <a:pt x="6548" y="9823"/>
                </a:cubicBezTo>
                <a:cubicBezTo>
                  <a:pt x="6560" y="9869"/>
                  <a:pt x="6606" y="9910"/>
                  <a:pt x="6623" y="9823"/>
                </a:cubicBezTo>
                <a:cubicBezTo>
                  <a:pt x="6636" y="9757"/>
                  <a:pt x="6650" y="9705"/>
                  <a:pt x="6672" y="9798"/>
                </a:cubicBezTo>
                <a:cubicBezTo>
                  <a:pt x="6672" y="9748"/>
                  <a:pt x="6672" y="9699"/>
                  <a:pt x="6672" y="9649"/>
                </a:cubicBezTo>
                <a:cubicBezTo>
                  <a:pt x="6733" y="9666"/>
                  <a:pt x="6763" y="9689"/>
                  <a:pt x="6821" y="9723"/>
                </a:cubicBezTo>
              </a:path>
              <a:path w="2209" h="1191">
                <a:moveTo>
                  <a:pt x="6672" y="9674"/>
                </a:moveTo>
                <a:cubicBezTo>
                  <a:pt x="6618" y="9674"/>
                  <a:pt x="6599" y="9680"/>
                  <a:pt x="6548" y="9699"/>
                </a:cubicBezTo>
                <a:cubicBezTo>
                  <a:pt x="6558" y="9793"/>
                  <a:pt x="6579" y="9840"/>
                  <a:pt x="6623" y="9922"/>
                </a:cubicBezTo>
                <a:cubicBezTo>
                  <a:pt x="6743" y="9882"/>
                  <a:pt x="6783" y="9804"/>
                  <a:pt x="6846" y="9699"/>
                </a:cubicBezTo>
              </a:path>
              <a:path w="2209" h="1191">
                <a:moveTo>
                  <a:pt x="6747" y="9426"/>
                </a:moveTo>
                <a:cubicBezTo>
                  <a:pt x="6792" y="9516"/>
                  <a:pt x="6862" y="9615"/>
                  <a:pt x="6896" y="9699"/>
                </a:cubicBezTo>
              </a:path>
              <a:path w="2209" h="1191">
                <a:moveTo>
                  <a:pt x="6772" y="9525"/>
                </a:moveTo>
                <a:cubicBezTo>
                  <a:pt x="6784" y="9518"/>
                  <a:pt x="6911" y="9414"/>
                  <a:pt x="6945" y="9451"/>
                </a:cubicBezTo>
                <a:cubicBezTo>
                  <a:pt x="6984" y="9494"/>
                  <a:pt x="6988" y="9532"/>
                  <a:pt x="6970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4800" y="3848040"/>
            <a:ext cx="44280" cy="1455840"/>
          </a:xfrm>
          <a:custGeom>
            <a:avLst/>
            <a:gdLst/>
            <a:ahLst/>
            <a:rect l="l" t="t" r="r" b="b"/>
            <a:pathLst>
              <a:path w="125" h="4044">
                <a:moveTo>
                  <a:pt x="5705" y="10691"/>
                </a:moveTo>
                <a:cubicBezTo>
                  <a:pt x="5691" y="10747"/>
                  <a:pt x="5688" y="10740"/>
                  <a:pt x="5680" y="10815"/>
                </a:cubicBezTo>
              </a:path>
              <a:path w="125" h="4044">
                <a:moveTo>
                  <a:pt x="5705" y="11187"/>
                </a:moveTo>
                <a:lnTo>
                  <a:pt x="5705" y="11187"/>
                </a:lnTo>
              </a:path>
              <a:path w="125" h="4044">
                <a:moveTo>
                  <a:pt x="5705" y="11832"/>
                </a:moveTo>
                <a:lnTo>
                  <a:pt x="5705" y="11832"/>
                </a:lnTo>
                <a:lnTo>
                  <a:pt x="5705" y="11832"/>
                </a:lnTo>
              </a:path>
              <a:path w="125" h="4044">
                <a:moveTo>
                  <a:pt x="5730" y="13816"/>
                </a:moveTo>
                <a:cubicBezTo>
                  <a:pt x="5730" y="13859"/>
                  <a:pt x="5736" y="13884"/>
                  <a:pt x="5755" y="13915"/>
                </a:cubicBezTo>
              </a:path>
              <a:path w="125" h="4044">
                <a:moveTo>
                  <a:pt x="5755" y="14288"/>
                </a:moveTo>
                <a:cubicBezTo>
                  <a:pt x="5755" y="14296"/>
                  <a:pt x="5755" y="14304"/>
                  <a:pt x="5755" y="14312"/>
                </a:cubicBezTo>
              </a:path>
              <a:path w="125" h="4044">
                <a:moveTo>
                  <a:pt x="5804" y="14734"/>
                </a:moveTo>
                <a:cubicBezTo>
                  <a:pt x="5796" y="14734"/>
                  <a:pt x="5787" y="14734"/>
                  <a:pt x="5779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509760"/>
            <a:ext cx="2178000" cy="5151240"/>
          </a:xfrm>
          <a:custGeom>
            <a:avLst/>
            <a:gdLst/>
            <a:ahLst/>
            <a:rect l="l" t="t" r="r" b="b"/>
            <a:pathLst>
              <a:path w="6053" h="14313">
                <a:moveTo>
                  <a:pt x="943" y="1588"/>
                </a:moveTo>
                <a:cubicBezTo>
                  <a:pt x="979" y="1521"/>
                  <a:pt x="1016" y="1471"/>
                  <a:pt x="1067" y="1414"/>
                </a:cubicBezTo>
              </a:path>
              <a:path w="6053" h="14313">
                <a:moveTo>
                  <a:pt x="6995" y="15726"/>
                </a:moveTo>
                <a:lnTo>
                  <a:pt x="6995" y="157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581040"/>
            <a:ext cx="465120" cy="704880"/>
          </a:xfrm>
          <a:custGeom>
            <a:avLst/>
            <a:gdLst/>
            <a:ahLst/>
            <a:rect l="l" t="t" r="r" b="b"/>
            <a:pathLst>
              <a:path w="1291" h="1961">
                <a:moveTo>
                  <a:pt x="620" y="3200"/>
                </a:moveTo>
                <a:cubicBezTo>
                  <a:pt x="662" y="3283"/>
                  <a:pt x="658" y="3333"/>
                  <a:pt x="744" y="3398"/>
                </a:cubicBezTo>
                <a:cubicBezTo>
                  <a:pt x="818" y="3325"/>
                  <a:pt x="881" y="3218"/>
                  <a:pt x="744" y="3175"/>
                </a:cubicBezTo>
                <a:cubicBezTo>
                  <a:pt x="700" y="3175"/>
                  <a:pt x="686" y="3172"/>
                  <a:pt x="670" y="3200"/>
                </a:cubicBezTo>
                <a:cubicBezTo>
                  <a:pt x="710" y="3110"/>
                  <a:pt x="747" y="2979"/>
                  <a:pt x="769" y="2877"/>
                </a:cubicBezTo>
                <a:cubicBezTo>
                  <a:pt x="769" y="2861"/>
                  <a:pt x="769" y="2844"/>
                  <a:pt x="769" y="2828"/>
                </a:cubicBezTo>
                <a:cubicBezTo>
                  <a:pt x="873" y="2884"/>
                  <a:pt x="868" y="2878"/>
                  <a:pt x="918" y="3001"/>
                </a:cubicBezTo>
                <a:cubicBezTo>
                  <a:pt x="880" y="2889"/>
                  <a:pt x="855" y="2772"/>
                  <a:pt x="843" y="2654"/>
                </a:cubicBezTo>
                <a:cubicBezTo>
                  <a:pt x="862" y="2666"/>
                  <a:pt x="954" y="2740"/>
                  <a:pt x="967" y="2729"/>
                </a:cubicBezTo>
                <a:cubicBezTo>
                  <a:pt x="1019" y="2683"/>
                  <a:pt x="994" y="2507"/>
                  <a:pt x="967" y="2456"/>
                </a:cubicBezTo>
                <a:cubicBezTo>
                  <a:pt x="959" y="2456"/>
                  <a:pt x="951" y="2456"/>
                  <a:pt x="943" y="2456"/>
                </a:cubicBezTo>
                <a:cubicBezTo>
                  <a:pt x="958" y="2516"/>
                  <a:pt x="981" y="2547"/>
                  <a:pt x="1017" y="2604"/>
                </a:cubicBezTo>
                <a:cubicBezTo>
                  <a:pt x="1083" y="2550"/>
                  <a:pt x="1112" y="2434"/>
                  <a:pt x="1091" y="2332"/>
                </a:cubicBezTo>
                <a:cubicBezTo>
                  <a:pt x="1088" y="2318"/>
                  <a:pt x="1040" y="2257"/>
                  <a:pt x="1067" y="2232"/>
                </a:cubicBezTo>
                <a:cubicBezTo>
                  <a:pt x="1103" y="2198"/>
                  <a:pt x="1287" y="2231"/>
                  <a:pt x="1265" y="2282"/>
                </a:cubicBezTo>
                <a:cubicBezTo>
                  <a:pt x="1265" y="2317"/>
                  <a:pt x="1256" y="2330"/>
                  <a:pt x="1215" y="2332"/>
                </a:cubicBezTo>
              </a:path>
              <a:path w="1291" h="1961">
                <a:moveTo>
                  <a:pt x="1240" y="3299"/>
                </a:moveTo>
                <a:cubicBezTo>
                  <a:pt x="1203" y="3360"/>
                  <a:pt x="1196" y="3479"/>
                  <a:pt x="1240" y="3547"/>
                </a:cubicBezTo>
                <a:cubicBezTo>
                  <a:pt x="1281" y="3567"/>
                  <a:pt x="1287" y="3576"/>
                  <a:pt x="1315" y="3572"/>
                </a:cubicBezTo>
                <a:cubicBezTo>
                  <a:pt x="1361" y="3408"/>
                  <a:pt x="1216" y="3353"/>
                  <a:pt x="1215" y="3349"/>
                </a:cubicBezTo>
                <a:cubicBezTo>
                  <a:pt x="1206" y="3290"/>
                  <a:pt x="1285" y="3125"/>
                  <a:pt x="1364" y="3175"/>
                </a:cubicBezTo>
                <a:cubicBezTo>
                  <a:pt x="1387" y="3189"/>
                  <a:pt x="1448" y="3282"/>
                  <a:pt x="1463" y="3299"/>
                </a:cubicBezTo>
                <a:cubicBezTo>
                  <a:pt x="1417" y="3176"/>
                  <a:pt x="1401" y="3080"/>
                  <a:pt x="1389" y="2952"/>
                </a:cubicBezTo>
                <a:cubicBezTo>
                  <a:pt x="1430" y="3004"/>
                  <a:pt x="1537" y="3207"/>
                  <a:pt x="1563" y="3026"/>
                </a:cubicBezTo>
                <a:cubicBezTo>
                  <a:pt x="1563" y="2866"/>
                  <a:pt x="1568" y="2821"/>
                  <a:pt x="1513" y="2729"/>
                </a:cubicBezTo>
                <a:cubicBezTo>
                  <a:pt x="1598" y="2812"/>
                  <a:pt x="1654" y="2865"/>
                  <a:pt x="1687" y="2679"/>
                </a:cubicBezTo>
                <a:cubicBezTo>
                  <a:pt x="1692" y="2653"/>
                  <a:pt x="1623" y="2200"/>
                  <a:pt x="1761" y="2431"/>
                </a:cubicBezTo>
                <a:cubicBezTo>
                  <a:pt x="1783" y="2467"/>
                  <a:pt x="1747" y="2525"/>
                  <a:pt x="1736" y="2555"/>
                </a:cubicBezTo>
                <a:cubicBezTo>
                  <a:pt x="1768" y="2492"/>
                  <a:pt x="1846" y="2388"/>
                  <a:pt x="1836" y="2307"/>
                </a:cubicBezTo>
                <a:cubicBezTo>
                  <a:pt x="1819" y="2266"/>
                  <a:pt x="1803" y="2224"/>
                  <a:pt x="1786" y="2183"/>
                </a:cubicBezTo>
              </a:path>
              <a:path w="1291" h="1961">
                <a:moveTo>
                  <a:pt x="719" y="3373"/>
                </a:moveTo>
                <a:cubicBezTo>
                  <a:pt x="804" y="3121"/>
                  <a:pt x="946" y="2892"/>
                  <a:pt x="1067" y="2654"/>
                </a:cubicBezTo>
                <a:cubicBezTo>
                  <a:pt x="1094" y="2600"/>
                  <a:pt x="1245" y="2262"/>
                  <a:pt x="1265" y="2282"/>
                </a:cubicBezTo>
              </a:path>
              <a:path w="1291" h="1961">
                <a:moveTo>
                  <a:pt x="769" y="3274"/>
                </a:moveTo>
                <a:cubicBezTo>
                  <a:pt x="805" y="3042"/>
                  <a:pt x="863" y="2777"/>
                  <a:pt x="943" y="2555"/>
                </a:cubicBezTo>
                <a:cubicBezTo>
                  <a:pt x="975" y="2466"/>
                  <a:pt x="1034" y="2256"/>
                  <a:pt x="1091" y="2332"/>
                </a:cubicBezTo>
                <a:cubicBezTo>
                  <a:pt x="1091" y="2340"/>
                  <a:pt x="1091" y="2348"/>
                  <a:pt x="1091" y="2356"/>
                </a:cubicBezTo>
              </a:path>
              <a:path w="1291" h="1961">
                <a:moveTo>
                  <a:pt x="571" y="2232"/>
                </a:moveTo>
                <a:cubicBezTo>
                  <a:pt x="647" y="2271"/>
                  <a:pt x="711" y="2400"/>
                  <a:pt x="769" y="2480"/>
                </a:cubicBezTo>
              </a:path>
              <a:path w="1291" h="1961">
                <a:moveTo>
                  <a:pt x="546" y="2480"/>
                </a:moveTo>
                <a:cubicBezTo>
                  <a:pt x="623" y="2395"/>
                  <a:pt x="685" y="2302"/>
                  <a:pt x="769" y="2232"/>
                </a:cubicBezTo>
                <a:cubicBezTo>
                  <a:pt x="810" y="2198"/>
                  <a:pt x="819" y="2184"/>
                  <a:pt x="819" y="2133"/>
                </a:cubicBezTo>
                <a:cubicBezTo>
                  <a:pt x="819" y="2092"/>
                  <a:pt x="819" y="2084"/>
                  <a:pt x="819" y="2059"/>
                </a:cubicBezTo>
                <a:cubicBezTo>
                  <a:pt x="769" y="2059"/>
                  <a:pt x="716" y="2097"/>
                  <a:pt x="719" y="2158"/>
                </a:cubicBezTo>
                <a:cubicBezTo>
                  <a:pt x="723" y="2229"/>
                  <a:pt x="818" y="2254"/>
                  <a:pt x="868" y="2282"/>
                </a:cubicBezTo>
                <a:cubicBezTo>
                  <a:pt x="946" y="2185"/>
                  <a:pt x="992" y="2128"/>
                  <a:pt x="943" y="2009"/>
                </a:cubicBezTo>
                <a:cubicBezTo>
                  <a:pt x="943" y="1971"/>
                  <a:pt x="949" y="2069"/>
                  <a:pt x="992" y="2108"/>
                </a:cubicBezTo>
                <a:cubicBezTo>
                  <a:pt x="1000" y="2108"/>
                  <a:pt x="1009" y="2108"/>
                  <a:pt x="1017" y="2108"/>
                </a:cubicBezTo>
                <a:cubicBezTo>
                  <a:pt x="990" y="2028"/>
                  <a:pt x="954" y="1902"/>
                  <a:pt x="893" y="1836"/>
                </a:cubicBezTo>
                <a:cubicBezTo>
                  <a:pt x="885" y="1836"/>
                  <a:pt x="876" y="1836"/>
                  <a:pt x="868" y="1836"/>
                </a:cubicBezTo>
                <a:cubicBezTo>
                  <a:pt x="943" y="1890"/>
                  <a:pt x="1020" y="1932"/>
                  <a:pt x="1116" y="1960"/>
                </a:cubicBezTo>
                <a:cubicBezTo>
                  <a:pt x="1158" y="1960"/>
                  <a:pt x="1166" y="1943"/>
                  <a:pt x="1141" y="1885"/>
                </a:cubicBezTo>
              </a:path>
              <a:path w="1291" h="1961">
                <a:moveTo>
                  <a:pt x="967" y="1612"/>
                </a:moveTo>
                <a:cubicBezTo>
                  <a:pt x="1019" y="1664"/>
                  <a:pt x="1103" y="1600"/>
                  <a:pt x="1191" y="1637"/>
                </a:cubicBezTo>
                <a:cubicBezTo>
                  <a:pt x="1335" y="1697"/>
                  <a:pt x="1195" y="1772"/>
                  <a:pt x="1166" y="1786"/>
                </a:cubicBezTo>
                <a:cubicBezTo>
                  <a:pt x="1158" y="1794"/>
                  <a:pt x="1149" y="1803"/>
                  <a:pt x="1141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9800" y="2589120"/>
            <a:ext cx="293400" cy="322200"/>
          </a:xfrm>
          <a:custGeom>
            <a:avLst/>
            <a:gdLst/>
            <a:ahLst/>
            <a:rect l="l" t="t" r="r" b="b"/>
            <a:pathLst>
              <a:path w="819" h="894">
                <a:moveTo>
                  <a:pt x="3225" y="7441"/>
                </a:moveTo>
                <a:cubicBezTo>
                  <a:pt x="3225" y="7433"/>
                  <a:pt x="3225" y="7425"/>
                  <a:pt x="3225" y="7417"/>
                </a:cubicBezTo>
                <a:cubicBezTo>
                  <a:pt x="3283" y="7515"/>
                  <a:pt x="3249" y="7671"/>
                  <a:pt x="3249" y="7789"/>
                </a:cubicBezTo>
                <a:cubicBezTo>
                  <a:pt x="3249" y="7846"/>
                  <a:pt x="3266" y="7871"/>
                  <a:pt x="3225" y="7863"/>
                </a:cubicBezTo>
              </a:path>
              <a:path w="819" h="894">
                <a:moveTo>
                  <a:pt x="2877" y="7838"/>
                </a:moveTo>
                <a:cubicBezTo>
                  <a:pt x="2922" y="7928"/>
                  <a:pt x="2964" y="7997"/>
                  <a:pt x="3076" y="8012"/>
                </a:cubicBezTo>
                <a:cubicBezTo>
                  <a:pt x="3250" y="8035"/>
                  <a:pt x="3375" y="7976"/>
                  <a:pt x="3497" y="7863"/>
                </a:cubicBezTo>
                <a:cubicBezTo>
                  <a:pt x="3603" y="7765"/>
                  <a:pt x="3642" y="7688"/>
                  <a:pt x="3621" y="7541"/>
                </a:cubicBezTo>
                <a:cubicBezTo>
                  <a:pt x="3602" y="7409"/>
                  <a:pt x="3552" y="7365"/>
                  <a:pt x="3448" y="7293"/>
                </a:cubicBezTo>
                <a:cubicBezTo>
                  <a:pt x="3369" y="7238"/>
                  <a:pt x="3202" y="7160"/>
                  <a:pt x="3101" y="7193"/>
                </a:cubicBezTo>
                <a:cubicBezTo>
                  <a:pt x="2980" y="7232"/>
                  <a:pt x="2897" y="7355"/>
                  <a:pt x="2853" y="7466"/>
                </a:cubicBezTo>
                <a:cubicBezTo>
                  <a:pt x="2784" y="7638"/>
                  <a:pt x="2786" y="7771"/>
                  <a:pt x="2853" y="7938"/>
                </a:cubicBezTo>
                <a:cubicBezTo>
                  <a:pt x="2883" y="8014"/>
                  <a:pt x="2942" y="8039"/>
                  <a:pt x="3001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9920" y="3705120"/>
            <a:ext cx="1347840" cy="2287800"/>
          </a:xfrm>
          <a:custGeom>
            <a:avLst/>
            <a:gdLst/>
            <a:ahLst/>
            <a:rect l="l" t="t" r="r" b="b"/>
            <a:pathLst>
              <a:path w="3746" h="6351">
                <a:moveTo>
                  <a:pt x="5011" y="11237"/>
                </a:moveTo>
                <a:cubicBezTo>
                  <a:pt x="5018" y="11165"/>
                  <a:pt x="5026" y="11153"/>
                  <a:pt x="5060" y="11088"/>
                </a:cubicBezTo>
                <a:cubicBezTo>
                  <a:pt x="5094" y="11024"/>
                  <a:pt x="5139" y="11001"/>
                  <a:pt x="5209" y="10988"/>
                </a:cubicBezTo>
                <a:cubicBezTo>
                  <a:pt x="5287" y="10973"/>
                  <a:pt x="5337" y="10998"/>
                  <a:pt x="5383" y="11063"/>
                </a:cubicBezTo>
                <a:cubicBezTo>
                  <a:pt x="5446" y="11153"/>
                  <a:pt x="5398" y="11253"/>
                  <a:pt x="5358" y="11336"/>
                </a:cubicBezTo>
                <a:cubicBezTo>
                  <a:pt x="5310" y="11437"/>
                  <a:pt x="5216" y="11489"/>
                  <a:pt x="5135" y="11559"/>
                </a:cubicBezTo>
                <a:cubicBezTo>
                  <a:pt x="4997" y="11679"/>
                  <a:pt x="4973" y="11822"/>
                  <a:pt x="4911" y="11981"/>
                </a:cubicBezTo>
                <a:cubicBezTo>
                  <a:pt x="4891" y="12021"/>
                  <a:pt x="4883" y="12028"/>
                  <a:pt x="4887" y="12055"/>
                </a:cubicBezTo>
                <a:cubicBezTo>
                  <a:pt x="4902" y="11950"/>
                  <a:pt x="4904" y="11898"/>
                  <a:pt x="5011" y="11832"/>
                </a:cubicBezTo>
                <a:cubicBezTo>
                  <a:pt x="5132" y="11758"/>
                  <a:pt x="5187" y="11826"/>
                  <a:pt x="5259" y="11906"/>
                </a:cubicBezTo>
                <a:cubicBezTo>
                  <a:pt x="5331" y="11986"/>
                  <a:pt x="5406" y="12005"/>
                  <a:pt x="5507" y="11956"/>
                </a:cubicBezTo>
                <a:cubicBezTo>
                  <a:pt x="5597" y="11912"/>
                  <a:pt x="5569" y="11906"/>
                  <a:pt x="5606" y="11857"/>
                </a:cubicBezTo>
              </a:path>
              <a:path w="3746" h="6351">
                <a:moveTo>
                  <a:pt x="6226" y="10691"/>
                </a:moveTo>
                <a:cubicBezTo>
                  <a:pt x="6226" y="10826"/>
                  <a:pt x="6267" y="10954"/>
                  <a:pt x="6276" y="11088"/>
                </a:cubicBezTo>
                <a:cubicBezTo>
                  <a:pt x="6280" y="11151"/>
                  <a:pt x="6276" y="11221"/>
                  <a:pt x="6276" y="11286"/>
                </a:cubicBezTo>
              </a:path>
              <a:path w="3746" h="6351">
                <a:moveTo>
                  <a:pt x="6052" y="11410"/>
                </a:moveTo>
                <a:cubicBezTo>
                  <a:pt x="6227" y="11388"/>
                  <a:pt x="6400" y="11384"/>
                  <a:pt x="6573" y="11361"/>
                </a:cubicBezTo>
                <a:cubicBezTo>
                  <a:pt x="6626" y="11354"/>
                  <a:pt x="6619" y="11372"/>
                  <a:pt x="6648" y="11410"/>
                </a:cubicBezTo>
              </a:path>
              <a:path w="3746" h="6351">
                <a:moveTo>
                  <a:pt x="6226" y="11733"/>
                </a:moveTo>
                <a:cubicBezTo>
                  <a:pt x="6226" y="11658"/>
                  <a:pt x="6213" y="11682"/>
                  <a:pt x="6276" y="11658"/>
                </a:cubicBezTo>
                <a:cubicBezTo>
                  <a:pt x="6301" y="11648"/>
                  <a:pt x="6395" y="11604"/>
                  <a:pt x="6424" y="11633"/>
                </a:cubicBezTo>
                <a:cubicBezTo>
                  <a:pt x="6449" y="11659"/>
                  <a:pt x="6449" y="11718"/>
                  <a:pt x="6449" y="11757"/>
                </a:cubicBezTo>
                <a:cubicBezTo>
                  <a:pt x="6449" y="11817"/>
                  <a:pt x="6388" y="11826"/>
                  <a:pt x="6350" y="11857"/>
                </a:cubicBezTo>
                <a:cubicBezTo>
                  <a:pt x="6281" y="11913"/>
                  <a:pt x="6218" y="11991"/>
                  <a:pt x="6201" y="12080"/>
                </a:cubicBezTo>
                <a:cubicBezTo>
                  <a:pt x="6195" y="12114"/>
                  <a:pt x="6201" y="12166"/>
                  <a:pt x="6201" y="12204"/>
                </a:cubicBezTo>
                <a:cubicBezTo>
                  <a:pt x="6170" y="12113"/>
                  <a:pt x="6207" y="12108"/>
                  <a:pt x="6276" y="12055"/>
                </a:cubicBezTo>
                <a:cubicBezTo>
                  <a:pt x="6328" y="12015"/>
                  <a:pt x="6397" y="12115"/>
                  <a:pt x="6474" y="12129"/>
                </a:cubicBezTo>
                <a:cubicBezTo>
                  <a:pt x="6536" y="12140"/>
                  <a:pt x="6560" y="12142"/>
                  <a:pt x="6573" y="12105"/>
                </a:cubicBezTo>
              </a:path>
              <a:path w="3746" h="6351">
                <a:moveTo>
                  <a:pt x="3820" y="13295"/>
                </a:moveTo>
                <a:cubicBezTo>
                  <a:pt x="3841" y="13471"/>
                  <a:pt x="3845" y="13638"/>
                  <a:pt x="3845" y="13816"/>
                </a:cubicBezTo>
              </a:path>
              <a:path w="3746" h="6351">
                <a:moveTo>
                  <a:pt x="3721" y="13667"/>
                </a:moveTo>
                <a:cubicBezTo>
                  <a:pt x="3874" y="13602"/>
                  <a:pt x="3979" y="13569"/>
                  <a:pt x="4142" y="13543"/>
                </a:cubicBezTo>
                <a:cubicBezTo>
                  <a:pt x="4175" y="13535"/>
                  <a:pt x="4209" y="13527"/>
                  <a:pt x="4242" y="13519"/>
                </a:cubicBezTo>
              </a:path>
              <a:path w="3746" h="6351">
                <a:moveTo>
                  <a:pt x="4986" y="13171"/>
                </a:moveTo>
                <a:cubicBezTo>
                  <a:pt x="5108" y="13096"/>
                  <a:pt x="5171" y="13049"/>
                  <a:pt x="5308" y="13072"/>
                </a:cubicBezTo>
                <a:cubicBezTo>
                  <a:pt x="5343" y="13280"/>
                  <a:pt x="5332" y="13376"/>
                  <a:pt x="5159" y="13519"/>
                </a:cubicBezTo>
                <a:cubicBezTo>
                  <a:pt x="5119" y="13539"/>
                  <a:pt x="5112" y="13547"/>
                  <a:pt x="5085" y="13543"/>
                </a:cubicBezTo>
                <a:cubicBezTo>
                  <a:pt x="5103" y="13491"/>
                  <a:pt x="5225" y="13475"/>
                  <a:pt x="5283" y="13494"/>
                </a:cubicBezTo>
                <a:cubicBezTo>
                  <a:pt x="5489" y="13562"/>
                  <a:pt x="5558" y="13805"/>
                  <a:pt x="5407" y="13965"/>
                </a:cubicBezTo>
                <a:cubicBezTo>
                  <a:pt x="5308" y="14069"/>
                  <a:pt x="5085" y="14138"/>
                  <a:pt x="4961" y="14039"/>
                </a:cubicBezTo>
                <a:cubicBezTo>
                  <a:pt x="4961" y="14031"/>
                  <a:pt x="4961" y="14023"/>
                  <a:pt x="4961" y="14015"/>
                </a:cubicBezTo>
              </a:path>
              <a:path w="3746" h="6351">
                <a:moveTo>
                  <a:pt x="6300" y="12824"/>
                </a:moveTo>
                <a:cubicBezTo>
                  <a:pt x="6243" y="12903"/>
                  <a:pt x="6309" y="13006"/>
                  <a:pt x="6325" y="13097"/>
                </a:cubicBezTo>
                <a:cubicBezTo>
                  <a:pt x="6325" y="13122"/>
                  <a:pt x="6325" y="13130"/>
                  <a:pt x="6325" y="13146"/>
                </a:cubicBezTo>
              </a:path>
              <a:path w="3746" h="6351">
                <a:moveTo>
                  <a:pt x="6127" y="13370"/>
                </a:moveTo>
                <a:cubicBezTo>
                  <a:pt x="6325" y="13334"/>
                  <a:pt x="6524" y="13302"/>
                  <a:pt x="6722" y="13271"/>
                </a:cubicBezTo>
                <a:cubicBezTo>
                  <a:pt x="6730" y="13271"/>
                  <a:pt x="6739" y="13271"/>
                  <a:pt x="6747" y="13271"/>
                </a:cubicBezTo>
              </a:path>
              <a:path w="3746" h="6351">
                <a:moveTo>
                  <a:pt x="6375" y="13692"/>
                </a:moveTo>
                <a:cubicBezTo>
                  <a:pt x="6367" y="13692"/>
                  <a:pt x="6358" y="13692"/>
                  <a:pt x="6350" y="13692"/>
                </a:cubicBezTo>
                <a:cubicBezTo>
                  <a:pt x="6350" y="13586"/>
                  <a:pt x="6360" y="13622"/>
                  <a:pt x="6449" y="13568"/>
                </a:cubicBezTo>
                <a:cubicBezTo>
                  <a:pt x="6492" y="13542"/>
                  <a:pt x="6539" y="13562"/>
                  <a:pt x="6548" y="13618"/>
                </a:cubicBezTo>
                <a:cubicBezTo>
                  <a:pt x="6566" y="13734"/>
                  <a:pt x="6525" y="13764"/>
                  <a:pt x="6449" y="13841"/>
                </a:cubicBezTo>
                <a:cubicBezTo>
                  <a:pt x="6357" y="13934"/>
                  <a:pt x="6297" y="13991"/>
                  <a:pt x="6251" y="14114"/>
                </a:cubicBezTo>
                <a:cubicBezTo>
                  <a:pt x="6231" y="14174"/>
                  <a:pt x="6232" y="14189"/>
                  <a:pt x="6201" y="14213"/>
                </a:cubicBezTo>
                <a:cubicBezTo>
                  <a:pt x="6217" y="14149"/>
                  <a:pt x="6261" y="14098"/>
                  <a:pt x="6325" y="14064"/>
                </a:cubicBezTo>
                <a:cubicBezTo>
                  <a:pt x="6470" y="13989"/>
                  <a:pt x="6490" y="14122"/>
                  <a:pt x="6598" y="14163"/>
                </a:cubicBezTo>
                <a:cubicBezTo>
                  <a:pt x="6668" y="14190"/>
                  <a:pt x="6771" y="14141"/>
                  <a:pt x="6796" y="14089"/>
                </a:cubicBezTo>
              </a:path>
              <a:path w="3746" h="6351">
                <a:moveTo>
                  <a:pt x="3994" y="14858"/>
                </a:moveTo>
                <a:cubicBezTo>
                  <a:pt x="4161" y="14830"/>
                  <a:pt x="4321" y="14821"/>
                  <a:pt x="4490" y="14808"/>
                </a:cubicBezTo>
                <a:cubicBezTo>
                  <a:pt x="4779" y="14785"/>
                  <a:pt x="5069" y="14753"/>
                  <a:pt x="5358" y="14734"/>
                </a:cubicBezTo>
                <a:cubicBezTo>
                  <a:pt x="5601" y="14718"/>
                  <a:pt x="5837" y="14679"/>
                  <a:pt x="6077" y="14635"/>
                </a:cubicBezTo>
                <a:cubicBezTo>
                  <a:pt x="6275" y="14598"/>
                  <a:pt x="6475" y="14568"/>
                  <a:pt x="6672" y="14536"/>
                </a:cubicBezTo>
                <a:cubicBezTo>
                  <a:pt x="6819" y="14512"/>
                  <a:pt x="6975" y="14488"/>
                  <a:pt x="7119" y="14461"/>
                </a:cubicBezTo>
                <a:cubicBezTo>
                  <a:pt x="7212" y="14443"/>
                  <a:pt x="7294" y="14442"/>
                  <a:pt x="7392" y="14436"/>
                </a:cubicBezTo>
                <a:cubicBezTo>
                  <a:pt x="7516" y="14428"/>
                  <a:pt x="7400" y="14443"/>
                  <a:pt x="7466" y="14387"/>
                </a:cubicBezTo>
              </a:path>
              <a:path w="3746" h="6351">
                <a:moveTo>
                  <a:pt x="6226" y="15677"/>
                </a:moveTo>
                <a:cubicBezTo>
                  <a:pt x="6201" y="15677"/>
                  <a:pt x="6193" y="15677"/>
                  <a:pt x="6201" y="15652"/>
                </a:cubicBezTo>
                <a:cubicBezTo>
                  <a:pt x="6307" y="15667"/>
                  <a:pt x="6417" y="15692"/>
                  <a:pt x="6524" y="15701"/>
                </a:cubicBezTo>
                <a:cubicBezTo>
                  <a:pt x="6653" y="15711"/>
                  <a:pt x="6773" y="15699"/>
                  <a:pt x="6896" y="15726"/>
                </a:cubicBezTo>
                <a:cubicBezTo>
                  <a:pt x="6934" y="15734"/>
                  <a:pt x="6981" y="15726"/>
                  <a:pt x="7020" y="15726"/>
                </a:cubicBezTo>
              </a:path>
              <a:path w="3746" h="6351">
                <a:moveTo>
                  <a:pt x="6995" y="15726"/>
                </a:moveTo>
                <a:cubicBezTo>
                  <a:pt x="6928" y="15726"/>
                  <a:pt x="7012" y="15726"/>
                  <a:pt x="7020" y="15726"/>
                </a:cubicBezTo>
              </a:path>
              <a:path w="3746" h="6351">
                <a:moveTo>
                  <a:pt x="6449" y="16024"/>
                </a:moveTo>
                <a:cubicBezTo>
                  <a:pt x="6460" y="16056"/>
                  <a:pt x="6505" y="16053"/>
                  <a:pt x="6524" y="16024"/>
                </a:cubicBezTo>
                <a:cubicBezTo>
                  <a:pt x="6545" y="15993"/>
                  <a:pt x="6591" y="15945"/>
                  <a:pt x="6648" y="15974"/>
                </a:cubicBezTo>
                <a:cubicBezTo>
                  <a:pt x="6691" y="15996"/>
                  <a:pt x="6697" y="16032"/>
                  <a:pt x="6697" y="16073"/>
                </a:cubicBezTo>
                <a:cubicBezTo>
                  <a:pt x="6697" y="16112"/>
                  <a:pt x="6683" y="16149"/>
                  <a:pt x="6648" y="16173"/>
                </a:cubicBezTo>
                <a:cubicBezTo>
                  <a:pt x="6594" y="16210"/>
                  <a:pt x="6553" y="16252"/>
                  <a:pt x="6499" y="16297"/>
                </a:cubicBezTo>
                <a:cubicBezTo>
                  <a:pt x="6457" y="16332"/>
                  <a:pt x="6431" y="16336"/>
                  <a:pt x="6424" y="16396"/>
                </a:cubicBezTo>
                <a:cubicBezTo>
                  <a:pt x="6419" y="16440"/>
                  <a:pt x="6391" y="16429"/>
                  <a:pt x="6449" y="16396"/>
                </a:cubicBezTo>
                <a:cubicBezTo>
                  <a:pt x="6458" y="16391"/>
                  <a:pt x="6554" y="16347"/>
                  <a:pt x="6573" y="16371"/>
                </a:cubicBezTo>
                <a:cubicBezTo>
                  <a:pt x="6590" y="16393"/>
                  <a:pt x="6601" y="16418"/>
                  <a:pt x="6648" y="16421"/>
                </a:cubicBezTo>
                <a:cubicBezTo>
                  <a:pt x="6701" y="16425"/>
                  <a:pt x="6759" y="16409"/>
                  <a:pt x="6772" y="16371"/>
                </a:cubicBezTo>
              </a:path>
              <a:path w="3746" h="6351">
                <a:moveTo>
                  <a:pt x="6474" y="15230"/>
                </a:moveTo>
                <a:cubicBezTo>
                  <a:pt x="6437" y="15174"/>
                  <a:pt x="6486" y="15213"/>
                  <a:pt x="6524" y="15156"/>
                </a:cubicBezTo>
                <a:cubicBezTo>
                  <a:pt x="6545" y="15125"/>
                  <a:pt x="6546" y="15131"/>
                  <a:pt x="6598" y="15131"/>
                </a:cubicBezTo>
                <a:cubicBezTo>
                  <a:pt x="6613" y="15131"/>
                  <a:pt x="6665" y="15180"/>
                  <a:pt x="6672" y="15205"/>
                </a:cubicBezTo>
                <a:cubicBezTo>
                  <a:pt x="6693" y="15280"/>
                  <a:pt x="6616" y="15291"/>
                  <a:pt x="6573" y="15329"/>
                </a:cubicBezTo>
                <a:cubicBezTo>
                  <a:pt x="6530" y="15367"/>
                  <a:pt x="6455" y="15415"/>
                  <a:pt x="6424" y="15453"/>
                </a:cubicBezTo>
                <a:cubicBezTo>
                  <a:pt x="6409" y="15472"/>
                  <a:pt x="6396" y="15563"/>
                  <a:pt x="6375" y="15577"/>
                </a:cubicBezTo>
                <a:cubicBezTo>
                  <a:pt x="6367" y="15577"/>
                  <a:pt x="6358" y="15577"/>
                  <a:pt x="6350" y="15577"/>
                </a:cubicBezTo>
                <a:cubicBezTo>
                  <a:pt x="6363" y="15527"/>
                  <a:pt x="6413" y="15484"/>
                  <a:pt x="6474" y="15503"/>
                </a:cubicBezTo>
                <a:cubicBezTo>
                  <a:pt x="6510" y="15514"/>
                  <a:pt x="6538" y="15567"/>
                  <a:pt x="6573" y="15577"/>
                </a:cubicBezTo>
                <a:cubicBezTo>
                  <a:pt x="6605" y="15586"/>
                  <a:pt x="6723" y="15556"/>
                  <a:pt x="6747" y="15528"/>
                </a:cubicBezTo>
                <a:cubicBezTo>
                  <a:pt x="6747" y="15503"/>
                  <a:pt x="6747" y="15495"/>
                  <a:pt x="6772" y="15503"/>
                </a:cubicBezTo>
              </a:path>
              <a:path w="3746" h="6351">
                <a:moveTo>
                  <a:pt x="6127" y="15205"/>
                </a:moveTo>
                <a:cubicBezTo>
                  <a:pt x="6127" y="15262"/>
                  <a:pt x="6143" y="15301"/>
                  <a:pt x="6152" y="15354"/>
                </a:cubicBezTo>
                <a:cubicBezTo>
                  <a:pt x="6170" y="15462"/>
                  <a:pt x="6207" y="15528"/>
                  <a:pt x="6251" y="15627"/>
                </a:cubicBezTo>
                <a:cubicBezTo>
                  <a:pt x="6292" y="15718"/>
                  <a:pt x="6337" y="15799"/>
                  <a:pt x="6400" y="15875"/>
                </a:cubicBezTo>
                <a:cubicBezTo>
                  <a:pt x="6470" y="15960"/>
                  <a:pt x="6554" y="16040"/>
                  <a:pt x="6623" y="16123"/>
                </a:cubicBezTo>
                <a:cubicBezTo>
                  <a:pt x="6676" y="16187"/>
                  <a:pt x="6720" y="16258"/>
                  <a:pt x="6772" y="16321"/>
                </a:cubicBezTo>
                <a:cubicBezTo>
                  <a:pt x="6824" y="16384"/>
                  <a:pt x="6869" y="16439"/>
                  <a:pt x="6921" y="16495"/>
                </a:cubicBezTo>
                <a:cubicBezTo>
                  <a:pt x="6949" y="16526"/>
                  <a:pt x="6979" y="16554"/>
                  <a:pt x="6995" y="16570"/>
                </a:cubicBezTo>
                <a:cubicBezTo>
                  <a:pt x="6995" y="16594"/>
                  <a:pt x="6995" y="16602"/>
                  <a:pt x="6995" y="16570"/>
                </a:cubicBezTo>
              </a:path>
              <a:path w="3746" h="6351">
                <a:moveTo>
                  <a:pt x="6921" y="15379"/>
                </a:moveTo>
                <a:cubicBezTo>
                  <a:pt x="6898" y="15356"/>
                  <a:pt x="6877" y="15287"/>
                  <a:pt x="6821" y="15329"/>
                </a:cubicBezTo>
                <a:cubicBezTo>
                  <a:pt x="6731" y="15396"/>
                  <a:pt x="6690" y="15540"/>
                  <a:pt x="6623" y="15627"/>
                </a:cubicBezTo>
                <a:cubicBezTo>
                  <a:pt x="6535" y="15741"/>
                  <a:pt x="6457" y="15853"/>
                  <a:pt x="6375" y="15974"/>
                </a:cubicBezTo>
                <a:cubicBezTo>
                  <a:pt x="6276" y="16120"/>
                  <a:pt x="6204" y="16276"/>
                  <a:pt x="6102" y="16421"/>
                </a:cubicBezTo>
                <a:cubicBezTo>
                  <a:pt x="6057" y="16485"/>
                  <a:pt x="6038" y="16557"/>
                  <a:pt x="6003" y="16619"/>
                </a:cubicBezTo>
                <a:cubicBezTo>
                  <a:pt x="5979" y="16662"/>
                  <a:pt x="5982" y="16602"/>
                  <a:pt x="6003" y="16644"/>
                </a:cubicBezTo>
              </a:path>
              <a:path w="3746" h="6351">
                <a:moveTo>
                  <a:pt x="5259" y="10368"/>
                </a:moveTo>
                <a:cubicBezTo>
                  <a:pt x="5259" y="10498"/>
                  <a:pt x="5251" y="10615"/>
                  <a:pt x="5234" y="10740"/>
                </a:cubicBezTo>
                <a:cubicBezTo>
                  <a:pt x="5228" y="10787"/>
                  <a:pt x="5234" y="10841"/>
                  <a:pt x="5234" y="10889"/>
                </a:cubicBezTo>
                <a:cubicBezTo>
                  <a:pt x="5215" y="10796"/>
                  <a:pt x="5219" y="10815"/>
                  <a:pt x="5234" y="10716"/>
                </a:cubicBezTo>
                <a:cubicBezTo>
                  <a:pt x="5242" y="10663"/>
                  <a:pt x="5250" y="10618"/>
                  <a:pt x="5259" y="10567"/>
                </a:cubicBezTo>
                <a:cubicBezTo>
                  <a:pt x="5270" y="10503"/>
                  <a:pt x="5227" y="10314"/>
                  <a:pt x="5283" y="10294"/>
                </a:cubicBezTo>
              </a:path>
              <a:path w="3746" h="6351">
                <a:moveTo>
                  <a:pt x="5283" y="15553"/>
                </a:moveTo>
                <a:cubicBezTo>
                  <a:pt x="5243" y="15684"/>
                  <a:pt x="5219" y="15817"/>
                  <a:pt x="5184" y="15949"/>
                </a:cubicBezTo>
                <a:cubicBezTo>
                  <a:pt x="5163" y="16026"/>
                  <a:pt x="5110" y="16113"/>
                  <a:pt x="5135" y="16197"/>
                </a:cubicBezTo>
                <a:cubicBezTo>
                  <a:pt x="5168" y="16305"/>
                  <a:pt x="5176" y="16320"/>
                  <a:pt x="5283" y="16371"/>
                </a:cubicBezTo>
                <a:cubicBezTo>
                  <a:pt x="5405" y="16429"/>
                  <a:pt x="5452" y="16409"/>
                  <a:pt x="5581" y="16396"/>
                </a:cubicBezTo>
                <a:cubicBezTo>
                  <a:pt x="5648" y="16389"/>
                  <a:pt x="5728" y="16386"/>
                  <a:pt x="5779" y="16346"/>
                </a:cubicBezTo>
                <a:cubicBezTo>
                  <a:pt x="5847" y="16293"/>
                  <a:pt x="5837" y="16256"/>
                  <a:pt x="5829" y="16197"/>
                </a:cubicBezTo>
                <a:cubicBezTo>
                  <a:pt x="5818" y="16118"/>
                  <a:pt x="5785" y="16065"/>
                  <a:pt x="5705" y="16049"/>
                </a:cubicBezTo>
                <a:cubicBezTo>
                  <a:pt x="5661" y="16040"/>
                  <a:pt x="5571" y="16015"/>
                  <a:pt x="5531" y="16049"/>
                </a:cubicBezTo>
                <a:cubicBezTo>
                  <a:pt x="5479" y="16092"/>
                  <a:pt x="5469" y="16186"/>
                  <a:pt x="5482" y="16247"/>
                </a:cubicBezTo>
                <a:cubicBezTo>
                  <a:pt x="5489" y="16279"/>
                  <a:pt x="5514" y="16362"/>
                  <a:pt x="5531" y="16371"/>
                </a:cubicBezTo>
                <a:cubicBezTo>
                  <a:pt x="5539" y="16371"/>
                  <a:pt x="5548" y="16371"/>
                  <a:pt x="555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1187280"/>
            <a:ext cx="54000" cy="22392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091" y="3919"/>
                </a:moveTo>
                <a:lnTo>
                  <a:pt x="1091" y="3919"/>
                </a:lnTo>
              </a:path>
              <a:path w="150" h="621">
                <a:moveTo>
                  <a:pt x="1116" y="3845"/>
                </a:moveTo>
                <a:cubicBezTo>
                  <a:pt x="1096" y="3805"/>
                  <a:pt x="1098" y="3788"/>
                  <a:pt x="1067" y="3795"/>
                </a:cubicBezTo>
              </a:path>
              <a:path w="150" h="621">
                <a:moveTo>
                  <a:pt x="1017" y="3721"/>
                </a:moveTo>
                <a:cubicBezTo>
                  <a:pt x="992" y="3721"/>
                  <a:pt x="984" y="3721"/>
                  <a:pt x="992" y="3696"/>
                </a:cubicBezTo>
              </a:path>
              <a:path w="150" h="621">
                <a:moveTo>
                  <a:pt x="992" y="3696"/>
                </a:moveTo>
                <a:lnTo>
                  <a:pt x="992" y="3696"/>
                </a:lnTo>
              </a:path>
              <a:path w="150" h="621">
                <a:moveTo>
                  <a:pt x="967" y="3646"/>
                </a:moveTo>
                <a:lnTo>
                  <a:pt x="967" y="3646"/>
                </a:lnTo>
              </a:path>
              <a:path w="150" h="621">
                <a:moveTo>
                  <a:pt x="992" y="3572"/>
                </a:moveTo>
                <a:cubicBezTo>
                  <a:pt x="1000" y="3572"/>
                  <a:pt x="1009" y="3572"/>
                  <a:pt x="1017" y="3572"/>
                </a:cubicBezTo>
              </a:path>
              <a:path w="150" h="621">
                <a:moveTo>
                  <a:pt x="1017" y="3423"/>
                </a:moveTo>
                <a:lnTo>
                  <a:pt x="1017" y="3423"/>
                </a:lnTo>
              </a:path>
              <a:path w="150" h="621">
                <a:moveTo>
                  <a:pt x="1017" y="3373"/>
                </a:moveTo>
                <a:lnTo>
                  <a:pt x="1017" y="3373"/>
                </a:lnTo>
              </a:path>
              <a:path w="150" h="621">
                <a:moveTo>
                  <a:pt x="1042" y="3299"/>
                </a:moveTo>
                <a:cubicBezTo>
                  <a:pt x="1034" y="3299"/>
                  <a:pt x="1025" y="3299"/>
                  <a:pt x="1017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0760" y="3044880"/>
            <a:ext cx="1080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7392" y="8458"/>
                </a:moveTo>
                <a:cubicBezTo>
                  <a:pt x="7471" y="8477"/>
                  <a:pt x="7628" y="8453"/>
                  <a:pt x="7689" y="8508"/>
                </a:cubicBezTo>
                <a:cubicBezTo>
                  <a:pt x="7689" y="8516"/>
                  <a:pt x="7689" y="8525"/>
                  <a:pt x="7689" y="8533"/>
                </a:cubicBezTo>
              </a:path>
              <a:path w="298" h="274">
                <a:moveTo>
                  <a:pt x="7392" y="8731"/>
                </a:moveTo>
                <a:cubicBezTo>
                  <a:pt x="7466" y="8731"/>
                  <a:pt x="7541" y="8731"/>
                  <a:pt x="761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4960" y="2884320"/>
            <a:ext cx="250920" cy="393840"/>
          </a:xfrm>
          <a:custGeom>
            <a:avLst/>
            <a:gdLst/>
            <a:ahLst/>
            <a:rect l="l" t="t" r="r" b="b"/>
            <a:pathLst>
              <a:path w="696" h="1092">
                <a:moveTo>
                  <a:pt x="8260" y="8012"/>
                </a:moveTo>
                <a:cubicBezTo>
                  <a:pt x="8218" y="8107"/>
                  <a:pt x="8155" y="8236"/>
                  <a:pt x="8136" y="8334"/>
                </a:cubicBezTo>
                <a:cubicBezTo>
                  <a:pt x="8110" y="8469"/>
                  <a:pt x="8039" y="8604"/>
                  <a:pt x="8012" y="8731"/>
                </a:cubicBezTo>
                <a:cubicBezTo>
                  <a:pt x="7992" y="8827"/>
                  <a:pt x="7979" y="8921"/>
                  <a:pt x="8037" y="9004"/>
                </a:cubicBezTo>
                <a:cubicBezTo>
                  <a:pt x="8068" y="9049"/>
                  <a:pt x="8234" y="9105"/>
                  <a:pt x="8285" y="9103"/>
                </a:cubicBezTo>
                <a:cubicBezTo>
                  <a:pt x="8361" y="9101"/>
                  <a:pt x="8467" y="9069"/>
                  <a:pt x="8533" y="9029"/>
                </a:cubicBezTo>
                <a:cubicBezTo>
                  <a:pt x="8585" y="8998"/>
                  <a:pt x="8626" y="8957"/>
                  <a:pt x="8657" y="8905"/>
                </a:cubicBezTo>
                <a:cubicBezTo>
                  <a:pt x="8695" y="8842"/>
                  <a:pt x="8681" y="8794"/>
                  <a:pt x="8657" y="8731"/>
                </a:cubicBezTo>
                <a:cubicBezTo>
                  <a:pt x="8640" y="8687"/>
                  <a:pt x="8601" y="8650"/>
                  <a:pt x="8558" y="8632"/>
                </a:cubicBezTo>
                <a:cubicBezTo>
                  <a:pt x="8503" y="8609"/>
                  <a:pt x="8458" y="8593"/>
                  <a:pt x="8409" y="8632"/>
                </a:cubicBezTo>
                <a:cubicBezTo>
                  <a:pt x="8355" y="8676"/>
                  <a:pt x="8362" y="8720"/>
                  <a:pt x="8359" y="8781"/>
                </a:cubicBezTo>
                <a:cubicBezTo>
                  <a:pt x="8355" y="8850"/>
                  <a:pt x="8358" y="8892"/>
                  <a:pt x="8384" y="8954"/>
                </a:cubicBezTo>
                <a:cubicBezTo>
                  <a:pt x="8400" y="8992"/>
                  <a:pt x="8407" y="9020"/>
                  <a:pt x="843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4240" y="2536920"/>
            <a:ext cx="500040" cy="463320"/>
          </a:xfrm>
          <a:custGeom>
            <a:avLst/>
            <a:gdLst/>
            <a:ahLst/>
            <a:rect l="l" t="t" r="r" b="b"/>
            <a:pathLst>
              <a:path w="1390" h="1290">
                <a:moveTo>
                  <a:pt x="12452" y="7466"/>
                </a:moveTo>
                <a:cubicBezTo>
                  <a:pt x="12471" y="7370"/>
                  <a:pt x="12516" y="7356"/>
                  <a:pt x="12601" y="7317"/>
                </a:cubicBezTo>
                <a:cubicBezTo>
                  <a:pt x="12735" y="7480"/>
                  <a:pt x="12730" y="7719"/>
                  <a:pt x="12551" y="7888"/>
                </a:cubicBezTo>
                <a:cubicBezTo>
                  <a:pt x="12449" y="7914"/>
                  <a:pt x="12414" y="7921"/>
                  <a:pt x="12353" y="7863"/>
                </a:cubicBezTo>
                <a:cubicBezTo>
                  <a:pt x="12412" y="7713"/>
                  <a:pt x="12553" y="7781"/>
                  <a:pt x="12675" y="7813"/>
                </a:cubicBezTo>
                <a:cubicBezTo>
                  <a:pt x="12733" y="7832"/>
                  <a:pt x="12758" y="7823"/>
                  <a:pt x="12750" y="7863"/>
                </a:cubicBezTo>
              </a:path>
              <a:path w="1390" h="1290">
                <a:moveTo>
                  <a:pt x="12204" y="8161"/>
                </a:moveTo>
                <a:cubicBezTo>
                  <a:pt x="12419" y="8244"/>
                  <a:pt x="12585" y="8257"/>
                  <a:pt x="12799" y="8136"/>
                </a:cubicBezTo>
                <a:cubicBezTo>
                  <a:pt x="12985" y="8031"/>
                  <a:pt x="13136" y="7755"/>
                  <a:pt x="13122" y="7541"/>
                </a:cubicBezTo>
                <a:cubicBezTo>
                  <a:pt x="13107" y="7306"/>
                  <a:pt x="12954" y="7155"/>
                  <a:pt x="12750" y="7069"/>
                </a:cubicBezTo>
                <a:cubicBezTo>
                  <a:pt x="12566" y="6991"/>
                  <a:pt x="12352" y="7078"/>
                  <a:pt x="12179" y="7144"/>
                </a:cubicBezTo>
                <a:cubicBezTo>
                  <a:pt x="11931" y="7239"/>
                  <a:pt x="11725" y="7396"/>
                  <a:pt x="11733" y="7689"/>
                </a:cubicBezTo>
                <a:cubicBezTo>
                  <a:pt x="11740" y="7961"/>
                  <a:pt x="11924" y="8227"/>
                  <a:pt x="12179" y="8310"/>
                </a:cubicBezTo>
                <a:cubicBezTo>
                  <a:pt x="12329" y="8359"/>
                  <a:pt x="12516" y="8333"/>
                  <a:pt x="12650" y="8260"/>
                </a:cubicBezTo>
                <a:cubicBezTo>
                  <a:pt x="12650" y="8252"/>
                  <a:pt x="12650" y="8243"/>
                  <a:pt x="12650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3751200"/>
            <a:ext cx="1278000" cy="1982880"/>
          </a:xfrm>
          <a:custGeom>
            <a:avLst/>
            <a:gdLst/>
            <a:ahLst/>
            <a:rect l="l" t="t" r="r" b="b"/>
            <a:pathLst>
              <a:path w="3548" h="5508">
                <a:moveTo>
                  <a:pt x="13990" y="10964"/>
                </a:moveTo>
                <a:cubicBezTo>
                  <a:pt x="14044" y="11087"/>
                  <a:pt x="14000" y="11274"/>
                  <a:pt x="13965" y="11410"/>
                </a:cubicBezTo>
                <a:cubicBezTo>
                  <a:pt x="13957" y="11427"/>
                  <a:pt x="13948" y="11443"/>
                  <a:pt x="13940" y="11460"/>
                </a:cubicBezTo>
                <a:cubicBezTo>
                  <a:pt x="13959" y="11308"/>
                  <a:pt x="14057" y="11361"/>
                  <a:pt x="14188" y="11385"/>
                </a:cubicBezTo>
                <a:cubicBezTo>
                  <a:pt x="14287" y="11403"/>
                  <a:pt x="14318" y="11405"/>
                  <a:pt x="14387" y="11460"/>
                </a:cubicBezTo>
              </a:path>
              <a:path w="3548" h="5508">
                <a:moveTo>
                  <a:pt x="14288" y="10790"/>
                </a:moveTo>
                <a:cubicBezTo>
                  <a:pt x="14361" y="11053"/>
                  <a:pt x="14358" y="11336"/>
                  <a:pt x="14387" y="11609"/>
                </a:cubicBezTo>
                <a:cubicBezTo>
                  <a:pt x="14408" y="11774"/>
                  <a:pt x="14416" y="11806"/>
                  <a:pt x="14412" y="11906"/>
                </a:cubicBezTo>
              </a:path>
              <a:path w="3548" h="5508">
                <a:moveTo>
                  <a:pt x="14833" y="10666"/>
                </a:moveTo>
                <a:cubicBezTo>
                  <a:pt x="14852" y="10619"/>
                  <a:pt x="14891" y="10563"/>
                  <a:pt x="14932" y="10542"/>
                </a:cubicBezTo>
                <a:cubicBezTo>
                  <a:pt x="14973" y="10522"/>
                  <a:pt x="14979" y="10513"/>
                  <a:pt x="15007" y="10517"/>
                </a:cubicBezTo>
                <a:cubicBezTo>
                  <a:pt x="15042" y="10655"/>
                  <a:pt x="15024" y="10697"/>
                  <a:pt x="14957" y="10815"/>
                </a:cubicBezTo>
                <a:cubicBezTo>
                  <a:pt x="14920" y="10881"/>
                  <a:pt x="14829" y="11109"/>
                  <a:pt x="14759" y="11137"/>
                </a:cubicBezTo>
                <a:cubicBezTo>
                  <a:pt x="14712" y="11156"/>
                  <a:pt x="14760" y="11031"/>
                  <a:pt x="14808" y="11013"/>
                </a:cubicBezTo>
                <a:cubicBezTo>
                  <a:pt x="14933" y="10966"/>
                  <a:pt x="15045" y="11057"/>
                  <a:pt x="15156" y="10964"/>
                </a:cubicBezTo>
              </a:path>
              <a:path w="3548" h="5508">
                <a:moveTo>
                  <a:pt x="14709" y="11361"/>
                </a:moveTo>
                <a:cubicBezTo>
                  <a:pt x="14864" y="11306"/>
                  <a:pt x="15014" y="11253"/>
                  <a:pt x="15180" y="11237"/>
                </a:cubicBezTo>
                <a:cubicBezTo>
                  <a:pt x="15255" y="11237"/>
                  <a:pt x="15263" y="11237"/>
                  <a:pt x="15304" y="11237"/>
                </a:cubicBezTo>
              </a:path>
              <a:path w="3548" h="5508">
                <a:moveTo>
                  <a:pt x="15156" y="11509"/>
                </a:moveTo>
                <a:cubicBezTo>
                  <a:pt x="15059" y="11547"/>
                  <a:pt x="14988" y="11584"/>
                  <a:pt x="14883" y="11584"/>
                </a:cubicBezTo>
                <a:cubicBezTo>
                  <a:pt x="14875" y="11584"/>
                  <a:pt x="14866" y="11584"/>
                  <a:pt x="14858" y="11584"/>
                </a:cubicBezTo>
                <a:cubicBezTo>
                  <a:pt x="14870" y="11645"/>
                  <a:pt x="14883" y="11691"/>
                  <a:pt x="14883" y="11757"/>
                </a:cubicBezTo>
                <a:cubicBezTo>
                  <a:pt x="14883" y="11774"/>
                  <a:pt x="14883" y="11790"/>
                  <a:pt x="14883" y="11807"/>
                </a:cubicBezTo>
                <a:cubicBezTo>
                  <a:pt x="14938" y="11752"/>
                  <a:pt x="15015" y="11671"/>
                  <a:pt x="15106" y="11708"/>
                </a:cubicBezTo>
                <a:cubicBezTo>
                  <a:pt x="15249" y="11766"/>
                  <a:pt x="15157" y="11967"/>
                  <a:pt x="15081" y="12030"/>
                </a:cubicBezTo>
                <a:cubicBezTo>
                  <a:pt x="14990" y="12106"/>
                  <a:pt x="14957" y="12069"/>
                  <a:pt x="14858" y="12055"/>
                </a:cubicBezTo>
              </a:path>
              <a:path w="3548" h="5508">
                <a:moveTo>
                  <a:pt x="13444" y="12898"/>
                </a:moveTo>
                <a:cubicBezTo>
                  <a:pt x="13460" y="12951"/>
                  <a:pt x="13558" y="13276"/>
                  <a:pt x="13494" y="13320"/>
                </a:cubicBezTo>
                <a:cubicBezTo>
                  <a:pt x="13477" y="13312"/>
                  <a:pt x="13461" y="13303"/>
                  <a:pt x="13444" y="13295"/>
                </a:cubicBezTo>
              </a:path>
              <a:path w="3548" h="5508">
                <a:moveTo>
                  <a:pt x="13295" y="13047"/>
                </a:moveTo>
                <a:cubicBezTo>
                  <a:pt x="13447" y="13047"/>
                  <a:pt x="13592" y="13031"/>
                  <a:pt x="13742" y="13022"/>
                </a:cubicBezTo>
                <a:cubicBezTo>
                  <a:pt x="13750" y="13022"/>
                  <a:pt x="13759" y="13022"/>
                  <a:pt x="13767" y="13022"/>
                </a:cubicBezTo>
              </a:path>
              <a:path w="3548" h="5508">
                <a:moveTo>
                  <a:pt x="14486" y="12799"/>
                </a:moveTo>
                <a:cubicBezTo>
                  <a:pt x="14302" y="12820"/>
                  <a:pt x="14207" y="12838"/>
                  <a:pt x="14114" y="12998"/>
                </a:cubicBezTo>
                <a:cubicBezTo>
                  <a:pt x="14245" y="13129"/>
                  <a:pt x="14394" y="13237"/>
                  <a:pt x="14362" y="13444"/>
                </a:cubicBezTo>
                <a:cubicBezTo>
                  <a:pt x="14345" y="13469"/>
                  <a:pt x="14329" y="13494"/>
                  <a:pt x="14312" y="13519"/>
                </a:cubicBezTo>
                <a:cubicBezTo>
                  <a:pt x="14176" y="13444"/>
                  <a:pt x="14146" y="13395"/>
                  <a:pt x="14213" y="13246"/>
                </a:cubicBezTo>
                <a:cubicBezTo>
                  <a:pt x="14263" y="13134"/>
                  <a:pt x="14450" y="12941"/>
                  <a:pt x="14461" y="12824"/>
                </a:cubicBezTo>
                <a:cubicBezTo>
                  <a:pt x="14436" y="12824"/>
                  <a:pt x="14428" y="12824"/>
                  <a:pt x="14412" y="12824"/>
                </a:cubicBezTo>
              </a:path>
              <a:path w="3548" h="5508">
                <a:moveTo>
                  <a:pt x="14908" y="12650"/>
                </a:moveTo>
                <a:cubicBezTo>
                  <a:pt x="14934" y="12599"/>
                  <a:pt x="15043" y="12538"/>
                  <a:pt x="15106" y="12601"/>
                </a:cubicBezTo>
                <a:cubicBezTo>
                  <a:pt x="15167" y="12662"/>
                  <a:pt x="15030" y="12753"/>
                  <a:pt x="15007" y="12774"/>
                </a:cubicBezTo>
                <a:cubicBezTo>
                  <a:pt x="14999" y="12774"/>
                  <a:pt x="14990" y="12774"/>
                  <a:pt x="14982" y="12774"/>
                </a:cubicBezTo>
                <a:cubicBezTo>
                  <a:pt x="15055" y="12774"/>
                  <a:pt x="15140" y="12773"/>
                  <a:pt x="15180" y="12849"/>
                </a:cubicBezTo>
                <a:cubicBezTo>
                  <a:pt x="15231" y="12945"/>
                  <a:pt x="15030" y="12982"/>
                  <a:pt x="14982" y="12998"/>
                </a:cubicBezTo>
              </a:path>
              <a:path w="3548" h="5508">
                <a:moveTo>
                  <a:pt x="14808" y="13246"/>
                </a:moveTo>
                <a:cubicBezTo>
                  <a:pt x="14984" y="13224"/>
                  <a:pt x="15151" y="13161"/>
                  <a:pt x="15329" y="13146"/>
                </a:cubicBezTo>
                <a:cubicBezTo>
                  <a:pt x="15437" y="13146"/>
                  <a:pt x="15445" y="13146"/>
                  <a:pt x="15503" y="13146"/>
                </a:cubicBezTo>
              </a:path>
              <a:path w="3548" h="5508">
                <a:moveTo>
                  <a:pt x="15032" y="13543"/>
                </a:moveTo>
                <a:cubicBezTo>
                  <a:pt x="15032" y="13662"/>
                  <a:pt x="15000" y="13774"/>
                  <a:pt x="14982" y="13891"/>
                </a:cubicBezTo>
                <a:cubicBezTo>
                  <a:pt x="14982" y="13941"/>
                  <a:pt x="14988" y="13924"/>
                  <a:pt x="15007" y="13816"/>
                </a:cubicBezTo>
              </a:path>
              <a:path w="3548" h="5508">
                <a:moveTo>
                  <a:pt x="15304" y="13444"/>
                </a:moveTo>
                <a:cubicBezTo>
                  <a:pt x="15262" y="13579"/>
                  <a:pt x="15230" y="13672"/>
                  <a:pt x="15230" y="13816"/>
                </a:cubicBezTo>
                <a:cubicBezTo>
                  <a:pt x="15346" y="13809"/>
                  <a:pt x="15550" y="13802"/>
                  <a:pt x="15503" y="13618"/>
                </a:cubicBezTo>
                <a:cubicBezTo>
                  <a:pt x="15480" y="13528"/>
                  <a:pt x="15423" y="13527"/>
                  <a:pt x="15354" y="13519"/>
                </a:cubicBezTo>
              </a:path>
              <a:path w="3548" h="5508">
                <a:moveTo>
                  <a:pt x="13072" y="14387"/>
                </a:moveTo>
                <a:cubicBezTo>
                  <a:pt x="13341" y="14358"/>
                  <a:pt x="13594" y="14329"/>
                  <a:pt x="13866" y="14288"/>
                </a:cubicBezTo>
                <a:cubicBezTo>
                  <a:pt x="14498" y="14192"/>
                  <a:pt x="15134" y="14039"/>
                  <a:pt x="15776" y="14039"/>
                </a:cubicBezTo>
                <a:cubicBezTo>
                  <a:pt x="15912" y="14039"/>
                  <a:pt x="16061" y="14104"/>
                  <a:pt x="16197" y="14089"/>
                </a:cubicBezTo>
                <a:cubicBezTo>
                  <a:pt x="16244" y="14089"/>
                  <a:pt x="16270" y="14077"/>
                  <a:pt x="16297" y="14039"/>
                </a:cubicBezTo>
              </a:path>
              <a:path w="3548" h="5508">
                <a:moveTo>
                  <a:pt x="16098" y="11385"/>
                </a:moveTo>
                <a:cubicBezTo>
                  <a:pt x="16078" y="11542"/>
                  <a:pt x="16037" y="11698"/>
                  <a:pt x="16024" y="11857"/>
                </a:cubicBezTo>
                <a:cubicBezTo>
                  <a:pt x="16024" y="11931"/>
                  <a:pt x="16049" y="11964"/>
                  <a:pt x="15999" y="11956"/>
                </a:cubicBezTo>
              </a:path>
              <a:path w="3548" h="5508">
                <a:moveTo>
                  <a:pt x="16421" y="11509"/>
                </a:moveTo>
                <a:cubicBezTo>
                  <a:pt x="16333" y="11562"/>
                  <a:pt x="16247" y="11722"/>
                  <a:pt x="16222" y="11832"/>
                </a:cubicBezTo>
                <a:cubicBezTo>
                  <a:pt x="16222" y="11917"/>
                  <a:pt x="16216" y="11937"/>
                  <a:pt x="16247" y="11981"/>
                </a:cubicBezTo>
                <a:cubicBezTo>
                  <a:pt x="16359" y="11972"/>
                  <a:pt x="16515" y="11961"/>
                  <a:pt x="16520" y="11807"/>
                </a:cubicBezTo>
                <a:cubicBezTo>
                  <a:pt x="16523" y="11693"/>
                  <a:pt x="16463" y="11672"/>
                  <a:pt x="16421" y="11609"/>
                </a:cubicBezTo>
                <a:cubicBezTo>
                  <a:pt x="16421" y="11574"/>
                  <a:pt x="16412" y="11561"/>
                  <a:pt x="16371" y="11559"/>
                </a:cubicBezTo>
              </a:path>
              <a:path w="3548" h="5508">
                <a:moveTo>
                  <a:pt x="15974" y="11212"/>
                </a:moveTo>
                <a:cubicBezTo>
                  <a:pt x="16143" y="11212"/>
                  <a:pt x="16302" y="11197"/>
                  <a:pt x="16470" y="11187"/>
                </a:cubicBezTo>
                <a:cubicBezTo>
                  <a:pt x="16518" y="11184"/>
                  <a:pt x="16570" y="11187"/>
                  <a:pt x="16619" y="11187"/>
                </a:cubicBezTo>
              </a:path>
              <a:path w="3548" h="5508">
                <a:moveTo>
                  <a:pt x="15280" y="11212"/>
                </a:moveTo>
                <a:cubicBezTo>
                  <a:pt x="15329" y="11249"/>
                  <a:pt x="15363" y="11339"/>
                  <a:pt x="15379" y="11410"/>
                </a:cubicBezTo>
              </a:path>
              <a:path w="3548" h="5508">
                <a:moveTo>
                  <a:pt x="15429" y="11137"/>
                </a:moveTo>
                <a:cubicBezTo>
                  <a:pt x="15325" y="11224"/>
                  <a:pt x="15249" y="11295"/>
                  <a:pt x="15230" y="11435"/>
                </a:cubicBezTo>
                <a:cubicBezTo>
                  <a:pt x="15230" y="11443"/>
                  <a:pt x="15230" y="11452"/>
                  <a:pt x="15230" y="11460"/>
                </a:cubicBezTo>
              </a:path>
              <a:path w="3548" h="5508">
                <a:moveTo>
                  <a:pt x="15553" y="11385"/>
                </a:moveTo>
                <a:cubicBezTo>
                  <a:pt x="15495" y="11385"/>
                  <a:pt x="15592" y="11363"/>
                  <a:pt x="15602" y="11361"/>
                </a:cubicBezTo>
                <a:cubicBezTo>
                  <a:pt x="15775" y="11325"/>
                  <a:pt x="15599" y="11553"/>
                  <a:pt x="15577" y="11584"/>
                </a:cubicBezTo>
                <a:cubicBezTo>
                  <a:pt x="15538" y="11643"/>
                  <a:pt x="15534" y="11655"/>
                  <a:pt x="15503" y="11683"/>
                </a:cubicBezTo>
                <a:cubicBezTo>
                  <a:pt x="15556" y="11672"/>
                  <a:pt x="15595" y="11658"/>
                  <a:pt x="15652" y="11658"/>
                </a:cubicBezTo>
                <a:cubicBezTo>
                  <a:pt x="15660" y="11658"/>
                  <a:pt x="15669" y="11658"/>
                  <a:pt x="15677" y="11658"/>
                </a:cubicBezTo>
              </a:path>
              <a:path w="3548" h="5508">
                <a:moveTo>
                  <a:pt x="15503" y="11212"/>
                </a:moveTo>
                <a:cubicBezTo>
                  <a:pt x="15568" y="11228"/>
                  <a:pt x="15623" y="11237"/>
                  <a:pt x="15701" y="11237"/>
                </a:cubicBezTo>
                <a:cubicBezTo>
                  <a:pt x="15709" y="11237"/>
                  <a:pt x="15718" y="11237"/>
                  <a:pt x="15726" y="11237"/>
                </a:cubicBezTo>
              </a:path>
              <a:path w="3548" h="5508">
                <a:moveTo>
                  <a:pt x="15602" y="10914"/>
                </a:moveTo>
                <a:cubicBezTo>
                  <a:pt x="15625" y="10891"/>
                  <a:pt x="15629" y="10883"/>
                  <a:pt x="15652" y="10889"/>
                </a:cubicBezTo>
                <a:cubicBezTo>
                  <a:pt x="15716" y="10931"/>
                  <a:pt x="15643" y="10980"/>
                  <a:pt x="15602" y="11038"/>
                </a:cubicBezTo>
                <a:cubicBezTo>
                  <a:pt x="15568" y="11086"/>
                  <a:pt x="15523" y="11138"/>
                  <a:pt x="15503" y="11187"/>
                </a:cubicBezTo>
                <a:cubicBezTo>
                  <a:pt x="15556" y="11176"/>
                  <a:pt x="15595" y="11162"/>
                  <a:pt x="15652" y="11162"/>
                </a:cubicBezTo>
                <a:cubicBezTo>
                  <a:pt x="15660" y="11162"/>
                  <a:pt x="15669" y="11162"/>
                  <a:pt x="15677" y="11162"/>
                </a:cubicBezTo>
              </a:path>
              <a:path w="3548" h="5508">
                <a:moveTo>
                  <a:pt x="16024" y="10616"/>
                </a:moveTo>
                <a:cubicBezTo>
                  <a:pt x="16024" y="10717"/>
                  <a:pt x="16023" y="10848"/>
                  <a:pt x="15974" y="10939"/>
                </a:cubicBezTo>
                <a:cubicBezTo>
                  <a:pt x="15960" y="10965"/>
                  <a:pt x="16109" y="10899"/>
                  <a:pt x="16173" y="10889"/>
                </a:cubicBezTo>
                <a:cubicBezTo>
                  <a:pt x="16214" y="10889"/>
                  <a:pt x="16222" y="10889"/>
                  <a:pt x="16247" y="10889"/>
                </a:cubicBezTo>
              </a:path>
              <a:path w="3548" h="5508">
                <a:moveTo>
                  <a:pt x="16247" y="10418"/>
                </a:moveTo>
                <a:cubicBezTo>
                  <a:pt x="16247" y="10576"/>
                  <a:pt x="16225" y="10731"/>
                  <a:pt x="16222" y="10889"/>
                </a:cubicBezTo>
                <a:cubicBezTo>
                  <a:pt x="16221" y="10955"/>
                  <a:pt x="16222" y="11022"/>
                  <a:pt x="16222" y="11088"/>
                </a:cubicBezTo>
              </a:path>
              <a:path w="3548" h="5508">
                <a:moveTo>
                  <a:pt x="14709" y="10691"/>
                </a:moveTo>
                <a:cubicBezTo>
                  <a:pt x="14781" y="10667"/>
                  <a:pt x="14799" y="10687"/>
                  <a:pt x="14883" y="10765"/>
                </a:cubicBezTo>
                <a:cubicBezTo>
                  <a:pt x="15031" y="10904"/>
                  <a:pt x="15136" y="11050"/>
                  <a:pt x="15255" y="11212"/>
                </a:cubicBezTo>
                <a:cubicBezTo>
                  <a:pt x="15359" y="11353"/>
                  <a:pt x="15453" y="11485"/>
                  <a:pt x="15577" y="11609"/>
                </a:cubicBezTo>
                <a:cubicBezTo>
                  <a:pt x="15613" y="11645"/>
                  <a:pt x="15701" y="11765"/>
                  <a:pt x="15726" y="11782"/>
                </a:cubicBezTo>
                <a:cubicBezTo>
                  <a:pt x="15754" y="11801"/>
                  <a:pt x="15841" y="11844"/>
                  <a:pt x="15875" y="11857"/>
                </a:cubicBezTo>
                <a:cubicBezTo>
                  <a:pt x="15883" y="11857"/>
                  <a:pt x="15892" y="11857"/>
                  <a:pt x="15900" y="11857"/>
                </a:cubicBezTo>
              </a:path>
              <a:path w="3548" h="5508">
                <a:moveTo>
                  <a:pt x="15652" y="10889"/>
                </a:moveTo>
                <a:cubicBezTo>
                  <a:pt x="15652" y="10881"/>
                  <a:pt x="15652" y="10872"/>
                  <a:pt x="15652" y="10864"/>
                </a:cubicBezTo>
                <a:cubicBezTo>
                  <a:pt x="15597" y="10892"/>
                  <a:pt x="15564" y="10903"/>
                  <a:pt x="15528" y="10964"/>
                </a:cubicBezTo>
                <a:cubicBezTo>
                  <a:pt x="15488" y="11031"/>
                  <a:pt x="15442" y="11061"/>
                  <a:pt x="15404" y="11137"/>
                </a:cubicBezTo>
                <a:cubicBezTo>
                  <a:pt x="15355" y="11235"/>
                  <a:pt x="15307" y="11340"/>
                  <a:pt x="15255" y="11435"/>
                </a:cubicBezTo>
                <a:cubicBezTo>
                  <a:pt x="15210" y="11517"/>
                  <a:pt x="15141" y="11569"/>
                  <a:pt x="15106" y="11658"/>
                </a:cubicBezTo>
                <a:cubicBezTo>
                  <a:pt x="15072" y="11745"/>
                  <a:pt x="15027" y="11827"/>
                  <a:pt x="14982" y="11906"/>
                </a:cubicBezTo>
                <a:cubicBezTo>
                  <a:pt x="14946" y="11970"/>
                  <a:pt x="14897" y="12021"/>
                  <a:pt x="14858" y="12080"/>
                </a:cubicBezTo>
                <a:cubicBezTo>
                  <a:pt x="14846" y="12098"/>
                  <a:pt x="14843" y="12135"/>
                  <a:pt x="14833" y="12154"/>
                </a:cubicBezTo>
              </a:path>
              <a:path w="3548" h="5508">
                <a:moveTo>
                  <a:pt x="14957" y="15180"/>
                </a:moveTo>
                <a:cubicBezTo>
                  <a:pt x="14949" y="15172"/>
                  <a:pt x="14940" y="15164"/>
                  <a:pt x="14932" y="15156"/>
                </a:cubicBezTo>
                <a:cubicBezTo>
                  <a:pt x="15055" y="15156"/>
                  <a:pt x="15182" y="15124"/>
                  <a:pt x="15304" y="15106"/>
                </a:cubicBezTo>
                <a:cubicBezTo>
                  <a:pt x="15447" y="15085"/>
                  <a:pt x="15582" y="15056"/>
                  <a:pt x="15726" y="15056"/>
                </a:cubicBezTo>
                <a:cubicBezTo>
                  <a:pt x="15811" y="15056"/>
                  <a:pt x="15678" y="15130"/>
                  <a:pt x="15677" y="15131"/>
                </a:cubicBezTo>
              </a:path>
              <a:path w="3548" h="5508">
                <a:moveTo>
                  <a:pt x="15131" y="15453"/>
                </a:moveTo>
                <a:cubicBezTo>
                  <a:pt x="15131" y="15574"/>
                  <a:pt x="15088" y="15857"/>
                  <a:pt x="15156" y="15925"/>
                </a:cubicBezTo>
              </a:path>
              <a:path w="3548" h="5508">
                <a:moveTo>
                  <a:pt x="15503" y="15429"/>
                </a:moveTo>
                <a:cubicBezTo>
                  <a:pt x="15478" y="15515"/>
                  <a:pt x="15401" y="15629"/>
                  <a:pt x="15404" y="15726"/>
                </a:cubicBezTo>
                <a:cubicBezTo>
                  <a:pt x="15408" y="15836"/>
                  <a:pt x="15459" y="15911"/>
                  <a:pt x="15577" y="15900"/>
                </a:cubicBezTo>
                <a:cubicBezTo>
                  <a:pt x="15714" y="15887"/>
                  <a:pt x="15752" y="15821"/>
                  <a:pt x="15801" y="15726"/>
                </a:cubicBezTo>
                <a:cubicBezTo>
                  <a:pt x="15844" y="15644"/>
                  <a:pt x="15858" y="15582"/>
                  <a:pt x="15751" y="15528"/>
                </a:cubicBezTo>
                <a:cubicBezTo>
                  <a:pt x="15693" y="15499"/>
                  <a:pt x="15607" y="15470"/>
                  <a:pt x="15553" y="15453"/>
                </a:cubicBezTo>
                <a:cubicBezTo>
                  <a:pt x="15507" y="15439"/>
                  <a:pt x="15507" y="15468"/>
                  <a:pt x="15478" y="15478"/>
                </a:cubicBezTo>
              </a:path>
              <a:path w="3548" h="5508">
                <a:moveTo>
                  <a:pt x="15156" y="14387"/>
                </a:moveTo>
                <a:cubicBezTo>
                  <a:pt x="15228" y="14387"/>
                  <a:pt x="15284" y="14350"/>
                  <a:pt x="15354" y="14337"/>
                </a:cubicBezTo>
                <a:cubicBezTo>
                  <a:pt x="15399" y="14329"/>
                  <a:pt x="15457" y="14337"/>
                  <a:pt x="15503" y="14337"/>
                </a:cubicBezTo>
                <a:cubicBezTo>
                  <a:pt x="15456" y="14507"/>
                  <a:pt x="15433" y="14663"/>
                  <a:pt x="15404" y="14833"/>
                </a:cubicBezTo>
                <a:cubicBezTo>
                  <a:pt x="15392" y="14903"/>
                  <a:pt x="15379" y="14936"/>
                  <a:pt x="15379" y="15007"/>
                </a:cubicBezTo>
                <a:cubicBezTo>
                  <a:pt x="15379" y="15015"/>
                  <a:pt x="15379" y="15024"/>
                  <a:pt x="15379" y="15032"/>
                </a:cubicBezTo>
              </a:path>
              <a:path w="3548" h="5508">
                <a:moveTo>
                  <a:pt x="13643" y="14982"/>
                </a:moveTo>
                <a:cubicBezTo>
                  <a:pt x="13643" y="14824"/>
                  <a:pt x="13653" y="15247"/>
                  <a:pt x="13667" y="15404"/>
                </a:cubicBezTo>
                <a:cubicBezTo>
                  <a:pt x="13682" y="15569"/>
                  <a:pt x="13692" y="16066"/>
                  <a:pt x="13692" y="15900"/>
                </a:cubicBezTo>
                <a:cubicBezTo>
                  <a:pt x="13692" y="15883"/>
                  <a:pt x="13692" y="15867"/>
                  <a:pt x="13692" y="15850"/>
                </a:cubicBezTo>
              </a:path>
              <a:path w="3548" h="5508">
                <a:moveTo>
                  <a:pt x="14163" y="15032"/>
                </a:moveTo>
                <a:cubicBezTo>
                  <a:pt x="14172" y="14964"/>
                  <a:pt x="14178" y="14933"/>
                  <a:pt x="14238" y="14883"/>
                </a:cubicBezTo>
                <a:cubicBezTo>
                  <a:pt x="14309" y="14825"/>
                  <a:pt x="14331" y="14833"/>
                  <a:pt x="14412" y="14833"/>
                </a:cubicBezTo>
                <a:cubicBezTo>
                  <a:pt x="14453" y="15085"/>
                  <a:pt x="14405" y="15248"/>
                  <a:pt x="14288" y="15478"/>
                </a:cubicBezTo>
                <a:cubicBezTo>
                  <a:pt x="14216" y="15619"/>
                  <a:pt x="14141" y="15729"/>
                  <a:pt x="14089" y="15875"/>
                </a:cubicBezTo>
                <a:cubicBezTo>
                  <a:pt x="14105" y="15804"/>
                  <a:pt x="14112" y="15577"/>
                  <a:pt x="14238" y="15577"/>
                </a:cubicBezTo>
                <a:cubicBezTo>
                  <a:pt x="14394" y="15577"/>
                  <a:pt x="14451" y="15753"/>
                  <a:pt x="14635" y="15652"/>
                </a:cubicBezTo>
                <a:cubicBezTo>
                  <a:pt x="14690" y="15596"/>
                  <a:pt x="14688" y="15571"/>
                  <a:pt x="14734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5419800"/>
            <a:ext cx="812880" cy="839880"/>
          </a:xfrm>
          <a:custGeom>
            <a:avLst/>
            <a:gdLst/>
            <a:ahLst/>
            <a:rect l="l" t="t" r="r" b="b"/>
            <a:pathLst>
              <a:path w="2258" h="2333">
                <a:moveTo>
                  <a:pt x="15379" y="15056"/>
                </a:moveTo>
                <a:lnTo>
                  <a:pt x="15379" y="15056"/>
                </a:lnTo>
              </a:path>
              <a:path w="2258" h="2333">
                <a:moveTo>
                  <a:pt x="13122" y="17388"/>
                </a:moveTo>
                <a:cubicBezTo>
                  <a:pt x="13122" y="17371"/>
                  <a:pt x="13122" y="17355"/>
                  <a:pt x="13122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8240" y="2589120"/>
            <a:ext cx="1546560" cy="1071720"/>
          </a:xfrm>
          <a:custGeom>
            <a:avLst/>
            <a:gdLst/>
            <a:ahLst/>
            <a:rect l="l" t="t" r="r" b="b"/>
            <a:pathLst>
              <a:path w="4292" h="2978">
                <a:moveTo>
                  <a:pt x="17884" y="8558"/>
                </a:moveTo>
                <a:cubicBezTo>
                  <a:pt x="17979" y="8576"/>
                  <a:pt x="18009" y="8551"/>
                  <a:pt x="18107" y="8533"/>
                </a:cubicBezTo>
                <a:cubicBezTo>
                  <a:pt x="18149" y="8533"/>
                  <a:pt x="18157" y="8533"/>
                  <a:pt x="18182" y="8533"/>
                </a:cubicBezTo>
              </a:path>
              <a:path w="4292" h="2978">
                <a:moveTo>
                  <a:pt x="18008" y="8830"/>
                </a:moveTo>
                <a:cubicBezTo>
                  <a:pt x="18140" y="8830"/>
                  <a:pt x="18214" y="8819"/>
                  <a:pt x="18331" y="8756"/>
                </a:cubicBezTo>
              </a:path>
              <a:path w="4292" h="2978">
                <a:moveTo>
                  <a:pt x="18752" y="8136"/>
                </a:moveTo>
                <a:cubicBezTo>
                  <a:pt x="18802" y="8423"/>
                  <a:pt x="18811" y="8715"/>
                  <a:pt x="18852" y="9004"/>
                </a:cubicBezTo>
                <a:cubicBezTo>
                  <a:pt x="18871" y="9138"/>
                  <a:pt x="18858" y="9192"/>
                  <a:pt x="18901" y="9079"/>
                </a:cubicBezTo>
              </a:path>
              <a:path w="4292" h="2978">
                <a:moveTo>
                  <a:pt x="19149" y="8210"/>
                </a:moveTo>
                <a:cubicBezTo>
                  <a:pt x="19420" y="8147"/>
                  <a:pt x="19615" y="8272"/>
                  <a:pt x="19596" y="8607"/>
                </a:cubicBezTo>
                <a:cubicBezTo>
                  <a:pt x="19578" y="8917"/>
                  <a:pt x="19339" y="8861"/>
                  <a:pt x="19199" y="8731"/>
                </a:cubicBezTo>
                <a:cubicBezTo>
                  <a:pt x="19139" y="8641"/>
                  <a:pt x="19469" y="8695"/>
                  <a:pt x="19496" y="8706"/>
                </a:cubicBezTo>
                <a:cubicBezTo>
                  <a:pt x="19580" y="8739"/>
                  <a:pt x="19687" y="8918"/>
                  <a:pt x="19769" y="8855"/>
                </a:cubicBezTo>
              </a:path>
              <a:path w="4292" h="2978">
                <a:moveTo>
                  <a:pt x="19993" y="7913"/>
                </a:moveTo>
                <a:cubicBezTo>
                  <a:pt x="20167" y="7866"/>
                  <a:pt x="20341" y="7843"/>
                  <a:pt x="20513" y="7789"/>
                </a:cubicBezTo>
                <a:cubicBezTo>
                  <a:pt x="20539" y="7932"/>
                  <a:pt x="20469" y="8020"/>
                  <a:pt x="20439" y="8161"/>
                </a:cubicBezTo>
                <a:cubicBezTo>
                  <a:pt x="20439" y="8177"/>
                  <a:pt x="20439" y="8194"/>
                  <a:pt x="20439" y="8210"/>
                </a:cubicBezTo>
              </a:path>
              <a:path w="4292" h="2978">
                <a:moveTo>
                  <a:pt x="20216" y="8409"/>
                </a:moveTo>
                <a:cubicBezTo>
                  <a:pt x="20456" y="8389"/>
                  <a:pt x="20695" y="8369"/>
                  <a:pt x="20935" y="8359"/>
                </a:cubicBezTo>
                <a:cubicBezTo>
                  <a:pt x="20960" y="8359"/>
                  <a:pt x="20968" y="8359"/>
                  <a:pt x="20935" y="8359"/>
                </a:cubicBezTo>
              </a:path>
              <a:path w="4292" h="2978">
                <a:moveTo>
                  <a:pt x="20166" y="8830"/>
                </a:moveTo>
                <a:cubicBezTo>
                  <a:pt x="20166" y="8986"/>
                  <a:pt x="20163" y="9124"/>
                  <a:pt x="20141" y="9277"/>
                </a:cubicBezTo>
              </a:path>
              <a:path w="4292" h="2978">
                <a:moveTo>
                  <a:pt x="20638" y="8756"/>
                </a:moveTo>
                <a:cubicBezTo>
                  <a:pt x="20554" y="8910"/>
                  <a:pt x="20505" y="9033"/>
                  <a:pt x="20464" y="9203"/>
                </a:cubicBezTo>
                <a:cubicBezTo>
                  <a:pt x="20691" y="9259"/>
                  <a:pt x="20759" y="9175"/>
                  <a:pt x="20886" y="8979"/>
                </a:cubicBezTo>
                <a:cubicBezTo>
                  <a:pt x="20769" y="8926"/>
                  <a:pt x="20706" y="8912"/>
                  <a:pt x="20588" y="8880"/>
                </a:cubicBezTo>
              </a:path>
              <a:path w="4292" h="2978">
                <a:moveTo>
                  <a:pt x="18579" y="9649"/>
                </a:moveTo>
                <a:cubicBezTo>
                  <a:pt x="18859" y="9742"/>
                  <a:pt x="19100" y="9806"/>
                  <a:pt x="19397" y="9847"/>
                </a:cubicBezTo>
                <a:cubicBezTo>
                  <a:pt x="19933" y="9920"/>
                  <a:pt x="20484" y="9945"/>
                  <a:pt x="20985" y="9699"/>
                </a:cubicBezTo>
                <a:cubicBezTo>
                  <a:pt x="21410" y="9491"/>
                  <a:pt x="21824" y="9157"/>
                  <a:pt x="21903" y="8682"/>
                </a:cubicBezTo>
                <a:cubicBezTo>
                  <a:pt x="21948" y="8413"/>
                  <a:pt x="21906" y="8199"/>
                  <a:pt x="21729" y="7987"/>
                </a:cubicBezTo>
                <a:cubicBezTo>
                  <a:pt x="21549" y="7771"/>
                  <a:pt x="21309" y="7614"/>
                  <a:pt x="21059" y="7491"/>
                </a:cubicBezTo>
                <a:cubicBezTo>
                  <a:pt x="20739" y="7334"/>
                  <a:pt x="20377" y="7196"/>
                  <a:pt x="20017" y="7193"/>
                </a:cubicBezTo>
                <a:cubicBezTo>
                  <a:pt x="19598" y="7189"/>
                  <a:pt x="19229" y="7293"/>
                  <a:pt x="18852" y="7466"/>
                </a:cubicBezTo>
                <a:cubicBezTo>
                  <a:pt x="18554" y="7603"/>
                  <a:pt x="18257" y="7772"/>
                  <a:pt x="18008" y="7987"/>
                </a:cubicBezTo>
                <a:cubicBezTo>
                  <a:pt x="17788" y="8177"/>
                  <a:pt x="17632" y="8535"/>
                  <a:pt x="17636" y="8830"/>
                </a:cubicBezTo>
                <a:cubicBezTo>
                  <a:pt x="17640" y="9166"/>
                  <a:pt x="17846" y="9465"/>
                  <a:pt x="18033" y="9723"/>
                </a:cubicBezTo>
                <a:cubicBezTo>
                  <a:pt x="18207" y="9962"/>
                  <a:pt x="18401" y="10136"/>
                  <a:pt x="18703" y="10170"/>
                </a:cubicBezTo>
                <a:cubicBezTo>
                  <a:pt x="18847" y="10186"/>
                  <a:pt x="18941" y="10146"/>
                  <a:pt x="19075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240" y="1652760"/>
            <a:ext cx="4027680" cy="106200"/>
          </a:xfrm>
          <a:custGeom>
            <a:avLst/>
            <a:gdLst/>
            <a:ahLst/>
            <a:rect l="l" t="t" r="r" b="b"/>
            <a:pathLst>
              <a:path w="11188" h="299">
                <a:moveTo>
                  <a:pt x="5159" y="4862"/>
                </a:moveTo>
                <a:cubicBezTo>
                  <a:pt x="5235" y="4853"/>
                  <a:pt x="5307" y="4846"/>
                  <a:pt x="5383" y="4837"/>
                </a:cubicBezTo>
                <a:cubicBezTo>
                  <a:pt x="5502" y="4822"/>
                  <a:pt x="5613" y="4779"/>
                  <a:pt x="5730" y="4762"/>
                </a:cubicBezTo>
                <a:cubicBezTo>
                  <a:pt x="5827" y="4748"/>
                  <a:pt x="5931" y="4744"/>
                  <a:pt x="6028" y="4738"/>
                </a:cubicBezTo>
                <a:cubicBezTo>
                  <a:pt x="6186" y="4728"/>
                  <a:pt x="6340" y="4715"/>
                  <a:pt x="6499" y="4713"/>
                </a:cubicBezTo>
                <a:cubicBezTo>
                  <a:pt x="6766" y="4709"/>
                  <a:pt x="7030" y="4714"/>
                  <a:pt x="7293" y="4738"/>
                </a:cubicBezTo>
                <a:cubicBezTo>
                  <a:pt x="7406" y="4748"/>
                  <a:pt x="7527" y="4771"/>
                  <a:pt x="7640" y="4787"/>
                </a:cubicBezTo>
                <a:cubicBezTo>
                  <a:pt x="7771" y="4806"/>
                  <a:pt x="7904" y="4830"/>
                  <a:pt x="8037" y="4837"/>
                </a:cubicBezTo>
                <a:cubicBezTo>
                  <a:pt x="8188" y="4845"/>
                  <a:pt x="8333" y="4857"/>
                  <a:pt x="8483" y="4862"/>
                </a:cubicBezTo>
                <a:cubicBezTo>
                  <a:pt x="8676" y="4869"/>
                  <a:pt x="8867" y="4860"/>
                  <a:pt x="9054" y="4837"/>
                </a:cubicBezTo>
                <a:cubicBezTo>
                  <a:pt x="9194" y="4820"/>
                  <a:pt x="9334" y="4802"/>
                  <a:pt x="9475" y="4787"/>
                </a:cubicBezTo>
                <a:cubicBezTo>
                  <a:pt x="9648" y="4769"/>
                  <a:pt x="9822" y="4726"/>
                  <a:pt x="9996" y="4713"/>
                </a:cubicBezTo>
                <a:cubicBezTo>
                  <a:pt x="10170" y="4700"/>
                  <a:pt x="10343" y="4702"/>
                  <a:pt x="10517" y="4688"/>
                </a:cubicBezTo>
                <a:cubicBezTo>
                  <a:pt x="10700" y="4673"/>
                  <a:pt x="10880" y="4655"/>
                  <a:pt x="11063" y="4638"/>
                </a:cubicBezTo>
                <a:cubicBezTo>
                  <a:pt x="11263" y="4619"/>
                  <a:pt x="11456" y="4594"/>
                  <a:pt x="11658" y="4589"/>
                </a:cubicBezTo>
                <a:cubicBezTo>
                  <a:pt x="12030" y="4580"/>
                  <a:pt x="12405" y="4585"/>
                  <a:pt x="12774" y="4614"/>
                </a:cubicBezTo>
                <a:cubicBezTo>
                  <a:pt x="12955" y="4628"/>
                  <a:pt x="13139" y="4646"/>
                  <a:pt x="13320" y="4663"/>
                </a:cubicBezTo>
                <a:cubicBezTo>
                  <a:pt x="13524" y="4682"/>
                  <a:pt x="13737" y="4684"/>
                  <a:pt x="13940" y="4713"/>
                </a:cubicBezTo>
                <a:cubicBezTo>
                  <a:pt x="14115" y="4738"/>
                  <a:pt x="14286" y="4767"/>
                  <a:pt x="14461" y="4787"/>
                </a:cubicBezTo>
                <a:cubicBezTo>
                  <a:pt x="14642" y="4808"/>
                  <a:pt x="14827" y="4851"/>
                  <a:pt x="15007" y="4862"/>
                </a:cubicBezTo>
                <a:cubicBezTo>
                  <a:pt x="15157" y="4871"/>
                  <a:pt x="15304" y="4881"/>
                  <a:pt x="15453" y="4887"/>
                </a:cubicBezTo>
                <a:cubicBezTo>
                  <a:pt x="15662" y="4896"/>
                  <a:pt x="15868" y="4870"/>
                  <a:pt x="16073" y="4862"/>
                </a:cubicBezTo>
                <a:cubicBezTo>
                  <a:pt x="16164" y="4858"/>
                  <a:pt x="16255" y="4864"/>
                  <a:pt x="16346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52240" y="1028880"/>
            <a:ext cx="81342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144792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69840" y="4479840"/>
            <a:ext cx="690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r sum has an improper fraction, rename i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xed number and regroup the whole numb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87840" y="1054080"/>
            <a:ext cx="2492280" cy="544680"/>
          </a:xfrm>
          <a:custGeom>
            <a:avLst/>
            <a:gdLst/>
            <a:ahLst/>
            <a:rect l="l" t="t" r="r" b="b"/>
            <a:pathLst>
              <a:path w="6922" h="1514">
                <a:moveTo>
                  <a:pt x="17140" y="4415"/>
                </a:moveTo>
                <a:cubicBezTo>
                  <a:pt x="17091" y="4356"/>
                  <a:pt x="17101" y="4339"/>
                  <a:pt x="17041" y="4291"/>
                </a:cubicBezTo>
                <a:cubicBezTo>
                  <a:pt x="16913" y="4188"/>
                  <a:pt x="16764" y="4096"/>
                  <a:pt x="16619" y="4018"/>
                </a:cubicBezTo>
                <a:cubicBezTo>
                  <a:pt x="16319" y="3856"/>
                  <a:pt x="16004" y="3778"/>
                  <a:pt x="15677" y="3696"/>
                </a:cubicBezTo>
                <a:cubicBezTo>
                  <a:pt x="15441" y="3637"/>
                  <a:pt x="15218" y="3553"/>
                  <a:pt x="14982" y="3497"/>
                </a:cubicBezTo>
                <a:cubicBezTo>
                  <a:pt x="14757" y="3443"/>
                  <a:pt x="14516" y="3413"/>
                  <a:pt x="14288" y="3373"/>
                </a:cubicBezTo>
                <a:cubicBezTo>
                  <a:pt x="14015" y="3325"/>
                  <a:pt x="13745" y="3282"/>
                  <a:pt x="13469" y="3249"/>
                </a:cubicBezTo>
                <a:cubicBezTo>
                  <a:pt x="13167" y="3213"/>
                  <a:pt x="12877" y="3231"/>
                  <a:pt x="12576" y="3249"/>
                </a:cubicBezTo>
                <a:cubicBezTo>
                  <a:pt x="12466" y="3255"/>
                  <a:pt x="12382" y="3240"/>
                  <a:pt x="12278" y="3225"/>
                </a:cubicBezTo>
                <a:cubicBezTo>
                  <a:pt x="12213" y="3216"/>
                  <a:pt x="12147" y="3180"/>
                  <a:pt x="12080" y="3175"/>
                </a:cubicBezTo>
                <a:cubicBezTo>
                  <a:pt x="11954" y="3165"/>
                  <a:pt x="11832" y="3157"/>
                  <a:pt x="11708" y="3150"/>
                </a:cubicBezTo>
                <a:cubicBezTo>
                  <a:pt x="11617" y="3145"/>
                  <a:pt x="11487" y="3129"/>
                  <a:pt x="11410" y="3125"/>
                </a:cubicBezTo>
                <a:cubicBezTo>
                  <a:pt x="11246" y="3117"/>
                  <a:pt x="11048" y="3096"/>
                  <a:pt x="10889" y="3101"/>
                </a:cubicBezTo>
                <a:cubicBezTo>
                  <a:pt x="10756" y="3105"/>
                  <a:pt x="10620" y="3151"/>
                  <a:pt x="10492" y="3175"/>
                </a:cubicBezTo>
                <a:cubicBezTo>
                  <a:pt x="10484" y="3175"/>
                  <a:pt x="10476" y="3175"/>
                  <a:pt x="10468" y="3175"/>
                </a:cubicBezTo>
              </a:path>
              <a:path w="6922" h="1514">
                <a:moveTo>
                  <a:pt x="10319" y="3101"/>
                </a:moveTo>
                <a:cubicBezTo>
                  <a:pt x="10269" y="3084"/>
                  <a:pt x="10286" y="3246"/>
                  <a:pt x="10294" y="3324"/>
                </a:cubicBezTo>
                <a:cubicBezTo>
                  <a:pt x="10300" y="3384"/>
                  <a:pt x="10350" y="3679"/>
                  <a:pt x="10344" y="3646"/>
                </a:cubicBezTo>
                <a:cubicBezTo>
                  <a:pt x="10313" y="3487"/>
                  <a:pt x="10279" y="3336"/>
                  <a:pt x="10269" y="3175"/>
                </a:cubicBezTo>
                <a:cubicBezTo>
                  <a:pt x="10269" y="3142"/>
                  <a:pt x="10269" y="3092"/>
                  <a:pt x="10269" y="3125"/>
                </a:cubicBezTo>
                <a:cubicBezTo>
                  <a:pt x="10284" y="3357"/>
                  <a:pt x="10294" y="3586"/>
                  <a:pt x="10294" y="3820"/>
                </a:cubicBezTo>
                <a:cubicBezTo>
                  <a:pt x="10294" y="3837"/>
                  <a:pt x="10294" y="3853"/>
                  <a:pt x="10294" y="3870"/>
                </a:cubicBezTo>
                <a:cubicBezTo>
                  <a:pt x="10274" y="3687"/>
                  <a:pt x="10232" y="3510"/>
                  <a:pt x="10244" y="3324"/>
                </a:cubicBezTo>
                <a:cubicBezTo>
                  <a:pt x="10252" y="3190"/>
                  <a:pt x="10294" y="3062"/>
                  <a:pt x="10294" y="2927"/>
                </a:cubicBezTo>
                <a:cubicBezTo>
                  <a:pt x="10294" y="3069"/>
                  <a:pt x="10308" y="3232"/>
                  <a:pt x="10319" y="3373"/>
                </a:cubicBezTo>
                <a:cubicBezTo>
                  <a:pt x="10327" y="3472"/>
                  <a:pt x="10344" y="3672"/>
                  <a:pt x="10344" y="3572"/>
                </a:cubicBezTo>
                <a:cubicBezTo>
                  <a:pt x="10344" y="3564"/>
                  <a:pt x="10344" y="3555"/>
                  <a:pt x="10344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7800" y="1339920"/>
            <a:ext cx="1260360" cy="1955880"/>
          </a:xfrm>
          <a:custGeom>
            <a:avLst/>
            <a:gdLst/>
            <a:ahLst/>
            <a:rect l="l" t="t" r="r" b="b"/>
            <a:pathLst>
              <a:path w="3499" h="5433">
                <a:moveTo>
                  <a:pt x="10319" y="4266"/>
                </a:moveTo>
                <a:cubicBezTo>
                  <a:pt x="10319" y="4085"/>
                  <a:pt x="10310" y="4581"/>
                  <a:pt x="10319" y="4762"/>
                </a:cubicBezTo>
                <a:cubicBezTo>
                  <a:pt x="10327" y="4916"/>
                  <a:pt x="10344" y="5056"/>
                  <a:pt x="10344" y="5209"/>
                </a:cubicBezTo>
              </a:path>
              <a:path w="3499" h="5433">
                <a:moveTo>
                  <a:pt x="10864" y="3770"/>
                </a:moveTo>
                <a:cubicBezTo>
                  <a:pt x="10969" y="3756"/>
                  <a:pt x="11046" y="3693"/>
                  <a:pt x="11112" y="3770"/>
                </a:cubicBezTo>
                <a:cubicBezTo>
                  <a:pt x="11190" y="3862"/>
                  <a:pt x="11127" y="3908"/>
                  <a:pt x="11038" y="3944"/>
                </a:cubicBezTo>
                <a:cubicBezTo>
                  <a:pt x="11118" y="3944"/>
                  <a:pt x="11435" y="3999"/>
                  <a:pt x="11286" y="4167"/>
                </a:cubicBezTo>
                <a:cubicBezTo>
                  <a:pt x="11233" y="4226"/>
                  <a:pt x="11079" y="4223"/>
                  <a:pt x="11013" y="4266"/>
                </a:cubicBezTo>
              </a:path>
              <a:path w="3499" h="5433">
                <a:moveTo>
                  <a:pt x="11237" y="4688"/>
                </a:moveTo>
                <a:cubicBezTo>
                  <a:pt x="11193" y="4697"/>
                  <a:pt x="11040" y="4712"/>
                  <a:pt x="11013" y="4738"/>
                </a:cubicBezTo>
                <a:cubicBezTo>
                  <a:pt x="10991" y="4760"/>
                  <a:pt x="10991" y="4935"/>
                  <a:pt x="10988" y="4961"/>
                </a:cubicBezTo>
                <a:cubicBezTo>
                  <a:pt x="11085" y="4933"/>
                  <a:pt x="11247" y="4831"/>
                  <a:pt x="11311" y="4986"/>
                </a:cubicBezTo>
                <a:cubicBezTo>
                  <a:pt x="11403" y="5209"/>
                  <a:pt x="11169" y="5236"/>
                  <a:pt x="11038" y="5259"/>
                </a:cubicBezTo>
                <a:cubicBezTo>
                  <a:pt x="11005" y="5267"/>
                  <a:pt x="10972" y="5275"/>
                  <a:pt x="10939" y="5283"/>
                </a:cubicBezTo>
              </a:path>
              <a:path w="3499" h="5433">
                <a:moveTo>
                  <a:pt x="9575" y="6424"/>
                </a:moveTo>
                <a:cubicBezTo>
                  <a:pt x="9594" y="6608"/>
                  <a:pt x="9599" y="6785"/>
                  <a:pt x="9599" y="6970"/>
                </a:cubicBezTo>
              </a:path>
              <a:path w="3499" h="5433">
                <a:moveTo>
                  <a:pt x="9475" y="6672"/>
                </a:moveTo>
                <a:cubicBezTo>
                  <a:pt x="9650" y="6581"/>
                  <a:pt x="9780" y="6553"/>
                  <a:pt x="9971" y="6524"/>
                </a:cubicBezTo>
              </a:path>
              <a:path w="3499" h="5433">
                <a:moveTo>
                  <a:pt x="10319" y="6350"/>
                </a:moveTo>
                <a:cubicBezTo>
                  <a:pt x="10319" y="6241"/>
                  <a:pt x="10384" y="6230"/>
                  <a:pt x="10468" y="6176"/>
                </a:cubicBezTo>
                <a:cubicBezTo>
                  <a:pt x="10741" y="6386"/>
                  <a:pt x="10650" y="6677"/>
                  <a:pt x="10418" y="6945"/>
                </a:cubicBezTo>
                <a:cubicBezTo>
                  <a:pt x="10268" y="7052"/>
                  <a:pt x="10240" y="7093"/>
                  <a:pt x="10120" y="7069"/>
                </a:cubicBezTo>
                <a:cubicBezTo>
                  <a:pt x="10150" y="6908"/>
                  <a:pt x="10272" y="6766"/>
                  <a:pt x="10468" y="6846"/>
                </a:cubicBezTo>
                <a:cubicBezTo>
                  <a:pt x="10588" y="6895"/>
                  <a:pt x="10641" y="7196"/>
                  <a:pt x="10641" y="6970"/>
                </a:cubicBezTo>
              </a:path>
              <a:path w="3499" h="5433">
                <a:moveTo>
                  <a:pt x="11088" y="6028"/>
                </a:moveTo>
                <a:cubicBezTo>
                  <a:pt x="11088" y="5967"/>
                  <a:pt x="11108" y="6108"/>
                  <a:pt x="11112" y="6127"/>
                </a:cubicBezTo>
                <a:cubicBezTo>
                  <a:pt x="11145" y="6273"/>
                  <a:pt x="11305" y="6095"/>
                  <a:pt x="11336" y="6077"/>
                </a:cubicBezTo>
              </a:path>
              <a:path w="3499" h="5433">
                <a:moveTo>
                  <a:pt x="11336" y="5904"/>
                </a:moveTo>
                <a:cubicBezTo>
                  <a:pt x="11317" y="6063"/>
                  <a:pt x="11311" y="6214"/>
                  <a:pt x="11311" y="6375"/>
                </a:cubicBezTo>
              </a:path>
              <a:path w="3499" h="5433">
                <a:moveTo>
                  <a:pt x="11038" y="6598"/>
                </a:moveTo>
                <a:cubicBezTo>
                  <a:pt x="11128" y="6568"/>
                  <a:pt x="11400" y="6437"/>
                  <a:pt x="11509" y="6474"/>
                </a:cubicBezTo>
                <a:cubicBezTo>
                  <a:pt x="11517" y="6482"/>
                  <a:pt x="11526" y="6491"/>
                  <a:pt x="11534" y="6499"/>
                </a:cubicBezTo>
              </a:path>
              <a:path w="3499" h="5433">
                <a:moveTo>
                  <a:pt x="11286" y="6772"/>
                </a:moveTo>
                <a:cubicBezTo>
                  <a:pt x="11216" y="6777"/>
                  <a:pt x="11156" y="6764"/>
                  <a:pt x="11137" y="6821"/>
                </a:cubicBezTo>
                <a:cubicBezTo>
                  <a:pt x="11115" y="6887"/>
                  <a:pt x="11112" y="6927"/>
                  <a:pt x="11112" y="6995"/>
                </a:cubicBezTo>
                <a:cubicBezTo>
                  <a:pt x="11191" y="6995"/>
                  <a:pt x="11285" y="6942"/>
                  <a:pt x="11361" y="6970"/>
                </a:cubicBezTo>
                <a:cubicBezTo>
                  <a:pt x="11550" y="7039"/>
                  <a:pt x="11345" y="7233"/>
                  <a:pt x="11261" y="7268"/>
                </a:cubicBezTo>
                <a:cubicBezTo>
                  <a:pt x="11203" y="7268"/>
                  <a:pt x="11195" y="7268"/>
                  <a:pt x="11162" y="7268"/>
                </a:cubicBezTo>
              </a:path>
              <a:path w="3499" h="5433">
                <a:moveTo>
                  <a:pt x="8855" y="7813"/>
                </a:moveTo>
                <a:cubicBezTo>
                  <a:pt x="9181" y="7801"/>
                  <a:pt x="9498" y="7768"/>
                  <a:pt x="9823" y="7714"/>
                </a:cubicBezTo>
                <a:cubicBezTo>
                  <a:pt x="10655" y="7575"/>
                  <a:pt x="11472" y="7355"/>
                  <a:pt x="12303" y="7218"/>
                </a:cubicBezTo>
                <a:cubicBezTo>
                  <a:pt x="12328" y="7218"/>
                  <a:pt x="12336" y="7218"/>
                  <a:pt x="12353" y="7218"/>
                </a:cubicBezTo>
              </a:path>
              <a:path w="3499" h="5433">
                <a:moveTo>
                  <a:pt x="11013" y="8483"/>
                </a:moveTo>
                <a:cubicBezTo>
                  <a:pt x="11235" y="8439"/>
                  <a:pt x="11458" y="8420"/>
                  <a:pt x="11683" y="8384"/>
                </a:cubicBezTo>
                <a:cubicBezTo>
                  <a:pt x="11757" y="8365"/>
                  <a:pt x="11764" y="8357"/>
                  <a:pt x="11807" y="8359"/>
                </a:cubicBezTo>
              </a:path>
              <a:path w="3499" h="5433">
                <a:moveTo>
                  <a:pt x="11162" y="7838"/>
                </a:moveTo>
                <a:cubicBezTo>
                  <a:pt x="11186" y="7744"/>
                  <a:pt x="11305" y="7768"/>
                  <a:pt x="11385" y="7764"/>
                </a:cubicBezTo>
                <a:cubicBezTo>
                  <a:pt x="11393" y="7764"/>
                  <a:pt x="11402" y="7764"/>
                  <a:pt x="11410" y="7764"/>
                </a:cubicBezTo>
                <a:cubicBezTo>
                  <a:pt x="11382" y="7892"/>
                  <a:pt x="11323" y="8012"/>
                  <a:pt x="11286" y="8136"/>
                </a:cubicBezTo>
                <a:cubicBezTo>
                  <a:pt x="11286" y="8144"/>
                  <a:pt x="11286" y="8153"/>
                  <a:pt x="11286" y="8161"/>
                </a:cubicBezTo>
              </a:path>
              <a:path w="3499" h="5433">
                <a:moveTo>
                  <a:pt x="11385" y="8731"/>
                </a:moveTo>
                <a:cubicBezTo>
                  <a:pt x="11317" y="8731"/>
                  <a:pt x="11285" y="8716"/>
                  <a:pt x="11261" y="8756"/>
                </a:cubicBezTo>
                <a:cubicBezTo>
                  <a:pt x="11223" y="8819"/>
                  <a:pt x="11219" y="8852"/>
                  <a:pt x="11187" y="8905"/>
                </a:cubicBezTo>
                <a:cubicBezTo>
                  <a:pt x="11273" y="8891"/>
                  <a:pt x="11347" y="8862"/>
                  <a:pt x="11435" y="8855"/>
                </a:cubicBezTo>
                <a:cubicBezTo>
                  <a:pt x="11449" y="8992"/>
                  <a:pt x="11484" y="9102"/>
                  <a:pt x="11311" y="9153"/>
                </a:cubicBezTo>
                <a:cubicBezTo>
                  <a:pt x="11270" y="9165"/>
                  <a:pt x="11186" y="9153"/>
                  <a:pt x="1113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7320" y="1544760"/>
            <a:ext cx="1339920" cy="133956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15156" y="5978"/>
                </a:moveTo>
                <a:cubicBezTo>
                  <a:pt x="15156" y="5914"/>
                  <a:pt x="15139" y="5826"/>
                  <a:pt x="15205" y="5804"/>
                </a:cubicBezTo>
                <a:cubicBezTo>
                  <a:pt x="15345" y="5757"/>
                  <a:pt x="15467" y="5783"/>
                  <a:pt x="15602" y="5705"/>
                </a:cubicBezTo>
                <a:cubicBezTo>
                  <a:pt x="15610" y="5697"/>
                  <a:pt x="15619" y="5688"/>
                  <a:pt x="15627" y="5680"/>
                </a:cubicBezTo>
                <a:cubicBezTo>
                  <a:pt x="15569" y="5909"/>
                  <a:pt x="15520" y="6145"/>
                  <a:pt x="15453" y="6375"/>
                </a:cubicBezTo>
                <a:cubicBezTo>
                  <a:pt x="15418" y="6482"/>
                  <a:pt x="15402" y="6487"/>
                  <a:pt x="15404" y="6548"/>
                </a:cubicBezTo>
              </a:path>
              <a:path w="3722" h="3722">
                <a:moveTo>
                  <a:pt x="14982" y="6796"/>
                </a:moveTo>
                <a:cubicBezTo>
                  <a:pt x="14982" y="6513"/>
                  <a:pt x="14968" y="6234"/>
                  <a:pt x="14957" y="5953"/>
                </a:cubicBezTo>
                <a:cubicBezTo>
                  <a:pt x="14953" y="5862"/>
                  <a:pt x="14930" y="5665"/>
                  <a:pt x="15056" y="5631"/>
                </a:cubicBezTo>
                <a:cubicBezTo>
                  <a:pt x="15401" y="5537"/>
                  <a:pt x="15793" y="5467"/>
                  <a:pt x="16148" y="5407"/>
                </a:cubicBezTo>
                <a:cubicBezTo>
                  <a:pt x="16209" y="5407"/>
                  <a:pt x="16225" y="5398"/>
                  <a:pt x="16247" y="5432"/>
                </a:cubicBezTo>
              </a:path>
              <a:path w="3722" h="3722">
                <a:moveTo>
                  <a:pt x="14734" y="5879"/>
                </a:moveTo>
                <a:cubicBezTo>
                  <a:pt x="14694" y="5885"/>
                  <a:pt x="14541" y="5898"/>
                  <a:pt x="14511" y="5928"/>
                </a:cubicBezTo>
                <a:cubicBezTo>
                  <a:pt x="14477" y="5962"/>
                  <a:pt x="14482" y="6114"/>
                  <a:pt x="14461" y="6176"/>
                </a:cubicBezTo>
                <a:cubicBezTo>
                  <a:pt x="14561" y="6176"/>
                  <a:pt x="14672" y="6111"/>
                  <a:pt x="14759" y="6201"/>
                </a:cubicBezTo>
                <a:cubicBezTo>
                  <a:pt x="14919" y="6367"/>
                  <a:pt x="14601" y="6539"/>
                  <a:pt x="14486" y="6548"/>
                </a:cubicBezTo>
                <a:cubicBezTo>
                  <a:pt x="14478" y="6540"/>
                  <a:pt x="14469" y="6532"/>
                  <a:pt x="14461" y="6524"/>
                </a:cubicBezTo>
                <a:cubicBezTo>
                  <a:pt x="14386" y="6524"/>
                  <a:pt x="14561" y="6536"/>
                  <a:pt x="14635" y="6524"/>
                </a:cubicBezTo>
                <a:cubicBezTo>
                  <a:pt x="14660" y="6516"/>
                  <a:pt x="14684" y="6507"/>
                  <a:pt x="14709" y="6499"/>
                </a:cubicBezTo>
              </a:path>
              <a:path w="3722" h="3722">
                <a:moveTo>
                  <a:pt x="15329" y="4837"/>
                </a:moveTo>
                <a:cubicBezTo>
                  <a:pt x="15329" y="4987"/>
                  <a:pt x="15349" y="5133"/>
                  <a:pt x="15354" y="5283"/>
                </a:cubicBezTo>
                <a:cubicBezTo>
                  <a:pt x="15354" y="5325"/>
                  <a:pt x="15346" y="5341"/>
                  <a:pt x="15379" y="5333"/>
                </a:cubicBezTo>
              </a:path>
              <a:path w="3722" h="3722">
                <a:moveTo>
                  <a:pt x="15577" y="6672"/>
                </a:moveTo>
                <a:cubicBezTo>
                  <a:pt x="15505" y="6672"/>
                  <a:pt x="15387" y="6665"/>
                  <a:pt x="15329" y="6697"/>
                </a:cubicBezTo>
                <a:cubicBezTo>
                  <a:pt x="15310" y="6707"/>
                  <a:pt x="15306" y="6865"/>
                  <a:pt x="15304" y="6896"/>
                </a:cubicBezTo>
                <a:cubicBezTo>
                  <a:pt x="15304" y="6904"/>
                  <a:pt x="15304" y="6913"/>
                  <a:pt x="15304" y="6921"/>
                </a:cubicBezTo>
                <a:cubicBezTo>
                  <a:pt x="15389" y="6900"/>
                  <a:pt x="15432" y="6881"/>
                  <a:pt x="15528" y="6896"/>
                </a:cubicBezTo>
                <a:cubicBezTo>
                  <a:pt x="15540" y="7012"/>
                  <a:pt x="15483" y="7137"/>
                  <a:pt x="15329" y="7119"/>
                </a:cubicBezTo>
                <a:cubicBezTo>
                  <a:pt x="15321" y="7111"/>
                  <a:pt x="15312" y="7102"/>
                  <a:pt x="15304" y="7094"/>
                </a:cubicBezTo>
              </a:path>
              <a:path w="3722" h="3722">
                <a:moveTo>
                  <a:pt x="14932" y="6945"/>
                </a:moveTo>
                <a:cubicBezTo>
                  <a:pt x="15018" y="6931"/>
                  <a:pt x="15091" y="6921"/>
                  <a:pt x="15180" y="6921"/>
                </a:cubicBezTo>
              </a:path>
              <a:path w="3722" h="3722">
                <a:moveTo>
                  <a:pt x="15007" y="7243"/>
                </a:moveTo>
                <a:cubicBezTo>
                  <a:pt x="15230" y="7206"/>
                  <a:pt x="15451" y="7177"/>
                  <a:pt x="15677" y="7169"/>
                </a:cubicBezTo>
                <a:cubicBezTo>
                  <a:pt x="15685" y="7169"/>
                  <a:pt x="15693" y="7169"/>
                  <a:pt x="15701" y="7169"/>
                </a:cubicBezTo>
              </a:path>
              <a:path w="3722" h="3722">
                <a:moveTo>
                  <a:pt x="15255" y="7565"/>
                </a:moveTo>
                <a:cubicBezTo>
                  <a:pt x="15376" y="7520"/>
                  <a:pt x="15717" y="7441"/>
                  <a:pt x="15652" y="7714"/>
                </a:cubicBezTo>
                <a:cubicBezTo>
                  <a:pt x="15611" y="7885"/>
                  <a:pt x="15348" y="8035"/>
                  <a:pt x="15230" y="7987"/>
                </a:cubicBezTo>
                <a:cubicBezTo>
                  <a:pt x="15344" y="7865"/>
                  <a:pt x="15460" y="7758"/>
                  <a:pt x="15627" y="7913"/>
                </a:cubicBezTo>
                <a:cubicBezTo>
                  <a:pt x="15627" y="7938"/>
                  <a:pt x="15627" y="7946"/>
                  <a:pt x="15652" y="7938"/>
                </a:cubicBezTo>
              </a:path>
              <a:path w="3722" h="3722">
                <a:moveTo>
                  <a:pt x="17314" y="4688"/>
                </a:moveTo>
                <a:cubicBezTo>
                  <a:pt x="17336" y="5099"/>
                  <a:pt x="17363" y="5492"/>
                  <a:pt x="17338" y="5904"/>
                </a:cubicBezTo>
                <a:cubicBezTo>
                  <a:pt x="17319" y="6077"/>
                  <a:pt x="17311" y="6101"/>
                  <a:pt x="17314" y="6201"/>
                </a:cubicBezTo>
              </a:path>
              <a:path w="3722" h="3722">
                <a:moveTo>
                  <a:pt x="17934" y="4415"/>
                </a:moveTo>
                <a:cubicBezTo>
                  <a:pt x="17983" y="4341"/>
                  <a:pt x="18000" y="4316"/>
                  <a:pt x="18058" y="4291"/>
                </a:cubicBezTo>
                <a:cubicBezTo>
                  <a:pt x="18176" y="4516"/>
                  <a:pt x="18131" y="4711"/>
                  <a:pt x="17909" y="4887"/>
                </a:cubicBezTo>
                <a:cubicBezTo>
                  <a:pt x="17857" y="4887"/>
                  <a:pt x="17840" y="4885"/>
                  <a:pt x="17835" y="4837"/>
                </a:cubicBezTo>
                <a:cubicBezTo>
                  <a:pt x="17915" y="4756"/>
                  <a:pt x="17997" y="4887"/>
                  <a:pt x="18083" y="4936"/>
                </a:cubicBezTo>
                <a:cubicBezTo>
                  <a:pt x="18091" y="4936"/>
                  <a:pt x="18099" y="4936"/>
                  <a:pt x="18107" y="4936"/>
                </a:cubicBezTo>
              </a:path>
              <a:path w="3722" h="3722">
                <a:moveTo>
                  <a:pt x="18132" y="5333"/>
                </a:moveTo>
                <a:cubicBezTo>
                  <a:pt x="18008" y="5360"/>
                  <a:pt x="17835" y="5349"/>
                  <a:pt x="17810" y="5507"/>
                </a:cubicBezTo>
                <a:cubicBezTo>
                  <a:pt x="17810" y="5573"/>
                  <a:pt x="17810" y="5590"/>
                  <a:pt x="17810" y="5631"/>
                </a:cubicBezTo>
                <a:cubicBezTo>
                  <a:pt x="17912" y="5614"/>
                  <a:pt x="18004" y="5571"/>
                  <a:pt x="18107" y="5556"/>
                </a:cubicBezTo>
                <a:cubicBezTo>
                  <a:pt x="18174" y="5755"/>
                  <a:pt x="18123" y="5872"/>
                  <a:pt x="17909" y="5953"/>
                </a:cubicBezTo>
                <a:cubicBezTo>
                  <a:pt x="17868" y="5953"/>
                  <a:pt x="17860" y="5953"/>
                  <a:pt x="17835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0920" y="1571760"/>
            <a:ext cx="2563920" cy="2536560"/>
          </a:xfrm>
          <a:custGeom>
            <a:avLst/>
            <a:gdLst/>
            <a:ahLst/>
            <a:rect l="l" t="t" r="r" b="b"/>
            <a:pathLst>
              <a:path w="7120" h="7045">
                <a:moveTo>
                  <a:pt x="9699" y="11385"/>
                </a:moveTo>
                <a:cubicBezTo>
                  <a:pt x="9699" y="11393"/>
                  <a:pt x="9699" y="11402"/>
                  <a:pt x="9699" y="11410"/>
                </a:cubicBezTo>
              </a:path>
              <a:path w="7120" h="7045">
                <a:moveTo>
                  <a:pt x="10889" y="4415"/>
                </a:moveTo>
                <a:cubicBezTo>
                  <a:pt x="11082" y="4408"/>
                  <a:pt x="11269" y="4381"/>
                  <a:pt x="11460" y="4366"/>
                </a:cubicBezTo>
              </a:path>
              <a:path w="7120" h="7045">
                <a:moveTo>
                  <a:pt x="11311" y="8756"/>
                </a:moveTo>
                <a:cubicBezTo>
                  <a:pt x="11385" y="8741"/>
                  <a:pt x="11460" y="8701"/>
                  <a:pt x="11534" y="8682"/>
                </a:cubicBezTo>
                <a:cubicBezTo>
                  <a:pt x="11542" y="8682"/>
                  <a:pt x="11551" y="8682"/>
                  <a:pt x="11559" y="8682"/>
                </a:cubicBezTo>
              </a:path>
              <a:path w="7120" h="7045">
                <a:moveTo>
                  <a:pt x="16495" y="5432"/>
                </a:moveTo>
                <a:cubicBezTo>
                  <a:pt x="16635" y="5371"/>
                  <a:pt x="16704" y="5285"/>
                  <a:pt x="16718" y="5457"/>
                </a:cubicBezTo>
              </a:path>
              <a:path w="7120" h="7045">
                <a:moveTo>
                  <a:pt x="16495" y="5755"/>
                </a:moveTo>
                <a:cubicBezTo>
                  <a:pt x="16617" y="5746"/>
                  <a:pt x="16702" y="5721"/>
                  <a:pt x="16818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02000" y="2241720"/>
            <a:ext cx="3036960" cy="1946160"/>
          </a:xfrm>
          <a:custGeom>
            <a:avLst/>
            <a:gdLst/>
            <a:ahLst/>
            <a:rect l="l" t="t" r="r" b="b"/>
            <a:pathLst>
              <a:path w="8434" h="5408">
                <a:moveTo>
                  <a:pt x="17884" y="6226"/>
                </a:moveTo>
                <a:cubicBezTo>
                  <a:pt x="17835" y="6304"/>
                  <a:pt x="17801" y="6395"/>
                  <a:pt x="17735" y="6474"/>
                </a:cubicBezTo>
                <a:cubicBezTo>
                  <a:pt x="17536" y="6712"/>
                  <a:pt x="17181" y="6889"/>
                  <a:pt x="16917" y="7045"/>
                </a:cubicBezTo>
                <a:cubicBezTo>
                  <a:pt x="16604" y="7231"/>
                  <a:pt x="16301" y="7410"/>
                  <a:pt x="15999" y="7615"/>
                </a:cubicBezTo>
                <a:cubicBezTo>
                  <a:pt x="15449" y="7989"/>
                  <a:pt x="14933" y="8404"/>
                  <a:pt x="14387" y="8781"/>
                </a:cubicBezTo>
                <a:cubicBezTo>
                  <a:pt x="14197" y="8912"/>
                  <a:pt x="14028" y="9066"/>
                  <a:pt x="13841" y="9203"/>
                </a:cubicBezTo>
                <a:cubicBezTo>
                  <a:pt x="13635" y="9354"/>
                  <a:pt x="13450" y="9524"/>
                  <a:pt x="13246" y="9674"/>
                </a:cubicBezTo>
                <a:cubicBezTo>
                  <a:pt x="13173" y="9728"/>
                  <a:pt x="13092" y="9770"/>
                  <a:pt x="13022" y="9823"/>
                </a:cubicBezTo>
                <a:cubicBezTo>
                  <a:pt x="12831" y="9968"/>
                  <a:pt x="12618" y="10091"/>
                  <a:pt x="12427" y="10220"/>
                </a:cubicBezTo>
                <a:cubicBezTo>
                  <a:pt x="12374" y="10255"/>
                  <a:pt x="12336" y="10316"/>
                  <a:pt x="12278" y="10344"/>
                </a:cubicBezTo>
                <a:cubicBezTo>
                  <a:pt x="12233" y="10366"/>
                  <a:pt x="12222" y="10346"/>
                  <a:pt x="12179" y="10368"/>
                </a:cubicBezTo>
                <a:cubicBezTo>
                  <a:pt x="12224" y="10188"/>
                  <a:pt x="12271" y="10016"/>
                  <a:pt x="12353" y="9847"/>
                </a:cubicBezTo>
                <a:cubicBezTo>
                  <a:pt x="12353" y="9855"/>
                  <a:pt x="12353" y="9864"/>
                  <a:pt x="12353" y="9872"/>
                </a:cubicBezTo>
                <a:cubicBezTo>
                  <a:pt x="12303" y="10055"/>
                  <a:pt x="12251" y="10197"/>
                  <a:pt x="12154" y="10368"/>
                </a:cubicBezTo>
                <a:cubicBezTo>
                  <a:pt x="12146" y="10376"/>
                  <a:pt x="12137" y="10385"/>
                  <a:pt x="12129" y="10393"/>
                </a:cubicBezTo>
                <a:cubicBezTo>
                  <a:pt x="12278" y="10405"/>
                  <a:pt x="12378" y="10400"/>
                  <a:pt x="12526" y="10368"/>
                </a:cubicBezTo>
                <a:cubicBezTo>
                  <a:pt x="12550" y="10363"/>
                  <a:pt x="12552" y="10351"/>
                  <a:pt x="12576" y="10344"/>
                </a:cubicBezTo>
              </a:path>
              <a:path w="8434" h="5408">
                <a:moveTo>
                  <a:pt x="9996" y="9798"/>
                </a:moveTo>
                <a:cubicBezTo>
                  <a:pt x="9996" y="9672"/>
                  <a:pt x="9975" y="9997"/>
                  <a:pt x="9947" y="10120"/>
                </a:cubicBezTo>
                <a:cubicBezTo>
                  <a:pt x="9908" y="10275"/>
                  <a:pt x="9923" y="10310"/>
                  <a:pt x="9847" y="10368"/>
                </a:cubicBezTo>
                <a:cubicBezTo>
                  <a:pt x="9922" y="10221"/>
                  <a:pt x="10060" y="10210"/>
                  <a:pt x="10220" y="10220"/>
                </a:cubicBezTo>
                <a:cubicBezTo>
                  <a:pt x="10291" y="10224"/>
                  <a:pt x="10330" y="10228"/>
                  <a:pt x="10344" y="10269"/>
                </a:cubicBezTo>
              </a:path>
              <a:path w="8434" h="5408">
                <a:moveTo>
                  <a:pt x="10294" y="9599"/>
                </a:moveTo>
                <a:cubicBezTo>
                  <a:pt x="10242" y="9566"/>
                  <a:pt x="10269" y="9659"/>
                  <a:pt x="10269" y="9723"/>
                </a:cubicBezTo>
                <a:cubicBezTo>
                  <a:pt x="10269" y="10028"/>
                  <a:pt x="10333" y="10335"/>
                  <a:pt x="10344" y="10641"/>
                </a:cubicBezTo>
                <a:cubicBezTo>
                  <a:pt x="10349" y="10789"/>
                  <a:pt x="10344" y="10939"/>
                  <a:pt x="10344" y="11088"/>
                </a:cubicBezTo>
              </a:path>
              <a:path w="8434" h="5408">
                <a:moveTo>
                  <a:pt x="9649" y="11509"/>
                </a:moveTo>
                <a:cubicBezTo>
                  <a:pt x="9805" y="11561"/>
                  <a:pt x="9925" y="11581"/>
                  <a:pt x="10096" y="11584"/>
                </a:cubicBezTo>
                <a:cubicBezTo>
                  <a:pt x="10386" y="11588"/>
                  <a:pt x="10676" y="11592"/>
                  <a:pt x="10964" y="11559"/>
                </a:cubicBezTo>
                <a:cubicBezTo>
                  <a:pt x="11198" y="11532"/>
                  <a:pt x="11398" y="11478"/>
                  <a:pt x="11584" y="11336"/>
                </a:cubicBezTo>
                <a:cubicBezTo>
                  <a:pt x="11780" y="11186"/>
                  <a:pt x="11881" y="11031"/>
                  <a:pt x="11981" y="10815"/>
                </a:cubicBezTo>
                <a:cubicBezTo>
                  <a:pt x="12050" y="10666"/>
                  <a:pt x="12106" y="10565"/>
                  <a:pt x="12080" y="10393"/>
                </a:cubicBezTo>
                <a:cubicBezTo>
                  <a:pt x="12067" y="10305"/>
                  <a:pt x="12014" y="10178"/>
                  <a:pt x="11981" y="10096"/>
                </a:cubicBezTo>
                <a:cubicBezTo>
                  <a:pt x="11940" y="9995"/>
                  <a:pt x="11892" y="9901"/>
                  <a:pt x="11857" y="9798"/>
                </a:cubicBezTo>
                <a:cubicBezTo>
                  <a:pt x="11826" y="9709"/>
                  <a:pt x="11790" y="9627"/>
                  <a:pt x="11733" y="9550"/>
                </a:cubicBezTo>
                <a:cubicBezTo>
                  <a:pt x="11672" y="9467"/>
                  <a:pt x="11615" y="9388"/>
                  <a:pt x="11534" y="9327"/>
                </a:cubicBezTo>
                <a:cubicBezTo>
                  <a:pt x="11443" y="9259"/>
                  <a:pt x="11366" y="9238"/>
                  <a:pt x="11261" y="9203"/>
                </a:cubicBezTo>
                <a:cubicBezTo>
                  <a:pt x="11130" y="9159"/>
                  <a:pt x="11003" y="9137"/>
                  <a:pt x="10864" y="9153"/>
                </a:cubicBezTo>
                <a:cubicBezTo>
                  <a:pt x="10592" y="9184"/>
                  <a:pt x="10200" y="9246"/>
                  <a:pt x="9971" y="9401"/>
                </a:cubicBezTo>
                <a:cubicBezTo>
                  <a:pt x="9824" y="9501"/>
                  <a:pt x="9692" y="9620"/>
                  <a:pt x="9599" y="9773"/>
                </a:cubicBezTo>
                <a:cubicBezTo>
                  <a:pt x="9478" y="9972"/>
                  <a:pt x="9455" y="10242"/>
                  <a:pt x="9451" y="10468"/>
                </a:cubicBezTo>
                <a:cubicBezTo>
                  <a:pt x="9448" y="10654"/>
                  <a:pt x="9472" y="10797"/>
                  <a:pt x="9550" y="10964"/>
                </a:cubicBezTo>
                <a:cubicBezTo>
                  <a:pt x="9614" y="11100"/>
                  <a:pt x="9687" y="11214"/>
                  <a:pt x="9773" y="11336"/>
                </a:cubicBezTo>
                <a:cubicBezTo>
                  <a:pt x="9824" y="11408"/>
                  <a:pt x="9897" y="11484"/>
                  <a:pt x="9947" y="11534"/>
                </a:cubicBezTo>
                <a:cubicBezTo>
                  <a:pt x="9971" y="11558"/>
                  <a:pt x="10005" y="11619"/>
                  <a:pt x="10021" y="11633"/>
                </a:cubicBezTo>
                <a:cubicBezTo>
                  <a:pt x="10029" y="11633"/>
                  <a:pt x="10038" y="11633"/>
                  <a:pt x="10046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19680" y="2678040"/>
            <a:ext cx="331560" cy="1332000"/>
          </a:xfrm>
          <a:custGeom>
            <a:avLst/>
            <a:gdLst/>
            <a:ahLst/>
            <a:rect l="l" t="t" r="r" b="b"/>
            <a:pathLst>
              <a:path w="919" h="3697">
                <a:moveTo>
                  <a:pt x="11013" y="7789"/>
                </a:moveTo>
                <a:cubicBezTo>
                  <a:pt x="10990" y="7766"/>
                  <a:pt x="10982" y="7762"/>
                  <a:pt x="10988" y="7739"/>
                </a:cubicBezTo>
                <a:cubicBezTo>
                  <a:pt x="11063" y="7852"/>
                  <a:pt x="11188" y="7986"/>
                  <a:pt x="11261" y="8111"/>
                </a:cubicBezTo>
                <a:cubicBezTo>
                  <a:pt x="11408" y="8362"/>
                  <a:pt x="11561" y="8576"/>
                  <a:pt x="11733" y="8806"/>
                </a:cubicBezTo>
                <a:cubicBezTo>
                  <a:pt x="11776" y="8863"/>
                  <a:pt x="11762" y="8877"/>
                  <a:pt x="11807" y="8855"/>
                </a:cubicBezTo>
              </a:path>
              <a:path w="919" h="3697">
                <a:moveTo>
                  <a:pt x="11559" y="7466"/>
                </a:moveTo>
                <a:cubicBezTo>
                  <a:pt x="11508" y="7593"/>
                  <a:pt x="11495" y="7680"/>
                  <a:pt x="11460" y="7813"/>
                </a:cubicBezTo>
                <a:cubicBezTo>
                  <a:pt x="11371" y="8150"/>
                  <a:pt x="11328" y="8494"/>
                  <a:pt x="11237" y="8830"/>
                </a:cubicBezTo>
                <a:cubicBezTo>
                  <a:pt x="11218" y="8888"/>
                  <a:pt x="11209" y="8895"/>
                  <a:pt x="11212" y="8930"/>
                </a:cubicBezTo>
              </a:path>
              <a:path w="919" h="3697">
                <a:moveTo>
                  <a:pt x="11237" y="9575"/>
                </a:moveTo>
                <a:cubicBezTo>
                  <a:pt x="11207" y="9499"/>
                  <a:pt x="11275" y="9462"/>
                  <a:pt x="11336" y="9401"/>
                </a:cubicBezTo>
                <a:cubicBezTo>
                  <a:pt x="11459" y="9526"/>
                  <a:pt x="11375" y="9699"/>
                  <a:pt x="11286" y="9847"/>
                </a:cubicBezTo>
                <a:cubicBezTo>
                  <a:pt x="11208" y="9944"/>
                  <a:pt x="11191" y="9955"/>
                  <a:pt x="11162" y="10021"/>
                </a:cubicBezTo>
                <a:cubicBezTo>
                  <a:pt x="11279" y="9937"/>
                  <a:pt x="11350" y="9933"/>
                  <a:pt x="11485" y="9947"/>
                </a:cubicBezTo>
                <a:cubicBezTo>
                  <a:pt x="11509" y="9947"/>
                  <a:pt x="11518" y="9947"/>
                  <a:pt x="11534" y="9947"/>
                </a:cubicBezTo>
              </a:path>
              <a:path w="919" h="3697">
                <a:moveTo>
                  <a:pt x="10889" y="10319"/>
                </a:moveTo>
                <a:cubicBezTo>
                  <a:pt x="11099" y="10230"/>
                  <a:pt x="11332" y="10173"/>
                  <a:pt x="11559" y="10145"/>
                </a:cubicBezTo>
                <a:cubicBezTo>
                  <a:pt x="11650" y="10145"/>
                  <a:pt x="11658" y="10145"/>
                  <a:pt x="11708" y="10145"/>
                </a:cubicBezTo>
              </a:path>
              <a:path w="919" h="3697">
                <a:moveTo>
                  <a:pt x="11435" y="10393"/>
                </a:moveTo>
                <a:cubicBezTo>
                  <a:pt x="11377" y="10411"/>
                  <a:pt x="11217" y="10432"/>
                  <a:pt x="11187" y="10492"/>
                </a:cubicBezTo>
                <a:cubicBezTo>
                  <a:pt x="11167" y="10531"/>
                  <a:pt x="11187" y="10702"/>
                  <a:pt x="11187" y="10740"/>
                </a:cubicBezTo>
                <a:cubicBezTo>
                  <a:pt x="11303" y="10702"/>
                  <a:pt x="11333" y="10594"/>
                  <a:pt x="11460" y="10691"/>
                </a:cubicBezTo>
                <a:cubicBezTo>
                  <a:pt x="11638" y="10826"/>
                  <a:pt x="11401" y="11093"/>
                  <a:pt x="11261" y="11137"/>
                </a:cubicBezTo>
                <a:cubicBezTo>
                  <a:pt x="11169" y="11166"/>
                  <a:pt x="11079" y="11112"/>
                  <a:pt x="1098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8160" y="1803240"/>
            <a:ext cx="4518000" cy="3894120"/>
          </a:xfrm>
          <a:custGeom>
            <a:avLst/>
            <a:gdLst/>
            <a:ahLst/>
            <a:rect l="l" t="t" r="r" b="b"/>
            <a:pathLst>
              <a:path w="12552" h="10815">
                <a:moveTo>
                  <a:pt x="17810" y="5135"/>
                </a:moveTo>
                <a:cubicBezTo>
                  <a:pt x="18010" y="5079"/>
                  <a:pt x="18198" y="5026"/>
                  <a:pt x="18405" y="5011"/>
                </a:cubicBezTo>
              </a:path>
              <a:path w="12552" h="10815">
                <a:moveTo>
                  <a:pt x="5854" y="15825"/>
                </a:moveTo>
                <a:cubicBezTo>
                  <a:pt x="5862" y="15825"/>
                  <a:pt x="5871" y="15825"/>
                  <a:pt x="5879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2209680"/>
                <a:ext cx="1066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29920" y="377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38098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7600" y="56340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 Practice Time…..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616120"/>
            <a:ext cx="3268800" cy="1563840"/>
          </a:xfrm>
          <a:custGeom>
            <a:avLst/>
            <a:gdLst/>
            <a:ahLst/>
            <a:rect l="l" t="t" r="r" b="b"/>
            <a:pathLst>
              <a:path w="9080" h="4342">
                <a:moveTo>
                  <a:pt x="9575" y="7268"/>
                </a:moveTo>
                <a:cubicBezTo>
                  <a:pt x="9562" y="7385"/>
                  <a:pt x="9555" y="7506"/>
                  <a:pt x="9525" y="7615"/>
                </a:cubicBezTo>
              </a:path>
              <a:path w="9080" h="4342">
                <a:moveTo>
                  <a:pt x="18579" y="11609"/>
                </a:moveTo>
                <a:cubicBezTo>
                  <a:pt x="18579" y="11606"/>
                  <a:pt x="18592" y="11512"/>
                  <a:pt x="18579" y="11460"/>
                </a:cubicBezTo>
                <a:cubicBezTo>
                  <a:pt x="18542" y="11314"/>
                  <a:pt x="18463" y="11171"/>
                  <a:pt x="18355" y="11063"/>
                </a:cubicBezTo>
                <a:cubicBezTo>
                  <a:pt x="18158" y="10866"/>
                  <a:pt x="17929" y="10713"/>
                  <a:pt x="17711" y="10542"/>
                </a:cubicBezTo>
                <a:cubicBezTo>
                  <a:pt x="17507" y="10382"/>
                  <a:pt x="17291" y="10248"/>
                  <a:pt x="17066" y="10120"/>
                </a:cubicBezTo>
                <a:cubicBezTo>
                  <a:pt x="16842" y="9993"/>
                  <a:pt x="16617" y="9897"/>
                  <a:pt x="16371" y="9823"/>
                </a:cubicBezTo>
                <a:cubicBezTo>
                  <a:pt x="16151" y="9757"/>
                  <a:pt x="15925" y="9724"/>
                  <a:pt x="15701" y="9674"/>
                </a:cubicBezTo>
                <a:cubicBezTo>
                  <a:pt x="15431" y="9614"/>
                  <a:pt x="15161" y="9555"/>
                  <a:pt x="14883" y="9550"/>
                </a:cubicBezTo>
                <a:cubicBezTo>
                  <a:pt x="14503" y="9543"/>
                  <a:pt x="14117" y="9539"/>
                  <a:pt x="13742" y="9575"/>
                </a:cubicBezTo>
                <a:cubicBezTo>
                  <a:pt x="13584" y="9590"/>
                  <a:pt x="13428" y="9633"/>
                  <a:pt x="13271" y="9649"/>
                </a:cubicBezTo>
                <a:cubicBezTo>
                  <a:pt x="13066" y="9670"/>
                  <a:pt x="12855" y="9710"/>
                  <a:pt x="12650" y="9723"/>
                </a:cubicBezTo>
                <a:cubicBezTo>
                  <a:pt x="12483" y="9734"/>
                  <a:pt x="12320" y="9729"/>
                  <a:pt x="12154" y="9748"/>
                </a:cubicBezTo>
                <a:cubicBezTo>
                  <a:pt x="12005" y="9765"/>
                  <a:pt x="11858" y="9800"/>
                  <a:pt x="11708" y="9823"/>
                </a:cubicBezTo>
                <a:cubicBezTo>
                  <a:pt x="11594" y="9840"/>
                  <a:pt x="11222" y="9952"/>
                  <a:pt x="11212" y="9897"/>
                </a:cubicBezTo>
                <a:cubicBezTo>
                  <a:pt x="11198" y="9817"/>
                  <a:pt x="11323" y="9783"/>
                  <a:pt x="11361" y="9723"/>
                </a:cubicBezTo>
                <a:cubicBezTo>
                  <a:pt x="11340" y="9760"/>
                  <a:pt x="11259" y="9877"/>
                  <a:pt x="11212" y="9947"/>
                </a:cubicBezTo>
                <a:cubicBezTo>
                  <a:pt x="11212" y="9955"/>
                  <a:pt x="11212" y="9963"/>
                  <a:pt x="11212" y="9971"/>
                </a:cubicBezTo>
                <a:cubicBezTo>
                  <a:pt x="11326" y="9996"/>
                  <a:pt x="11457" y="10026"/>
                  <a:pt x="1155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05200" y="3679920"/>
            <a:ext cx="196920" cy="1951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13122" y="10220"/>
                </a:moveTo>
                <a:cubicBezTo>
                  <a:pt x="13122" y="10329"/>
                  <a:pt x="13068" y="10436"/>
                  <a:pt x="13072" y="10542"/>
                </a:cubicBezTo>
                <a:cubicBezTo>
                  <a:pt x="13075" y="10633"/>
                  <a:pt x="13168" y="10692"/>
                  <a:pt x="13246" y="10641"/>
                </a:cubicBezTo>
                <a:cubicBezTo>
                  <a:pt x="13314" y="10573"/>
                  <a:pt x="13336" y="10556"/>
                  <a:pt x="13345" y="10492"/>
                </a:cubicBezTo>
                <a:cubicBezTo>
                  <a:pt x="13231" y="10492"/>
                  <a:pt x="13237" y="10551"/>
                  <a:pt x="13196" y="10641"/>
                </a:cubicBezTo>
                <a:cubicBezTo>
                  <a:pt x="13176" y="10682"/>
                  <a:pt x="13157" y="10698"/>
                  <a:pt x="13196" y="10691"/>
                </a:cubicBezTo>
              </a:path>
              <a:path w="547" h="546">
                <a:moveTo>
                  <a:pt x="13122" y="10765"/>
                </a:moveTo>
                <a:cubicBezTo>
                  <a:pt x="13276" y="10765"/>
                  <a:pt x="13416" y="10735"/>
                  <a:pt x="13568" y="10716"/>
                </a:cubicBezTo>
                <a:cubicBezTo>
                  <a:pt x="13585" y="10716"/>
                  <a:pt x="13601" y="10716"/>
                  <a:pt x="1361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1200" y="2143080"/>
            <a:ext cx="857160" cy="3635280"/>
          </a:xfrm>
          <a:custGeom>
            <a:avLst/>
            <a:gdLst/>
            <a:ahLst/>
            <a:rect l="l" t="t" r="r" b="b"/>
            <a:pathLst>
              <a:path w="2382" h="10097">
                <a:moveTo>
                  <a:pt x="10889" y="5978"/>
                </a:moveTo>
                <a:cubicBezTo>
                  <a:pt x="11026" y="5960"/>
                  <a:pt x="11106" y="5950"/>
                  <a:pt x="11237" y="5978"/>
                </a:cubicBezTo>
              </a:path>
              <a:path w="2382" h="10097">
                <a:moveTo>
                  <a:pt x="12005" y="10740"/>
                </a:moveTo>
                <a:cubicBezTo>
                  <a:pt x="11958" y="10850"/>
                  <a:pt x="11910" y="10956"/>
                  <a:pt x="11857" y="11063"/>
                </a:cubicBezTo>
              </a:path>
              <a:path w="2382" h="10097">
                <a:moveTo>
                  <a:pt x="12328" y="10716"/>
                </a:moveTo>
                <a:cubicBezTo>
                  <a:pt x="12385" y="10688"/>
                  <a:pt x="12408" y="10677"/>
                  <a:pt x="12452" y="10666"/>
                </a:cubicBezTo>
              </a:path>
              <a:path w="2382" h="10097">
                <a:moveTo>
                  <a:pt x="12601" y="10790"/>
                </a:moveTo>
                <a:cubicBezTo>
                  <a:pt x="12701" y="10790"/>
                  <a:pt x="12735" y="10790"/>
                  <a:pt x="12799" y="10765"/>
                </a:cubicBezTo>
              </a:path>
              <a:path w="2382" h="10097">
                <a:moveTo>
                  <a:pt x="12799" y="10765"/>
                </a:moveTo>
                <a:lnTo>
                  <a:pt x="12799" y="10765"/>
                </a:lnTo>
              </a:path>
              <a:path w="2382" h="10097">
                <a:moveTo>
                  <a:pt x="11311" y="15825"/>
                </a:moveTo>
                <a:cubicBezTo>
                  <a:pt x="11288" y="15901"/>
                  <a:pt x="11266" y="15975"/>
                  <a:pt x="11237" y="16049"/>
                </a:cubicBezTo>
              </a:path>
              <a:path w="2382" h="10097">
                <a:moveTo>
                  <a:pt x="10468" y="15106"/>
                </a:moveTo>
                <a:cubicBezTo>
                  <a:pt x="10456" y="15355"/>
                  <a:pt x="10492" y="15613"/>
                  <a:pt x="10418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13080" y="1714680"/>
            <a:ext cx="1490760" cy="4197240"/>
          </a:xfrm>
          <a:custGeom>
            <a:avLst/>
            <a:gdLst/>
            <a:ahLst/>
            <a:rect l="l" t="t" r="r" b="b"/>
            <a:pathLst>
              <a:path w="4143" h="11660">
                <a:moveTo>
                  <a:pt x="10120" y="5879"/>
                </a:moveTo>
                <a:cubicBezTo>
                  <a:pt x="10120" y="5909"/>
                  <a:pt x="10083" y="6135"/>
                  <a:pt x="10096" y="6152"/>
                </a:cubicBezTo>
                <a:cubicBezTo>
                  <a:pt x="10164" y="6242"/>
                  <a:pt x="10387" y="6150"/>
                  <a:pt x="10468" y="6127"/>
                </a:cubicBezTo>
              </a:path>
              <a:path w="4143" h="11660">
                <a:moveTo>
                  <a:pt x="10443" y="5755"/>
                </a:moveTo>
                <a:cubicBezTo>
                  <a:pt x="10434" y="5848"/>
                  <a:pt x="10339" y="6356"/>
                  <a:pt x="10418" y="6400"/>
                </a:cubicBezTo>
                <a:cubicBezTo>
                  <a:pt x="10426" y="6383"/>
                  <a:pt x="10435" y="6367"/>
                  <a:pt x="10443" y="6350"/>
                </a:cubicBezTo>
              </a:path>
              <a:path w="4143" h="11660">
                <a:moveTo>
                  <a:pt x="11038" y="5581"/>
                </a:moveTo>
                <a:cubicBezTo>
                  <a:pt x="11038" y="5687"/>
                  <a:pt x="11043" y="5780"/>
                  <a:pt x="11063" y="5879"/>
                </a:cubicBezTo>
              </a:path>
              <a:path w="4143" h="11660">
                <a:moveTo>
                  <a:pt x="10988" y="6176"/>
                </a:moveTo>
                <a:cubicBezTo>
                  <a:pt x="11069" y="6144"/>
                  <a:pt x="11106" y="6136"/>
                  <a:pt x="11187" y="6152"/>
                </a:cubicBezTo>
                <a:cubicBezTo>
                  <a:pt x="11148" y="6236"/>
                  <a:pt x="11134" y="6281"/>
                  <a:pt x="11038" y="6300"/>
                </a:cubicBezTo>
                <a:cubicBezTo>
                  <a:pt x="11077" y="6300"/>
                  <a:pt x="11205" y="6297"/>
                  <a:pt x="11187" y="6375"/>
                </a:cubicBezTo>
                <a:cubicBezTo>
                  <a:pt x="11155" y="6513"/>
                  <a:pt x="11043" y="6509"/>
                  <a:pt x="10964" y="6449"/>
                </a:cubicBezTo>
              </a:path>
              <a:path w="4143" h="11660">
                <a:moveTo>
                  <a:pt x="10244" y="7218"/>
                </a:moveTo>
                <a:cubicBezTo>
                  <a:pt x="10296" y="7158"/>
                  <a:pt x="10309" y="7153"/>
                  <a:pt x="10393" y="7144"/>
                </a:cubicBezTo>
                <a:cubicBezTo>
                  <a:pt x="10431" y="7332"/>
                  <a:pt x="10408" y="7338"/>
                  <a:pt x="10269" y="7466"/>
                </a:cubicBezTo>
                <a:cubicBezTo>
                  <a:pt x="10253" y="7483"/>
                  <a:pt x="10236" y="7499"/>
                  <a:pt x="10220" y="7516"/>
                </a:cubicBezTo>
                <a:cubicBezTo>
                  <a:pt x="10318" y="7559"/>
                  <a:pt x="10452" y="7541"/>
                  <a:pt x="10567" y="7541"/>
                </a:cubicBezTo>
                <a:cubicBezTo>
                  <a:pt x="10575" y="7541"/>
                  <a:pt x="10584" y="7541"/>
                  <a:pt x="10592" y="7541"/>
                </a:cubicBezTo>
              </a:path>
              <a:path w="4143" h="11660">
                <a:moveTo>
                  <a:pt x="11112" y="6896"/>
                </a:moveTo>
                <a:cubicBezTo>
                  <a:pt x="11162" y="6888"/>
                  <a:pt x="11210" y="6877"/>
                  <a:pt x="11261" y="6871"/>
                </a:cubicBezTo>
                <a:cubicBezTo>
                  <a:pt x="11236" y="6922"/>
                  <a:pt x="11162" y="6971"/>
                  <a:pt x="11112" y="7020"/>
                </a:cubicBezTo>
                <a:cubicBezTo>
                  <a:pt x="11195" y="7020"/>
                  <a:pt x="11278" y="7020"/>
                  <a:pt x="11361" y="7020"/>
                </a:cubicBezTo>
              </a:path>
              <a:path w="4143" h="11660">
                <a:moveTo>
                  <a:pt x="11013" y="7144"/>
                </a:moveTo>
                <a:cubicBezTo>
                  <a:pt x="11155" y="7136"/>
                  <a:pt x="11308" y="7096"/>
                  <a:pt x="11435" y="7144"/>
                </a:cubicBezTo>
              </a:path>
              <a:path w="4143" h="11660">
                <a:moveTo>
                  <a:pt x="11112" y="7417"/>
                </a:moveTo>
                <a:cubicBezTo>
                  <a:pt x="11148" y="7381"/>
                  <a:pt x="11252" y="7375"/>
                  <a:pt x="11311" y="7392"/>
                </a:cubicBezTo>
                <a:cubicBezTo>
                  <a:pt x="11255" y="7429"/>
                  <a:pt x="11210" y="7468"/>
                  <a:pt x="11162" y="7516"/>
                </a:cubicBezTo>
                <a:cubicBezTo>
                  <a:pt x="11234" y="7528"/>
                  <a:pt x="11363" y="7577"/>
                  <a:pt x="11237" y="7665"/>
                </a:cubicBezTo>
                <a:cubicBezTo>
                  <a:pt x="11115" y="7713"/>
                  <a:pt x="11077" y="7729"/>
                  <a:pt x="10988" y="7714"/>
                </a:cubicBezTo>
              </a:path>
              <a:path w="4143" h="11660">
                <a:moveTo>
                  <a:pt x="9327" y="7987"/>
                </a:moveTo>
                <a:cubicBezTo>
                  <a:pt x="9888" y="7945"/>
                  <a:pt x="10451" y="7925"/>
                  <a:pt x="11013" y="7913"/>
                </a:cubicBezTo>
                <a:cubicBezTo>
                  <a:pt x="11177" y="7909"/>
                  <a:pt x="11344" y="7913"/>
                  <a:pt x="11509" y="7913"/>
                </a:cubicBezTo>
              </a:path>
              <a:path w="4143" h="11660">
                <a:moveTo>
                  <a:pt x="11063" y="8210"/>
                </a:moveTo>
                <a:cubicBezTo>
                  <a:pt x="11148" y="8194"/>
                  <a:pt x="11323" y="8120"/>
                  <a:pt x="11212" y="8260"/>
                </a:cubicBezTo>
                <a:cubicBezTo>
                  <a:pt x="11170" y="8302"/>
                  <a:pt x="11163" y="8310"/>
                  <a:pt x="11137" y="8334"/>
                </a:cubicBezTo>
                <a:cubicBezTo>
                  <a:pt x="11246" y="8334"/>
                  <a:pt x="11273" y="8329"/>
                  <a:pt x="11336" y="8359"/>
                </a:cubicBezTo>
                <a:cubicBezTo>
                  <a:pt x="11286" y="8459"/>
                  <a:pt x="11202" y="8487"/>
                  <a:pt x="11088" y="8458"/>
                </a:cubicBezTo>
              </a:path>
              <a:path w="4143" h="11660">
                <a:moveTo>
                  <a:pt x="11013" y="8607"/>
                </a:moveTo>
                <a:cubicBezTo>
                  <a:pt x="11174" y="8592"/>
                  <a:pt x="11324" y="8582"/>
                  <a:pt x="11485" y="8582"/>
                </a:cubicBezTo>
              </a:path>
              <a:path w="4143" h="11660">
                <a:moveTo>
                  <a:pt x="11088" y="8781"/>
                </a:moveTo>
                <a:cubicBezTo>
                  <a:pt x="11097" y="8780"/>
                  <a:pt x="11367" y="8732"/>
                  <a:pt x="11336" y="8806"/>
                </a:cubicBezTo>
                <a:cubicBezTo>
                  <a:pt x="11299" y="8893"/>
                  <a:pt x="11213" y="8894"/>
                  <a:pt x="11137" y="8905"/>
                </a:cubicBezTo>
                <a:cubicBezTo>
                  <a:pt x="11296" y="8905"/>
                  <a:pt x="11315" y="8899"/>
                  <a:pt x="11385" y="9029"/>
                </a:cubicBezTo>
                <a:cubicBezTo>
                  <a:pt x="11248" y="9088"/>
                  <a:pt x="11231" y="9080"/>
                  <a:pt x="11088" y="9029"/>
                </a:cubicBezTo>
              </a:path>
              <a:path w="4143" h="11660">
                <a:moveTo>
                  <a:pt x="11088" y="8186"/>
                </a:moveTo>
                <a:cubicBezTo>
                  <a:pt x="11186" y="8416"/>
                  <a:pt x="11301" y="8631"/>
                  <a:pt x="11410" y="8855"/>
                </a:cubicBezTo>
                <a:cubicBezTo>
                  <a:pt x="11448" y="8949"/>
                  <a:pt x="11441" y="8967"/>
                  <a:pt x="11485" y="9004"/>
                </a:cubicBezTo>
              </a:path>
              <a:path w="4143" h="11660">
                <a:moveTo>
                  <a:pt x="11385" y="8086"/>
                </a:moveTo>
                <a:cubicBezTo>
                  <a:pt x="11385" y="8270"/>
                  <a:pt x="11313" y="8487"/>
                  <a:pt x="11261" y="8657"/>
                </a:cubicBezTo>
                <a:cubicBezTo>
                  <a:pt x="11222" y="8784"/>
                  <a:pt x="11167" y="8908"/>
                  <a:pt x="11112" y="9029"/>
                </a:cubicBezTo>
              </a:path>
              <a:path w="4143" h="11660">
                <a:moveTo>
                  <a:pt x="10269" y="4812"/>
                </a:moveTo>
                <a:cubicBezTo>
                  <a:pt x="10212" y="4964"/>
                  <a:pt x="10238" y="5142"/>
                  <a:pt x="10244" y="5308"/>
                </a:cubicBezTo>
                <a:cubicBezTo>
                  <a:pt x="10247" y="5399"/>
                  <a:pt x="10244" y="5622"/>
                  <a:pt x="10244" y="5531"/>
                </a:cubicBezTo>
              </a:path>
              <a:path w="4143" h="11660">
                <a:moveTo>
                  <a:pt x="11633" y="8582"/>
                </a:moveTo>
                <a:cubicBezTo>
                  <a:pt x="11798" y="8500"/>
                  <a:pt x="11935" y="8425"/>
                  <a:pt x="12080" y="8310"/>
                </a:cubicBezTo>
                <a:cubicBezTo>
                  <a:pt x="12350" y="8096"/>
                  <a:pt x="12387" y="7845"/>
                  <a:pt x="12427" y="7516"/>
                </a:cubicBezTo>
                <a:cubicBezTo>
                  <a:pt x="12465" y="7208"/>
                  <a:pt x="12491" y="6871"/>
                  <a:pt x="12402" y="6573"/>
                </a:cubicBezTo>
                <a:cubicBezTo>
                  <a:pt x="12346" y="6386"/>
                  <a:pt x="12293" y="6212"/>
                  <a:pt x="12229" y="6028"/>
                </a:cubicBezTo>
                <a:cubicBezTo>
                  <a:pt x="12168" y="5853"/>
                  <a:pt x="12107" y="5691"/>
                  <a:pt x="11981" y="5556"/>
                </a:cubicBezTo>
                <a:cubicBezTo>
                  <a:pt x="11866" y="5433"/>
                  <a:pt x="11746" y="5354"/>
                  <a:pt x="11609" y="5259"/>
                </a:cubicBezTo>
                <a:cubicBezTo>
                  <a:pt x="11464" y="5159"/>
                  <a:pt x="11334" y="5077"/>
                  <a:pt x="11162" y="5035"/>
                </a:cubicBezTo>
                <a:cubicBezTo>
                  <a:pt x="11015" y="5000"/>
                  <a:pt x="10866" y="5011"/>
                  <a:pt x="10716" y="5011"/>
                </a:cubicBezTo>
                <a:cubicBezTo>
                  <a:pt x="10708" y="5011"/>
                  <a:pt x="10699" y="5011"/>
                  <a:pt x="10691" y="5011"/>
                </a:cubicBezTo>
                <a:cubicBezTo>
                  <a:pt x="10724" y="5081"/>
                  <a:pt x="10756" y="5166"/>
                  <a:pt x="10815" y="5234"/>
                </a:cubicBezTo>
                <a:cubicBezTo>
                  <a:pt x="10823" y="5234"/>
                  <a:pt x="10832" y="5234"/>
                  <a:pt x="10840" y="5234"/>
                </a:cubicBezTo>
                <a:cubicBezTo>
                  <a:pt x="10814" y="5119"/>
                  <a:pt x="10801" y="5014"/>
                  <a:pt x="10740" y="4911"/>
                </a:cubicBezTo>
                <a:cubicBezTo>
                  <a:pt x="10732" y="4903"/>
                  <a:pt x="10724" y="4895"/>
                  <a:pt x="10716" y="4887"/>
                </a:cubicBezTo>
                <a:cubicBezTo>
                  <a:pt x="10808" y="4850"/>
                  <a:pt x="10914" y="4795"/>
                  <a:pt x="11013" y="4762"/>
                </a:cubicBezTo>
                <a:cubicBezTo>
                  <a:pt x="11021" y="4762"/>
                  <a:pt x="11030" y="4762"/>
                  <a:pt x="11038" y="4762"/>
                </a:cubicBezTo>
              </a:path>
              <a:path w="4143" h="11660">
                <a:moveTo>
                  <a:pt x="10071" y="8458"/>
                </a:moveTo>
                <a:cubicBezTo>
                  <a:pt x="10054" y="8549"/>
                  <a:pt x="10084" y="8614"/>
                  <a:pt x="10021" y="8682"/>
                </a:cubicBezTo>
                <a:cubicBezTo>
                  <a:pt x="10052" y="8579"/>
                  <a:pt x="10047" y="8376"/>
                  <a:pt x="10195" y="8384"/>
                </a:cubicBezTo>
                <a:cubicBezTo>
                  <a:pt x="10268" y="8388"/>
                  <a:pt x="10409" y="8390"/>
                  <a:pt x="10468" y="8434"/>
                </a:cubicBezTo>
                <a:cubicBezTo>
                  <a:pt x="10458" y="8636"/>
                  <a:pt x="10439" y="8833"/>
                  <a:pt x="10393" y="9029"/>
                </a:cubicBezTo>
              </a:path>
              <a:path w="4143" h="11660">
                <a:moveTo>
                  <a:pt x="9575" y="9252"/>
                </a:moveTo>
                <a:cubicBezTo>
                  <a:pt x="9816" y="9455"/>
                  <a:pt x="10018" y="9521"/>
                  <a:pt x="10344" y="9451"/>
                </a:cubicBezTo>
                <a:cubicBezTo>
                  <a:pt x="10600" y="9396"/>
                  <a:pt x="10888" y="9194"/>
                  <a:pt x="10964" y="8930"/>
                </a:cubicBezTo>
                <a:cubicBezTo>
                  <a:pt x="11036" y="8679"/>
                  <a:pt x="10821" y="8313"/>
                  <a:pt x="10616" y="8186"/>
                </a:cubicBezTo>
                <a:cubicBezTo>
                  <a:pt x="10390" y="8045"/>
                  <a:pt x="10041" y="8083"/>
                  <a:pt x="9847" y="8260"/>
                </a:cubicBezTo>
                <a:cubicBezTo>
                  <a:pt x="9569" y="8513"/>
                  <a:pt x="9503" y="8907"/>
                  <a:pt x="9823" y="9153"/>
                </a:cubicBezTo>
                <a:cubicBezTo>
                  <a:pt x="9865" y="9185"/>
                  <a:pt x="9986" y="9207"/>
                  <a:pt x="10046" y="9227"/>
                </a:cubicBezTo>
              </a:path>
              <a:path w="4143" h="11660">
                <a:moveTo>
                  <a:pt x="10046" y="10765"/>
                </a:moveTo>
                <a:cubicBezTo>
                  <a:pt x="10236" y="10765"/>
                  <a:pt x="10426" y="10765"/>
                  <a:pt x="10616" y="10765"/>
                </a:cubicBezTo>
                <a:cubicBezTo>
                  <a:pt x="10586" y="10964"/>
                  <a:pt x="10520" y="11159"/>
                  <a:pt x="10492" y="11361"/>
                </a:cubicBezTo>
                <a:cubicBezTo>
                  <a:pt x="10492" y="11442"/>
                  <a:pt x="10509" y="11431"/>
                  <a:pt x="10567" y="11286"/>
                </a:cubicBezTo>
              </a:path>
              <a:path w="4143" h="11660">
                <a:moveTo>
                  <a:pt x="11112" y="10443"/>
                </a:moveTo>
                <a:cubicBezTo>
                  <a:pt x="11130" y="10406"/>
                  <a:pt x="11256" y="10301"/>
                  <a:pt x="11311" y="10344"/>
                </a:cubicBezTo>
                <a:cubicBezTo>
                  <a:pt x="11361" y="10383"/>
                  <a:pt x="11255" y="10494"/>
                  <a:pt x="11237" y="10517"/>
                </a:cubicBezTo>
                <a:cubicBezTo>
                  <a:pt x="11229" y="10517"/>
                  <a:pt x="11220" y="10517"/>
                  <a:pt x="11212" y="10517"/>
                </a:cubicBezTo>
                <a:cubicBezTo>
                  <a:pt x="11331" y="10497"/>
                  <a:pt x="11354" y="10499"/>
                  <a:pt x="11435" y="10592"/>
                </a:cubicBezTo>
                <a:cubicBezTo>
                  <a:pt x="11353" y="10682"/>
                  <a:pt x="11338" y="10691"/>
                  <a:pt x="11212" y="10691"/>
                </a:cubicBezTo>
              </a:path>
              <a:path w="4143" h="11660">
                <a:moveTo>
                  <a:pt x="11162" y="10864"/>
                </a:moveTo>
                <a:cubicBezTo>
                  <a:pt x="11289" y="10849"/>
                  <a:pt x="11406" y="10840"/>
                  <a:pt x="11534" y="10840"/>
                </a:cubicBezTo>
              </a:path>
              <a:path w="4143" h="11660">
                <a:moveTo>
                  <a:pt x="11336" y="11112"/>
                </a:moveTo>
                <a:cubicBezTo>
                  <a:pt x="11247" y="11136"/>
                  <a:pt x="11227" y="11115"/>
                  <a:pt x="11212" y="11187"/>
                </a:cubicBezTo>
                <a:cubicBezTo>
                  <a:pt x="11191" y="11287"/>
                  <a:pt x="11167" y="11275"/>
                  <a:pt x="11212" y="11336"/>
                </a:cubicBezTo>
                <a:cubicBezTo>
                  <a:pt x="11282" y="11322"/>
                  <a:pt x="11492" y="11270"/>
                  <a:pt x="11460" y="11435"/>
                </a:cubicBezTo>
                <a:cubicBezTo>
                  <a:pt x="11437" y="11554"/>
                  <a:pt x="11321" y="11548"/>
                  <a:pt x="11237" y="11559"/>
                </a:cubicBezTo>
              </a:path>
              <a:path w="4143" h="11660">
                <a:moveTo>
                  <a:pt x="11410" y="12129"/>
                </a:moveTo>
                <a:cubicBezTo>
                  <a:pt x="11505" y="12143"/>
                  <a:pt x="11585" y="12129"/>
                  <a:pt x="11683" y="12129"/>
                </a:cubicBezTo>
                <a:cubicBezTo>
                  <a:pt x="11668" y="12221"/>
                  <a:pt x="11631" y="12313"/>
                  <a:pt x="11609" y="12402"/>
                </a:cubicBezTo>
                <a:cubicBezTo>
                  <a:pt x="11609" y="12410"/>
                  <a:pt x="11609" y="12419"/>
                  <a:pt x="11609" y="12427"/>
                </a:cubicBezTo>
              </a:path>
              <a:path w="4143" h="11660">
                <a:moveTo>
                  <a:pt x="11361" y="12700"/>
                </a:moveTo>
                <a:cubicBezTo>
                  <a:pt x="11524" y="12659"/>
                  <a:pt x="11709" y="12677"/>
                  <a:pt x="11857" y="12650"/>
                </a:cubicBezTo>
                <a:cubicBezTo>
                  <a:pt x="11857" y="12642"/>
                  <a:pt x="11857" y="12634"/>
                  <a:pt x="11857" y="12626"/>
                </a:cubicBezTo>
              </a:path>
              <a:path w="4143" h="11660">
                <a:moveTo>
                  <a:pt x="11311" y="13022"/>
                </a:moveTo>
                <a:cubicBezTo>
                  <a:pt x="11285" y="13159"/>
                  <a:pt x="11200" y="13402"/>
                  <a:pt x="11237" y="13494"/>
                </a:cubicBezTo>
              </a:path>
              <a:path w="4143" h="11660">
                <a:moveTo>
                  <a:pt x="11658" y="13122"/>
                </a:moveTo>
                <a:cubicBezTo>
                  <a:pt x="11571" y="13226"/>
                  <a:pt x="11567" y="13273"/>
                  <a:pt x="11559" y="13419"/>
                </a:cubicBezTo>
                <a:cubicBezTo>
                  <a:pt x="11699" y="13394"/>
                  <a:pt x="11962" y="13326"/>
                  <a:pt x="11782" y="13146"/>
                </a:cubicBezTo>
                <a:cubicBezTo>
                  <a:pt x="11741" y="13121"/>
                  <a:pt x="11699" y="13097"/>
                  <a:pt x="11658" y="13072"/>
                </a:cubicBezTo>
              </a:path>
              <a:path w="4143" h="11660">
                <a:moveTo>
                  <a:pt x="12973" y="10964"/>
                </a:moveTo>
                <a:cubicBezTo>
                  <a:pt x="12986" y="11108"/>
                  <a:pt x="12993" y="11217"/>
                  <a:pt x="12973" y="11361"/>
                </a:cubicBezTo>
                <a:cubicBezTo>
                  <a:pt x="12973" y="11369"/>
                  <a:pt x="12973" y="11377"/>
                  <a:pt x="12973" y="11385"/>
                </a:cubicBezTo>
              </a:path>
              <a:path w="4143" h="11660">
                <a:moveTo>
                  <a:pt x="13246" y="11013"/>
                </a:moveTo>
                <a:cubicBezTo>
                  <a:pt x="13170" y="11142"/>
                  <a:pt x="13150" y="11164"/>
                  <a:pt x="13171" y="11311"/>
                </a:cubicBezTo>
                <a:cubicBezTo>
                  <a:pt x="13278" y="11284"/>
                  <a:pt x="13459" y="11152"/>
                  <a:pt x="13271" y="11038"/>
                </a:cubicBezTo>
                <a:cubicBezTo>
                  <a:pt x="13213" y="11021"/>
                  <a:pt x="13155" y="11005"/>
                  <a:pt x="13097" y="10988"/>
                </a:cubicBezTo>
              </a:path>
              <a:path w="4143" h="11660">
                <a:moveTo>
                  <a:pt x="11857" y="10740"/>
                </a:moveTo>
                <a:cubicBezTo>
                  <a:pt x="11897" y="10829"/>
                  <a:pt x="11906" y="10836"/>
                  <a:pt x="11906" y="10939"/>
                </a:cubicBezTo>
              </a:path>
              <a:path w="4143" h="11660">
                <a:moveTo>
                  <a:pt x="12229" y="10889"/>
                </a:moveTo>
                <a:cubicBezTo>
                  <a:pt x="12287" y="10889"/>
                  <a:pt x="12344" y="10889"/>
                  <a:pt x="12402" y="10889"/>
                </a:cubicBezTo>
                <a:cubicBezTo>
                  <a:pt x="12385" y="11013"/>
                  <a:pt x="12350" y="11062"/>
                  <a:pt x="12254" y="11137"/>
                </a:cubicBezTo>
                <a:cubicBezTo>
                  <a:pt x="12405" y="11137"/>
                  <a:pt x="12438" y="11102"/>
                  <a:pt x="12526" y="10988"/>
                </a:cubicBezTo>
              </a:path>
              <a:path w="4143" h="11660">
                <a:moveTo>
                  <a:pt x="12154" y="10418"/>
                </a:moveTo>
                <a:cubicBezTo>
                  <a:pt x="12183" y="10379"/>
                  <a:pt x="12220" y="10368"/>
                  <a:pt x="12278" y="10368"/>
                </a:cubicBezTo>
                <a:cubicBezTo>
                  <a:pt x="12271" y="10483"/>
                  <a:pt x="12285" y="10498"/>
                  <a:pt x="12204" y="10567"/>
                </a:cubicBezTo>
                <a:cubicBezTo>
                  <a:pt x="12289" y="10567"/>
                  <a:pt x="12344" y="10558"/>
                  <a:pt x="12427" y="10542"/>
                </a:cubicBezTo>
              </a:path>
              <a:path w="4143" h="11660">
                <a:moveTo>
                  <a:pt x="12601" y="10691"/>
                </a:moveTo>
                <a:cubicBezTo>
                  <a:pt x="12626" y="10691"/>
                  <a:pt x="12650" y="10691"/>
                  <a:pt x="12675" y="10691"/>
                </a:cubicBezTo>
              </a:path>
              <a:path w="4143" h="11660">
                <a:moveTo>
                  <a:pt x="9203" y="13816"/>
                </a:moveTo>
                <a:cubicBezTo>
                  <a:pt x="9467" y="13816"/>
                  <a:pt x="9733" y="13781"/>
                  <a:pt x="9996" y="13767"/>
                </a:cubicBezTo>
                <a:cubicBezTo>
                  <a:pt x="10649" y="13732"/>
                  <a:pt x="11304" y="13696"/>
                  <a:pt x="11956" y="13643"/>
                </a:cubicBezTo>
                <a:cubicBezTo>
                  <a:pt x="12056" y="13635"/>
                  <a:pt x="12136" y="13624"/>
                  <a:pt x="12229" y="13618"/>
                </a:cubicBezTo>
              </a:path>
              <a:path w="4143" h="11660">
                <a:moveTo>
                  <a:pt x="11286" y="13891"/>
                </a:moveTo>
                <a:cubicBezTo>
                  <a:pt x="11273" y="14007"/>
                  <a:pt x="11170" y="14311"/>
                  <a:pt x="11261" y="14238"/>
                </a:cubicBezTo>
                <a:cubicBezTo>
                  <a:pt x="11269" y="14213"/>
                  <a:pt x="11278" y="14188"/>
                  <a:pt x="11286" y="14163"/>
                </a:cubicBezTo>
              </a:path>
              <a:path w="4143" h="11660">
                <a:moveTo>
                  <a:pt x="11460" y="13866"/>
                </a:moveTo>
                <a:cubicBezTo>
                  <a:pt x="11504" y="13860"/>
                  <a:pt x="11711" y="13782"/>
                  <a:pt x="11633" y="13891"/>
                </a:cubicBezTo>
                <a:cubicBezTo>
                  <a:pt x="11598" y="13940"/>
                  <a:pt x="11536" y="13994"/>
                  <a:pt x="11485" y="14015"/>
                </a:cubicBezTo>
                <a:cubicBezTo>
                  <a:pt x="11597" y="14001"/>
                  <a:pt x="11644" y="13987"/>
                  <a:pt x="11733" y="14064"/>
                </a:cubicBezTo>
                <a:cubicBezTo>
                  <a:pt x="11626" y="14155"/>
                  <a:pt x="11618" y="14174"/>
                  <a:pt x="11485" y="14163"/>
                </a:cubicBezTo>
              </a:path>
              <a:path w="4143" h="11660">
                <a:moveTo>
                  <a:pt x="11013" y="14560"/>
                </a:moveTo>
                <a:cubicBezTo>
                  <a:pt x="11269" y="14536"/>
                  <a:pt x="11524" y="14488"/>
                  <a:pt x="11782" y="14461"/>
                </a:cubicBezTo>
                <a:cubicBezTo>
                  <a:pt x="11790" y="14461"/>
                  <a:pt x="11799" y="14461"/>
                  <a:pt x="11807" y="14461"/>
                </a:cubicBezTo>
              </a:path>
              <a:path w="4143" h="11660">
                <a:moveTo>
                  <a:pt x="11385" y="14684"/>
                </a:moveTo>
                <a:cubicBezTo>
                  <a:pt x="11385" y="14808"/>
                  <a:pt x="11385" y="14932"/>
                  <a:pt x="11385" y="15056"/>
                </a:cubicBezTo>
              </a:path>
              <a:path w="4143" h="11660">
                <a:moveTo>
                  <a:pt x="11633" y="14734"/>
                </a:moveTo>
                <a:cubicBezTo>
                  <a:pt x="11586" y="14830"/>
                  <a:pt x="11569" y="14859"/>
                  <a:pt x="11584" y="14932"/>
                </a:cubicBezTo>
                <a:cubicBezTo>
                  <a:pt x="11687" y="14951"/>
                  <a:pt x="11912" y="14921"/>
                  <a:pt x="11757" y="14759"/>
                </a:cubicBezTo>
                <a:cubicBezTo>
                  <a:pt x="11675" y="14717"/>
                  <a:pt x="11650" y="14717"/>
                  <a:pt x="11633" y="14660"/>
                </a:cubicBezTo>
              </a:path>
              <a:path w="4143" h="11660">
                <a:moveTo>
                  <a:pt x="11162" y="13816"/>
                </a:moveTo>
                <a:cubicBezTo>
                  <a:pt x="11137" y="13816"/>
                  <a:pt x="11129" y="13816"/>
                  <a:pt x="11137" y="13791"/>
                </a:cubicBezTo>
                <a:cubicBezTo>
                  <a:pt x="11230" y="13989"/>
                  <a:pt x="11346" y="14215"/>
                  <a:pt x="11460" y="14412"/>
                </a:cubicBezTo>
                <a:cubicBezTo>
                  <a:pt x="11507" y="14493"/>
                  <a:pt x="11684" y="14846"/>
                  <a:pt x="11782" y="14883"/>
                </a:cubicBezTo>
                <a:cubicBezTo>
                  <a:pt x="11810" y="14883"/>
                  <a:pt x="11821" y="14881"/>
                  <a:pt x="11832" y="14858"/>
                </a:cubicBezTo>
              </a:path>
              <a:path w="4143" h="11660">
                <a:moveTo>
                  <a:pt x="11485" y="15205"/>
                </a:moveTo>
                <a:cubicBezTo>
                  <a:pt x="11499" y="15161"/>
                  <a:pt x="11554" y="15180"/>
                  <a:pt x="11609" y="15180"/>
                </a:cubicBezTo>
                <a:cubicBezTo>
                  <a:pt x="11625" y="15180"/>
                  <a:pt x="11642" y="15180"/>
                  <a:pt x="11658" y="15180"/>
                </a:cubicBezTo>
                <a:cubicBezTo>
                  <a:pt x="11629" y="15296"/>
                  <a:pt x="11620" y="15299"/>
                  <a:pt x="11509" y="15354"/>
                </a:cubicBezTo>
                <a:cubicBezTo>
                  <a:pt x="11571" y="15344"/>
                  <a:pt x="11745" y="15314"/>
                  <a:pt x="11683" y="15453"/>
                </a:cubicBezTo>
                <a:cubicBezTo>
                  <a:pt x="11655" y="15516"/>
                  <a:pt x="11549" y="15565"/>
                  <a:pt x="11534" y="15478"/>
                </a:cubicBezTo>
              </a:path>
              <a:path w="4143" h="11660">
                <a:moveTo>
                  <a:pt x="11212" y="15726"/>
                </a:moveTo>
                <a:cubicBezTo>
                  <a:pt x="11435" y="15679"/>
                  <a:pt x="11653" y="15641"/>
                  <a:pt x="11881" y="15627"/>
                </a:cubicBezTo>
              </a:path>
              <a:path w="4143" h="11660">
                <a:moveTo>
                  <a:pt x="11633" y="15825"/>
                </a:moveTo>
                <a:cubicBezTo>
                  <a:pt x="11561" y="15905"/>
                  <a:pt x="11546" y="15903"/>
                  <a:pt x="11534" y="15999"/>
                </a:cubicBezTo>
                <a:cubicBezTo>
                  <a:pt x="11595" y="16040"/>
                  <a:pt x="11750" y="16099"/>
                  <a:pt x="11733" y="15949"/>
                </a:cubicBezTo>
                <a:cubicBezTo>
                  <a:pt x="11726" y="15885"/>
                  <a:pt x="11652" y="15879"/>
                  <a:pt x="11609" y="15850"/>
                </a:cubicBezTo>
              </a:path>
              <a:path w="4143" h="11660">
                <a:moveTo>
                  <a:pt x="10418" y="10021"/>
                </a:moveTo>
                <a:cubicBezTo>
                  <a:pt x="10418" y="10222"/>
                  <a:pt x="10417" y="10418"/>
                  <a:pt x="10393" y="10616"/>
                </a:cubicBezTo>
                <a:cubicBezTo>
                  <a:pt x="10385" y="10679"/>
                  <a:pt x="10393" y="10603"/>
                  <a:pt x="10393" y="10592"/>
                </a:cubicBezTo>
              </a:path>
              <a:path w="4143" h="11660">
                <a:moveTo>
                  <a:pt x="9971" y="15304"/>
                </a:moveTo>
                <a:cubicBezTo>
                  <a:pt x="10015" y="15496"/>
                  <a:pt x="10026" y="15722"/>
                  <a:pt x="10046" y="15925"/>
                </a:cubicBezTo>
                <a:cubicBezTo>
                  <a:pt x="10048" y="15948"/>
                  <a:pt x="10046" y="16100"/>
                  <a:pt x="10046" y="15925"/>
                </a:cubicBezTo>
              </a:path>
              <a:path w="4143" h="11660">
                <a:moveTo>
                  <a:pt x="10294" y="15404"/>
                </a:moveTo>
                <a:cubicBezTo>
                  <a:pt x="10274" y="15481"/>
                  <a:pt x="10282" y="15499"/>
                  <a:pt x="10244" y="15528"/>
                </a:cubicBezTo>
                <a:cubicBezTo>
                  <a:pt x="10310" y="15568"/>
                  <a:pt x="10436" y="15574"/>
                  <a:pt x="10517" y="15553"/>
                </a:cubicBezTo>
                <a:cubicBezTo>
                  <a:pt x="10540" y="15530"/>
                  <a:pt x="10544" y="15522"/>
                  <a:pt x="10567" y="15528"/>
                </a:cubicBezTo>
              </a:path>
              <a:path w="4143" h="11660">
                <a:moveTo>
                  <a:pt x="9475" y="16197"/>
                </a:moveTo>
                <a:cubicBezTo>
                  <a:pt x="9604" y="16351"/>
                  <a:pt x="9714" y="16384"/>
                  <a:pt x="9922" y="16396"/>
                </a:cubicBezTo>
                <a:cubicBezTo>
                  <a:pt x="10240" y="16414"/>
                  <a:pt x="10547" y="16422"/>
                  <a:pt x="10864" y="16396"/>
                </a:cubicBezTo>
                <a:cubicBezTo>
                  <a:pt x="11166" y="16371"/>
                  <a:pt x="11409" y="16351"/>
                  <a:pt x="11683" y="16222"/>
                </a:cubicBezTo>
                <a:cubicBezTo>
                  <a:pt x="11868" y="16135"/>
                  <a:pt x="12020" y="15993"/>
                  <a:pt x="12105" y="15801"/>
                </a:cubicBezTo>
                <a:cubicBezTo>
                  <a:pt x="12176" y="15642"/>
                  <a:pt x="12172" y="15439"/>
                  <a:pt x="12105" y="15280"/>
                </a:cubicBezTo>
                <a:cubicBezTo>
                  <a:pt x="12032" y="15108"/>
                  <a:pt x="11896" y="15027"/>
                  <a:pt x="11733" y="14957"/>
                </a:cubicBezTo>
                <a:cubicBezTo>
                  <a:pt x="11542" y="14875"/>
                  <a:pt x="11363" y="14880"/>
                  <a:pt x="11162" y="14858"/>
                </a:cubicBezTo>
                <a:cubicBezTo>
                  <a:pt x="10936" y="14833"/>
                  <a:pt x="10722" y="14790"/>
                  <a:pt x="10492" y="14808"/>
                </a:cubicBezTo>
                <a:cubicBezTo>
                  <a:pt x="10237" y="14828"/>
                  <a:pt x="9832" y="14831"/>
                  <a:pt x="9624" y="14982"/>
                </a:cubicBezTo>
                <a:cubicBezTo>
                  <a:pt x="9419" y="15132"/>
                  <a:pt x="9344" y="15361"/>
                  <a:pt x="9327" y="15602"/>
                </a:cubicBezTo>
                <a:cubicBezTo>
                  <a:pt x="9312" y="15820"/>
                  <a:pt x="9325" y="16084"/>
                  <a:pt x="9525" y="16222"/>
                </a:cubicBezTo>
                <a:cubicBezTo>
                  <a:pt x="9690" y="16336"/>
                  <a:pt x="9966" y="16421"/>
                  <a:pt x="10170" y="16396"/>
                </a:cubicBezTo>
                <a:cubicBezTo>
                  <a:pt x="10195" y="16388"/>
                  <a:pt x="10219" y="16379"/>
                  <a:pt x="10244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30720" y="2633760"/>
            <a:ext cx="223560" cy="1930320"/>
          </a:xfrm>
          <a:custGeom>
            <a:avLst/>
            <a:gdLst/>
            <a:ahLst/>
            <a:rect l="l" t="t" r="r" b="b"/>
            <a:pathLst>
              <a:path w="621" h="5359">
                <a:moveTo>
                  <a:pt x="9599" y="7367"/>
                </a:moveTo>
                <a:cubicBezTo>
                  <a:pt x="9740" y="7343"/>
                  <a:pt x="9782" y="7337"/>
                  <a:pt x="9872" y="7317"/>
                </a:cubicBezTo>
              </a:path>
              <a:path w="621" h="5359">
                <a:moveTo>
                  <a:pt x="9475" y="12601"/>
                </a:moveTo>
                <a:cubicBezTo>
                  <a:pt x="9621" y="12552"/>
                  <a:pt x="9668" y="12535"/>
                  <a:pt x="9773" y="12551"/>
                </a:cubicBezTo>
              </a:path>
              <a:path w="621" h="5359">
                <a:moveTo>
                  <a:pt x="9252" y="12675"/>
                </a:moveTo>
                <a:cubicBezTo>
                  <a:pt x="9338" y="12667"/>
                  <a:pt x="9419" y="12642"/>
                  <a:pt x="950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1360" y="4456080"/>
            <a:ext cx="17640" cy="152280"/>
          </a:xfrm>
          <a:custGeom>
            <a:avLst/>
            <a:gdLst/>
            <a:ahLst/>
            <a:rect l="l" t="t" r="r" b="b"/>
            <a:pathLst>
              <a:path w="51" h="422">
                <a:moveTo>
                  <a:pt x="9500" y="12601"/>
                </a:moveTo>
                <a:cubicBezTo>
                  <a:pt x="9500" y="12708"/>
                  <a:pt x="9500" y="12733"/>
                  <a:pt x="9500" y="12799"/>
                </a:cubicBezTo>
              </a:path>
              <a:path w="51" h="422">
                <a:moveTo>
                  <a:pt x="9525" y="12378"/>
                </a:moveTo>
                <a:cubicBezTo>
                  <a:pt x="9525" y="12489"/>
                  <a:pt x="9498" y="12593"/>
                  <a:pt x="947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79920" y="4464000"/>
            <a:ext cx="1602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0344" y="12402"/>
                </a:moveTo>
                <a:cubicBezTo>
                  <a:pt x="10328" y="12596"/>
                  <a:pt x="10226" y="12753"/>
                  <a:pt x="10220" y="12948"/>
                </a:cubicBezTo>
                <a:cubicBezTo>
                  <a:pt x="10228" y="12965"/>
                  <a:pt x="10236" y="12981"/>
                  <a:pt x="10244" y="12998"/>
                </a:cubicBezTo>
                <a:cubicBezTo>
                  <a:pt x="10456" y="12997"/>
                  <a:pt x="10562" y="12934"/>
                  <a:pt x="10666" y="12750"/>
                </a:cubicBezTo>
                <a:cubicBezTo>
                  <a:pt x="10491" y="12735"/>
                  <a:pt x="10540" y="12823"/>
                  <a:pt x="10418" y="12923"/>
                </a:cubicBezTo>
                <a:cubicBezTo>
                  <a:pt x="10418" y="12915"/>
                  <a:pt x="10418" y="12906"/>
                  <a:pt x="10418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3000" y="4214880"/>
            <a:ext cx="1384200" cy="608040"/>
          </a:xfrm>
          <a:custGeom>
            <a:avLst/>
            <a:gdLst/>
            <a:ahLst/>
            <a:rect l="l" t="t" r="r" b="b"/>
            <a:pathLst>
              <a:path w="3845" h="1688">
                <a:moveTo>
                  <a:pt x="16173" y="13395"/>
                </a:moveTo>
                <a:cubicBezTo>
                  <a:pt x="16452" y="13343"/>
                  <a:pt x="16761" y="13313"/>
                  <a:pt x="17016" y="13196"/>
                </a:cubicBezTo>
              </a:path>
              <a:path w="3845" h="1688">
                <a:moveTo>
                  <a:pt x="17711" y="11981"/>
                </a:moveTo>
                <a:cubicBezTo>
                  <a:pt x="17859" y="11961"/>
                  <a:pt x="17953" y="11950"/>
                  <a:pt x="18083" y="12005"/>
                </a:cubicBezTo>
              </a:path>
              <a:path w="3845" h="1688">
                <a:moveTo>
                  <a:pt x="17711" y="12229"/>
                </a:moveTo>
                <a:cubicBezTo>
                  <a:pt x="17867" y="12198"/>
                  <a:pt x="17941" y="12186"/>
                  <a:pt x="18058" y="12179"/>
                </a:cubicBezTo>
              </a:path>
              <a:path w="3845" h="1688">
                <a:moveTo>
                  <a:pt x="18058" y="12179"/>
                </a:moveTo>
                <a:lnTo>
                  <a:pt x="18058" y="12179"/>
                </a:lnTo>
              </a:path>
              <a:path w="3845" h="1688">
                <a:moveTo>
                  <a:pt x="19447" y="11757"/>
                </a:moveTo>
                <a:cubicBezTo>
                  <a:pt x="19638" y="11734"/>
                  <a:pt x="19825" y="11715"/>
                  <a:pt x="20017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59200" y="3973680"/>
            <a:ext cx="2465640" cy="1563480"/>
          </a:xfrm>
          <a:custGeom>
            <a:avLst/>
            <a:gdLst/>
            <a:ahLst/>
            <a:rect l="l" t="t" r="r" b="b"/>
            <a:pathLst>
              <a:path w="6847" h="4342">
                <a:moveTo>
                  <a:pt x="16272" y="12105"/>
                </a:moveTo>
                <a:cubicBezTo>
                  <a:pt x="16272" y="12298"/>
                  <a:pt x="16196" y="12862"/>
                  <a:pt x="16247" y="12675"/>
                </a:cubicBezTo>
                <a:cubicBezTo>
                  <a:pt x="16264" y="12617"/>
                  <a:pt x="16280" y="12560"/>
                  <a:pt x="16297" y="12502"/>
                </a:cubicBezTo>
              </a:path>
              <a:path w="6847" h="4342">
                <a:moveTo>
                  <a:pt x="16495" y="12080"/>
                </a:moveTo>
                <a:cubicBezTo>
                  <a:pt x="16576" y="12080"/>
                  <a:pt x="16703" y="12048"/>
                  <a:pt x="16768" y="12105"/>
                </a:cubicBezTo>
                <a:cubicBezTo>
                  <a:pt x="16792" y="12126"/>
                  <a:pt x="16576" y="12251"/>
                  <a:pt x="16570" y="12254"/>
                </a:cubicBezTo>
                <a:cubicBezTo>
                  <a:pt x="16562" y="12262"/>
                  <a:pt x="16553" y="12270"/>
                  <a:pt x="16545" y="12278"/>
                </a:cubicBezTo>
                <a:cubicBezTo>
                  <a:pt x="16651" y="12287"/>
                  <a:pt x="16909" y="12293"/>
                  <a:pt x="16842" y="12477"/>
                </a:cubicBezTo>
                <a:cubicBezTo>
                  <a:pt x="16779" y="12650"/>
                  <a:pt x="16602" y="12572"/>
                  <a:pt x="16545" y="12477"/>
                </a:cubicBezTo>
              </a:path>
              <a:path w="6847" h="4342">
                <a:moveTo>
                  <a:pt x="16024" y="12923"/>
                </a:moveTo>
                <a:cubicBezTo>
                  <a:pt x="16044" y="12685"/>
                  <a:pt x="16049" y="12471"/>
                  <a:pt x="16024" y="12229"/>
                </a:cubicBezTo>
                <a:cubicBezTo>
                  <a:pt x="16014" y="12136"/>
                  <a:pt x="16004" y="12068"/>
                  <a:pt x="15999" y="11981"/>
                </a:cubicBezTo>
                <a:cubicBezTo>
                  <a:pt x="16244" y="11905"/>
                  <a:pt x="16431" y="11859"/>
                  <a:pt x="16694" y="11832"/>
                </a:cubicBezTo>
                <a:cubicBezTo>
                  <a:pt x="16919" y="11809"/>
                  <a:pt x="17137" y="11807"/>
                  <a:pt x="17363" y="11807"/>
                </a:cubicBezTo>
              </a:path>
              <a:path w="6847" h="4342">
                <a:moveTo>
                  <a:pt x="15255" y="12204"/>
                </a:moveTo>
                <a:cubicBezTo>
                  <a:pt x="15221" y="12372"/>
                  <a:pt x="15205" y="12529"/>
                  <a:pt x="15205" y="12700"/>
                </a:cubicBezTo>
              </a:path>
              <a:path w="6847" h="4342">
                <a:moveTo>
                  <a:pt x="15553" y="12154"/>
                </a:moveTo>
                <a:cubicBezTo>
                  <a:pt x="15455" y="12357"/>
                  <a:pt x="15411" y="12415"/>
                  <a:pt x="15453" y="12626"/>
                </a:cubicBezTo>
                <a:cubicBezTo>
                  <a:pt x="15611" y="12575"/>
                  <a:pt x="15980" y="12475"/>
                  <a:pt x="15726" y="12278"/>
                </a:cubicBezTo>
                <a:cubicBezTo>
                  <a:pt x="15596" y="12214"/>
                  <a:pt x="15552" y="12210"/>
                  <a:pt x="15553" y="12105"/>
                </a:cubicBezTo>
              </a:path>
              <a:path w="6847" h="4342">
                <a:moveTo>
                  <a:pt x="16594" y="11311"/>
                </a:moveTo>
                <a:cubicBezTo>
                  <a:pt x="16576" y="11444"/>
                  <a:pt x="16570" y="11572"/>
                  <a:pt x="16570" y="11708"/>
                </a:cubicBezTo>
              </a:path>
              <a:path w="6847" h="4342">
                <a:moveTo>
                  <a:pt x="16396" y="12849"/>
                </a:moveTo>
                <a:cubicBezTo>
                  <a:pt x="16414" y="12974"/>
                  <a:pt x="16421" y="13093"/>
                  <a:pt x="16421" y="13221"/>
                </a:cubicBezTo>
              </a:path>
              <a:path w="6847" h="4342">
                <a:moveTo>
                  <a:pt x="16619" y="12874"/>
                </a:moveTo>
                <a:cubicBezTo>
                  <a:pt x="16572" y="13015"/>
                  <a:pt x="16553" y="13057"/>
                  <a:pt x="16619" y="13146"/>
                </a:cubicBezTo>
                <a:cubicBezTo>
                  <a:pt x="16681" y="13123"/>
                  <a:pt x="17078" y="12832"/>
                  <a:pt x="16793" y="12799"/>
                </a:cubicBezTo>
                <a:cubicBezTo>
                  <a:pt x="16735" y="12816"/>
                  <a:pt x="16677" y="12832"/>
                  <a:pt x="16619" y="12849"/>
                </a:cubicBezTo>
              </a:path>
              <a:path w="6847" h="4342">
                <a:moveTo>
                  <a:pt x="16669" y="13568"/>
                </a:moveTo>
                <a:cubicBezTo>
                  <a:pt x="16771" y="13547"/>
                  <a:pt x="16841" y="13543"/>
                  <a:pt x="16942" y="13568"/>
                </a:cubicBezTo>
                <a:cubicBezTo>
                  <a:pt x="16721" y="13663"/>
                  <a:pt x="16816" y="13625"/>
                  <a:pt x="16917" y="13692"/>
                </a:cubicBezTo>
                <a:cubicBezTo>
                  <a:pt x="16942" y="13717"/>
                  <a:pt x="16966" y="13742"/>
                  <a:pt x="16991" y="13767"/>
                </a:cubicBezTo>
                <a:cubicBezTo>
                  <a:pt x="16861" y="13929"/>
                  <a:pt x="16775" y="13881"/>
                  <a:pt x="16694" y="13717"/>
                </a:cubicBezTo>
              </a:path>
              <a:path w="6847" h="4342">
                <a:moveTo>
                  <a:pt x="18728" y="11559"/>
                </a:moveTo>
                <a:cubicBezTo>
                  <a:pt x="18728" y="11711"/>
                  <a:pt x="18695" y="12513"/>
                  <a:pt x="18752" y="12378"/>
                </a:cubicBezTo>
              </a:path>
              <a:path w="6847" h="4342">
                <a:moveTo>
                  <a:pt x="19521" y="11088"/>
                </a:moveTo>
                <a:cubicBezTo>
                  <a:pt x="19548" y="11081"/>
                  <a:pt x="19818" y="10968"/>
                  <a:pt x="19769" y="11112"/>
                </a:cubicBezTo>
                <a:cubicBezTo>
                  <a:pt x="19702" y="11225"/>
                  <a:pt x="19687" y="11257"/>
                  <a:pt x="19621" y="11311"/>
                </a:cubicBezTo>
                <a:cubicBezTo>
                  <a:pt x="19613" y="11319"/>
                  <a:pt x="19604" y="11328"/>
                  <a:pt x="19596" y="11336"/>
                </a:cubicBezTo>
                <a:cubicBezTo>
                  <a:pt x="19684" y="11336"/>
                  <a:pt x="19785" y="11325"/>
                  <a:pt x="19844" y="11410"/>
                </a:cubicBezTo>
                <a:cubicBezTo>
                  <a:pt x="19891" y="11477"/>
                  <a:pt x="19616" y="11463"/>
                  <a:pt x="19596" y="11460"/>
                </a:cubicBezTo>
              </a:path>
              <a:path w="6847" h="4342">
                <a:moveTo>
                  <a:pt x="19521" y="12030"/>
                </a:moveTo>
                <a:cubicBezTo>
                  <a:pt x="19471" y="12174"/>
                  <a:pt x="19407" y="12370"/>
                  <a:pt x="19422" y="12502"/>
                </a:cubicBezTo>
              </a:path>
              <a:path w="6847" h="4342">
                <a:moveTo>
                  <a:pt x="19844" y="12105"/>
                </a:moveTo>
                <a:cubicBezTo>
                  <a:pt x="19749" y="12200"/>
                  <a:pt x="19716" y="12228"/>
                  <a:pt x="19745" y="12328"/>
                </a:cubicBezTo>
                <a:cubicBezTo>
                  <a:pt x="19866" y="12355"/>
                  <a:pt x="20264" y="12273"/>
                  <a:pt x="20017" y="12055"/>
                </a:cubicBezTo>
                <a:cubicBezTo>
                  <a:pt x="19951" y="12030"/>
                  <a:pt x="19885" y="12006"/>
                  <a:pt x="19819" y="11981"/>
                </a:cubicBezTo>
              </a:path>
              <a:path w="6847" h="4342">
                <a:moveTo>
                  <a:pt x="19447" y="12849"/>
                </a:moveTo>
                <a:cubicBezTo>
                  <a:pt x="19386" y="12954"/>
                  <a:pt x="19348" y="13027"/>
                  <a:pt x="19273" y="13122"/>
                </a:cubicBezTo>
                <a:cubicBezTo>
                  <a:pt x="18886" y="13615"/>
                  <a:pt x="18261" y="13843"/>
                  <a:pt x="17686" y="14039"/>
                </a:cubicBezTo>
                <a:cubicBezTo>
                  <a:pt x="17294" y="14173"/>
                  <a:pt x="16890" y="14242"/>
                  <a:pt x="16495" y="14362"/>
                </a:cubicBezTo>
                <a:cubicBezTo>
                  <a:pt x="16246" y="14438"/>
                  <a:pt x="15998" y="14527"/>
                  <a:pt x="15751" y="14610"/>
                </a:cubicBezTo>
                <a:cubicBezTo>
                  <a:pt x="15497" y="14696"/>
                  <a:pt x="15239" y="14715"/>
                  <a:pt x="14982" y="14784"/>
                </a:cubicBezTo>
                <a:cubicBezTo>
                  <a:pt x="14731" y="14852"/>
                  <a:pt x="14490" y="14975"/>
                  <a:pt x="14238" y="15032"/>
                </a:cubicBezTo>
                <a:cubicBezTo>
                  <a:pt x="13959" y="15095"/>
                  <a:pt x="13700" y="15099"/>
                  <a:pt x="13444" y="15205"/>
                </a:cubicBezTo>
                <a:cubicBezTo>
                  <a:pt x="13388" y="15228"/>
                  <a:pt x="13345" y="15258"/>
                  <a:pt x="13295" y="15280"/>
                </a:cubicBezTo>
                <a:cubicBezTo>
                  <a:pt x="13273" y="15290"/>
                  <a:pt x="13242" y="15294"/>
                  <a:pt x="13221" y="15304"/>
                </a:cubicBezTo>
                <a:cubicBezTo>
                  <a:pt x="13276" y="15208"/>
                  <a:pt x="13335" y="15105"/>
                  <a:pt x="13395" y="15007"/>
                </a:cubicBezTo>
                <a:cubicBezTo>
                  <a:pt x="13395" y="14982"/>
                  <a:pt x="13395" y="14974"/>
                  <a:pt x="13395" y="15007"/>
                </a:cubicBezTo>
                <a:cubicBezTo>
                  <a:pt x="13337" y="15095"/>
                  <a:pt x="13115" y="15272"/>
                  <a:pt x="13295" y="15354"/>
                </a:cubicBezTo>
                <a:cubicBezTo>
                  <a:pt x="13398" y="15401"/>
                  <a:pt x="13511" y="15369"/>
                  <a:pt x="13618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C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21:39Z</dcterms:created>
  <dc:creator>Brian McGrath</dc:creator>
  <dc:description/>
  <dc:language>en-US</dc:language>
  <cp:lastModifiedBy>deanne elizabeth mcgrath</cp:lastModifiedBy>
  <dcterms:modified xsi:type="dcterms:W3CDTF">2011-11-01T16:27:12Z</dcterms:modified>
  <cp:revision>3</cp:revision>
  <dc:subject/>
  <dc:title>Warm-up</dc:title>
</cp:coreProperties>
</file>